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8932-E412-4EA4-A9A2-5408A0BFE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807A-28AC-4EB0-88F8-034D6222B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8D84-2012-40EE-81B4-E4B755568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684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168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200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684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168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9F7D-20B7-4870-B28A-5AAF4E9EE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C507-CA30-473A-A338-0BB3BF591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70DA-5092-4885-B234-B09F5D18D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9DDD-271C-468B-AB50-06981B11D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2A4F-2278-4FDF-9132-43B0DFBE1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94760" cy="25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8692-CA99-4F21-8CF2-74D98C6F6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EFEA-373D-44D8-8288-82CFF4522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6427-6DDD-4188-894B-9BC8F5E3A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5BB2-A033-4535-A247-B2D61D449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3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FE8-A9FF-489D-A966-C6ADD8E0DEB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7 February 2006 – V1.0 – Page </a:t>
            </a:r>
            <a:fld id="{A1A5DBA7-F705-4D62-B2DC-B9EE3A16CB7A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Timesheet Approval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 Febr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429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timesheet approval managers about the weekly plausibility check and approval of resource’s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08720" y="3654360"/>
            <a:ext cx="2879640" cy="19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Login to Citrix and Primavera Project Manage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692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to Citrix by use of your Citrix Username and Password (domain is “aaldk1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773280"/>
            <a:ext cx="2879640" cy="25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45222"/>
              <a:gd name="adj2" fmla="val -5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33087"/>
              <a:gd name="adj2" fmla="val 79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6640" y="2933640"/>
            <a:ext cx="36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om the Citrix desktop select ”Project Manageme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Primavera Login Name and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Database “PMDB” from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”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142648"/>
              <a:gd name="adj2" fmla="val 1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-144486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798720"/>
            <a:ext cx="432000" cy="289080"/>
          </a:xfrm>
          <a:prstGeom prst="wedgeEllipseCallout">
            <a:avLst>
              <a:gd name="adj1" fmla="val 116175"/>
              <a:gd name="adj2" fmla="val 26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0587"/>
              <a:gd name="adj2" fmla="val -10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7203"/>
              <a:gd name="adj2" fmla="val -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11640" y="3519360"/>
            <a:ext cx="66492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637000" y="3743280"/>
            <a:ext cx="431640" cy="289080"/>
          </a:xfrm>
          <a:prstGeom prst="wedgeEllipseCallout">
            <a:avLst>
              <a:gd name="adj1" fmla="val 108453"/>
              <a:gd name="adj2" fmla="val -4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Opening Timesheet Approval Tool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6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Open Global Dat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508720" y="692280"/>
          <a:ext cx="2879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692280"/>
                    <a:ext cx="2879640" cy="14652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2060640"/>
            <a:ext cx="432000" cy="288720"/>
          </a:xfrm>
          <a:prstGeom prst="wedgeEllipseCallout">
            <a:avLst>
              <a:gd name="adj1" fmla="val -156250"/>
              <a:gd name="adj2" fmla="val -78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2879640" cy="221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7812000" y="3139920"/>
            <a:ext cx="432000" cy="289080"/>
          </a:xfrm>
          <a:prstGeom prst="wedgeEllipseCallout">
            <a:avLst>
              <a:gd name="adj1" fmla="val -265810"/>
              <a:gd name="adj2" fmla="val -174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24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Tools” &gt; “Time Approv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16640" y="2843280"/>
            <a:ext cx="2879640" cy="1647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electing Timesheets to Approv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08720" y="682560"/>
            <a:ext cx="2879640" cy="9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51640" y="1403280"/>
            <a:ext cx="1800000" cy="120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8244000" y="1116000"/>
            <a:ext cx="431640" cy="289080"/>
          </a:xfrm>
          <a:prstGeom prst="wedgeEllipseCallout">
            <a:avLst>
              <a:gd name="adj1" fmla="val -76472"/>
              <a:gd name="adj2" fmla="val -807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148898"/>
              <a:gd name="adj2" fmla="val -125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292648"/>
              <a:gd name="adj2" fmla="val 228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235662"/>
              <a:gd name="adj2" fmla="val -19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692280"/>
            <a:ext cx="3600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„From Start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 „To Finish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OK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eriod for which you want to check the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status of timesheets to view - Click bar ”Display ...” and select ”Filter B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imesheet status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27720" y="13143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36920" y="944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967360" y="2754360"/>
            <a:ext cx="432000" cy="288720"/>
          </a:xfrm>
          <a:prstGeom prst="wedgeEllipseCallout">
            <a:avLst>
              <a:gd name="adj1" fmla="val -88972"/>
              <a:gd name="adj2" fmla="val 53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536920" y="16635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-8453"/>
              <a:gd name="adj2" fmla="val 1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527720" y="2033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54046"/>
              <a:gd name="adj2" fmla="val -282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16546"/>
              <a:gd name="adj2" fmla="val -20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2000" y="3743280"/>
            <a:ext cx="432000" cy="289080"/>
          </a:xfrm>
          <a:prstGeom prst="wedgeEllipseCallout">
            <a:avLst>
              <a:gd name="adj1" fmla="val -66546"/>
              <a:gd name="adj2" fmla="val -11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4869000"/>
            <a:ext cx="373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Timesheet St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 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open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submitt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Timesheets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View all independent of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Checking the Timesheet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72000" y="728640"/>
            <a:ext cx="2880000" cy="186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692360" y="684360"/>
            <a:ext cx="36003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whether 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resources assigned to you have submitted the timesheet (Status = Submitted). If not remind those in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submitted timesheets for plausibility, e.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typ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missing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local rules for working hours vi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 timesheet in case of errors by clicking ”Reject”, acknowledge subsequent prompt, and inform the resource in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 timesheet if no obvious errors found by clicking ”Approve” and acknowledge subsequent pro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86640" y="863640"/>
            <a:ext cx="431640" cy="288720"/>
          </a:xfrm>
          <a:prstGeom prst="wedgeEllipseCallout">
            <a:avLst>
              <a:gd name="adj1" fmla="val 126472"/>
              <a:gd name="adj2" fmla="val 9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07360" y="1628640"/>
            <a:ext cx="431640" cy="289080"/>
          </a:xfrm>
          <a:prstGeom prst="wedgeEllipseCallout">
            <a:avLst>
              <a:gd name="adj1" fmla="val -98898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7360" y="1177920"/>
            <a:ext cx="432000" cy="289080"/>
          </a:xfrm>
          <a:prstGeom prst="wedgeEllipseCallout">
            <a:avLst>
              <a:gd name="adj1" fmla="val -69486"/>
              <a:gd name="adj2" fmla="val -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7360" y="728640"/>
            <a:ext cx="432000" cy="289080"/>
          </a:xfrm>
          <a:prstGeom prst="wedgeEllipseCallout">
            <a:avLst>
              <a:gd name="adj1" fmla="val -71324"/>
              <a:gd name="adj2" fmla="val 5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608280"/>
            <a:ext cx="70657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ere will be no timesheets for a period where the resource was absent because of e.g. holiday. Exception: Timesheets is used for collection of non-project related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imesheets not opened do not appear in the list of timesheets as the status ”Not Started” is no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14920"/>
            <a:ext cx="360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w to See Resources to Check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„Resource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rt column „Timesheet Approval Manager“ by clicking the title bar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e resources you are responsible for as the timesheet approval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16640" y="4759200"/>
            <a:ext cx="2879640" cy="13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7047000" y="5904000"/>
            <a:ext cx="431640" cy="288720"/>
          </a:xfrm>
          <a:prstGeom prst="wedgeEllipseCallout">
            <a:avLst>
              <a:gd name="adj1" fmla="val -63972"/>
              <a:gd name="adj2" fmla="val -108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2720" y="4714920"/>
            <a:ext cx="432000" cy="288720"/>
          </a:xfrm>
          <a:prstGeom prst="wedgeEllipseCallout">
            <a:avLst>
              <a:gd name="adj1" fmla="val 97425"/>
              <a:gd name="adj2" fmla="val 62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7720" y="5524560"/>
            <a:ext cx="431640" cy="288720"/>
          </a:xfrm>
          <a:prstGeom prst="wedgeEllipseCallout">
            <a:avLst>
              <a:gd name="adj1" fmla="val 12865"/>
              <a:gd name="adj2" fmla="val -15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36640" y="1333440"/>
            <a:ext cx="7245360" cy="412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Weekly Update Cycl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4:52:36Z</dcterms:created>
  <dc:creator>Reinholdt Hansen</dc:creator>
  <dc:description>- V0.1 - reh - 20 January 2006 - among others based on "Quick Guide From template to Project" by Sebastian Stier
- V0.2 - reh - 17 February 2006 - updated according to Planning Office comments
Renamed to Version 1.0 - 07-03-2006 - OSM</dc:description>
  <dc:language>en-US</dc:language>
  <cp:lastModifiedBy>Ole Sletting Madsen</cp:lastModifiedBy>
  <dcterms:modified xsi:type="dcterms:W3CDTF">2006-03-07T14:30:09Z</dcterms:modified>
  <cp:revision>99</cp:revision>
  <dc:subject/>
  <dc:title>Guidelines for project planning from template to close down</dc:title>
</cp:coreProperties>
</file>