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8DDE-F523-4C23-91C5-D8D1542D5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3B32-84E6-48F9-80F7-207974CE5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FE84-B2A0-47A2-AA08-74427F515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96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96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175F-23C1-41AB-9DC8-D692C43C6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52E6-8EE7-460D-B8E0-D6C5B052F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5612-0012-45DC-B51E-ABFF0FB71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E62A-488C-4D25-AAB8-5DF88FD77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0C21-9D43-4C95-B72A-0EA0295F3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15560"/>
            <a:ext cx="829476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C58E-C5D1-4BD3-93D3-BA1AC3553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72B5-4B5D-4A59-B99B-96061E3EE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1409-E25A-4EB4-AB02-966E80D1A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EAF2-4233-4DE8-8932-51D2452CC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D50-033C-4085-8848-FD296DCDD62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06 January 2006 – Version 1.0 – Page </a:t>
            </a:r>
            <a:fld id="{55AD17F1-18A5-4661-88A5-A3CD8AECB19A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imavera.aaldk1.aal.siemens.dk/GroupserverP3e/en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nion"/>
              </a:rPr>
              <a:t>How to use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6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entering hours spent (Actuals) and progress of work packages in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tart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and Login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692280"/>
            <a:ext cx="36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Microsoft Internet-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the URL below to access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„Run Timesheet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Remember to turn-off Popup block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38560" cy="212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321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628640"/>
            <a:ext cx="432000" cy="289080"/>
          </a:xfrm>
          <a:prstGeom prst="wedgeEllipseCallout">
            <a:avLst>
              <a:gd name="adj1" fmla="val 58087"/>
              <a:gd name="adj2" fmla="val -23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70028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2867040"/>
            <a:ext cx="727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imesheets URL: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GB" sz="12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/>
              </a:rPr>
              <a:t>http://primavera.aaldk1.aal.siemens.dk/GroupserverP3e/en/index.html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2781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4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login name (e.g. „klf987“) and your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3344760"/>
            <a:ext cx="3238560" cy="21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91912"/>
              <a:gd name="adj2" fmla="val -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46324"/>
              <a:gd name="adj2" fmla="val 113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516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3789360"/>
            <a:ext cx="37447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f you need a Login Name and Password for Timesheets or you do not remember your password please contact Primaver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Name and Password for Primavera Timesheets and Project Management are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9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2928960"/>
            <a:ext cx="323856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238560" cy="220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pen Timeshee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9228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the timesheet:</a:t>
            </a:r>
            <a:br>
              <a:rPr sz="1200"/>
            </a:b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: </a:t>
            </a:r>
            <a:r>
              <a:rPr b="0" i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ile &gt; Open Time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268280"/>
            <a:ext cx="431640" cy="289080"/>
          </a:xfrm>
          <a:prstGeom prst="wedgeEllipseCallout">
            <a:avLst>
              <a:gd name="adj1" fmla="val -144115"/>
              <a:gd name="adj2" fmla="val -16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07656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09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989440"/>
            <a:ext cx="3673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rk timesheet of last week and click „O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hen you open a timesheet the first time you may choose whether all your work packages are added automatically to the timesheet (recommende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added manual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copied from the previous time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You may select not to include your completed assignments (recommen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400536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941720"/>
            <a:ext cx="431640" cy="289080"/>
          </a:xfrm>
          <a:prstGeom prst="wedgeEllipseCallout">
            <a:avLst>
              <a:gd name="adj1" fmla="val -148898"/>
              <a:gd name="adj2" fmla="val -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5229360"/>
            <a:ext cx="431640" cy="288720"/>
          </a:xfrm>
          <a:prstGeom prst="wedgeEllipseCallout">
            <a:avLst>
              <a:gd name="adj1" fmla="val -254412"/>
              <a:gd name="adj2" fmla="val -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5516640"/>
            <a:ext cx="431640" cy="288720"/>
          </a:xfrm>
          <a:prstGeom prst="wedgeEllipseCallout">
            <a:avLst>
              <a:gd name="adj1" fmla="val -222796"/>
              <a:gd name="adj2" fmla="val -36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157720"/>
            <a:ext cx="432000" cy="289080"/>
          </a:xfrm>
          <a:prstGeom prst="wedgeEllipseCallout">
            <a:avLst>
              <a:gd name="adj1" fmla="val 87865"/>
              <a:gd name="adj2" fmla="val -3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92720" y="335592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6524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Hours Spent and Remaining (by all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54936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be entered by all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on your work pack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3284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1628640"/>
            <a:ext cx="432000" cy="289080"/>
          </a:xfrm>
          <a:prstGeom prst="wedgeEllipseCallout">
            <a:avLst>
              <a:gd name="adj1" fmla="val 40810"/>
              <a:gd name="adj2" fmla="val -13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34354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68520"/>
            <a:ext cx="34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enter your remaining hours select the tab “Resour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remaining hours for the work package selected in the cell “New 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5300640"/>
            <a:ext cx="432000" cy="289080"/>
          </a:xfrm>
          <a:prstGeom prst="wedgeEllipseCallout">
            <a:avLst>
              <a:gd name="adj1" fmla="val 108453"/>
              <a:gd name="adj2" fmla="val -91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5083200"/>
            <a:ext cx="432000" cy="289080"/>
          </a:xfrm>
          <a:prstGeom prst="wedgeEllipseCallout">
            <a:avLst>
              <a:gd name="adj1" fmla="val 31615"/>
              <a:gd name="adj2" fmla="val -175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981000"/>
            <a:ext cx="345744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open timesheets for periods consisting of e.g. holidays only (contact your timesheet approval manager in case of a timesheet opened by mis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Hours are entered as hours and hundreds of hours separated by a d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submit timesheet before entries done for all days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Blue rows indicates the period between planned start and finish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34574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new remaining units only when major change compared to ”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5589720"/>
            <a:ext cx="7273800" cy="67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s missing in your timesheet are added manually by use of: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dit &gt; Add Activity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. Select the work package missing and click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965240" y="410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Progress Feedback (by primary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65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-55884"/>
              <a:gd name="adj2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43692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0" y="2133720"/>
            <a:ext cx="432000" cy="288720"/>
          </a:xfrm>
          <a:prstGeom prst="wedgeEllipseCallout">
            <a:avLst>
              <a:gd name="adj1" fmla="val -181986"/>
              <a:gd name="adj2" fmla="val 14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-61398"/>
              <a:gd name="adj2" fmla="val -115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692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o be entered by primary resources on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Select tab „General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started and select date of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►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Enter „Expected Finish Date“</a:t>
            </a: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for every work package in progress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finished when completed and select date of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325600"/>
            <a:ext cx="352908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cells „Started“, „Finished“, and „Expected Finish Date“ are available for the primary resourc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primary resource (tab „Resources“) is marked with a specific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enter „Expected Finish Date“ on a Level of Effort work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When a work package is marked finished assigned resources cannot enter actuals any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1484280"/>
            <a:ext cx="431640" cy="289080"/>
          </a:xfrm>
          <a:prstGeom prst="wedgeEllipseCallout">
            <a:avLst>
              <a:gd name="adj1" fmla="val -50736"/>
              <a:gd name="adj2" fmla="val 1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90810"/>
              <a:gd name="adj2" fmla="val 17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67648"/>
              <a:gd name="adj2" fmla="val -97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1440" y="3357720"/>
            <a:ext cx="142920" cy="16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rt and Logi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 Timesheet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3:57:11Z</dcterms:created>
  <dc:creator>Reinholdt Hansen</dc:creator>
  <dc:description>- V0.1 - 6.1.06 - reh - initial BenQ version based on "Quick Guide_Enter_Project_Time_041203.doc" by Oliver Mucha
Version number changed to 1.0 - 25 January 2006 - OSM</dc:description>
  <dc:language>en-US</dc:language>
  <cp:lastModifiedBy>Ole Sletting Madsen</cp:lastModifiedBy>
  <dcterms:modified xsi:type="dcterms:W3CDTF">2006-01-25T10:17:45Z</dcterms:modified>
  <cp:revision>69</cp:revision>
  <dc:subject/>
  <dc:title>How to use Timesheets</dc:title>
</cp:coreProperties>
</file>