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65E7-0CBB-49A7-A2B5-80153AB8D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C4BE-9BA6-4224-B702-4A0346C75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00C6-AF70-4287-BB6E-DDD6F5CB4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C2A0-2297-4E3A-BEBF-CCD5CC19D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B384-547F-4B51-8D63-105A1B2E7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0A84-E783-4139-B2D3-960D41033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A40B-1F0A-4939-A346-2D757850A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0804-FAC9-4904-82FB-DAA6A39ED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8741-6EAD-4DE7-800F-D0A4974E2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4313-49F5-4B20-95CB-755E4D94A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BBFB-F832-46F2-9106-4C07353E5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5854-BE2C-4B90-8801-91BE6BF73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3104-FE70-49F8-B503-4493F35D6BC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Version 5.0 – 15 December 2005 – Page </a:t>
            </a:r>
            <a:fld id="{05B90BEB-1810-4FD3-9C91-41135FF7C0B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intain Resource tree in Primavera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an easy way - for the Line Managers - to maintain the resource data in Primav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Basi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s guide will give a definition of the required information and guidance how to administrate resource data in Primavera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e Line Manager must secure that the  resource data - necessary to maintain the resource tree in Primavera - is available and up to dat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ll maintenance requests must be sent to Planning Office (</a:t>
            </a:r>
            <a:r>
              <a:rPr b="0" lang="en-US" sz="24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_support@benq.com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)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nning Office will update the resources according to the received information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990800"/>
            <a:ext cx="2833920" cy="270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easiest way of reporting any change(s) to the Resource-tree, is by copying the concerned part of the Resource-tree to MS Excel - following these step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Start Primavera Project Manager and go to Resource area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565360"/>
            <a:ext cx="1295640" cy="457200"/>
          </a:xfrm>
          <a:prstGeom prst="wedgeRoundRectCallout">
            <a:avLst>
              <a:gd name="adj1" fmla="val -127449"/>
              <a:gd name="adj2" fmla="val 65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1640" y="4365720"/>
            <a:ext cx="8280720" cy="186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57400" y="3405240"/>
            <a:ext cx="685800" cy="1066680"/>
          </a:xfrm>
          <a:prstGeom prst="downArrow">
            <a:avLst>
              <a:gd name="adj1" fmla="val 50000"/>
              <a:gd name="adj2" fmla="val 3888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240360" cy="3178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lumns in the window can be modified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751040"/>
            <a:ext cx="2060640" cy="1143000"/>
          </a:xfrm>
          <a:prstGeom prst="wedgeRoundRectCallout">
            <a:avLst>
              <a:gd name="adj1" fmla="val -122421"/>
              <a:gd name="adj2" fmla="val 11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lick on the mouse and select columns and cust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9760" y="4268880"/>
            <a:ext cx="457200" cy="306360"/>
          </a:xfrm>
          <a:prstGeom prst="rightArrow">
            <a:avLst>
              <a:gd name="adj1" fmla="val 50000"/>
              <a:gd name="adj2" fmla="val 3730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210280" cy="23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4581360"/>
            <a:ext cx="2665440" cy="1683000"/>
          </a:xfrm>
          <a:prstGeom prst="wedgeRoundRectCallout">
            <a:avLst>
              <a:gd name="adj1" fmla="val 140351"/>
              <a:gd name="adj2" fmla="val -57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is view it is possible to select the needed columns. Please include all the columns shown in this window and order them as shown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1413000"/>
            <a:ext cx="2514600" cy="1373040"/>
          </a:xfrm>
          <a:prstGeom prst="wedgeRoundRectCallout">
            <a:avLst>
              <a:gd name="adj1" fmla="val 22412"/>
              <a:gd name="adj2" fmla="val 105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selecting the columns you press OK and the columns will be shown in the resourc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ntent in the resource window can be copied and pasted to Excel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6413400" cy="35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10280" y="1371600"/>
            <a:ext cx="1981440" cy="1371600"/>
          </a:xfrm>
          <a:prstGeom prst="wedgeRoundRectCallout">
            <a:avLst>
              <a:gd name="adj1" fmla="val -84134"/>
              <a:gd name="adj2" fmla="val 120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 the concerned resources and then select cop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726408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3920" y="4040280"/>
            <a:ext cx="1576080" cy="914400"/>
          </a:xfrm>
          <a:prstGeom prst="wedgeRoundRectCallout">
            <a:avLst>
              <a:gd name="adj1" fmla="val -228249"/>
              <a:gd name="adj2" fmla="val 106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te into an MS Excel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Excel shee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In MS Excel you can make the corrections and/or add new resources to the tree. Please mark all corrections with a yellow colour.</a:t>
            </a: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4437000"/>
            <a:ext cx="3657600" cy="1676520"/>
          </a:xfrm>
          <a:prstGeom prst="wedgeRoundRectCallout">
            <a:avLst>
              <a:gd name="adj1" fmla="val -12629"/>
              <a:gd name="adj2" fmla="val 27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corrections are made then send the sheet to: </a:t>
            </a:r>
            <a:r>
              <a:rPr b="0" lang="en-GB" sz="16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Primavera_support@benq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ning Office will update the resources in Primavera according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13600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3213000"/>
            <a:ext cx="1970280" cy="1447920"/>
          </a:xfrm>
          <a:prstGeom prst="wedgeRoundRectCallout">
            <a:avLst>
              <a:gd name="adj1" fmla="val -36787"/>
              <a:gd name="adj2" fmla="val -27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new resources in the department a Start Date must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4920" y="3430440"/>
            <a:ext cx="1801800" cy="838440"/>
          </a:xfrm>
          <a:prstGeom prst="wedgeRoundRectCallout">
            <a:avLst>
              <a:gd name="adj1" fmla="val -49296"/>
              <a:gd name="adj2" fmla="val -176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cells needed corrections with yel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1960" y="3200400"/>
            <a:ext cx="1676160" cy="1236600"/>
          </a:xfrm>
          <a:prstGeom prst="wedgeRoundRectCallout">
            <a:avLst>
              <a:gd name="adj1" fmla="val -11458"/>
              <a:gd name="adj2" fmla="val -72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new resource can be set in like this. Planning Office will give an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4724280"/>
            <a:ext cx="2016000" cy="1447920"/>
          </a:xfrm>
          <a:prstGeom prst="wedgeRoundRectCallout">
            <a:avLst>
              <a:gd name="adj1" fmla="val 31101"/>
              <a:gd name="adj2" fmla="val -410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an end date is known for the resource it can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hich information's is required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The following resource data is required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Resource ID</a:t>
            </a:r>
            <a:r>
              <a:rPr b="0" i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i="1" lang="en-US" sz="1300" spc="-1" strike="noStrike">
                <a:solidFill>
                  <a:srgbClr val="3a0e66"/>
                </a:solidFill>
                <a:latin typeface="Minion"/>
              </a:rPr>
              <a:t>is given by Planning Offic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Na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name of the Resourc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-mail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e-mail is needed for all Resources when possibl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Location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location where the resource is working e.g. MCH, KLF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Departmen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department abbreviation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SAP-Account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is is the SAP account for the department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mployee typ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HC, INTCON, EXTCON, STUD, NOLABOR or TITL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HC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BenQ Employees (Headcounts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IN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Internal consultants, who according to their contract are treated like a HC employee (in Germany: AÜG)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EX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External consultants, who are paid for a deliverable (in Germany: Werkvertrag) and their work is not planned in hours nor tracked in Timesheet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STUD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is Students or Trainee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NOLABOR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 is non labour Resourc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TITLE 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is used for a Resource group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Max and Default Units/ti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set according to the table at the next page in this guide (same value for every weekday)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Rol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e primary role has to be set for the resource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Uses Timeshee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marked for resources when they must use Timesheets. Do not mark this field before the Timesheet Approval Manager is known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Timesheet Approval Manager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inserted when the field Uses Timesheet is marked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Start dat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End dat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(if any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Arial"/>
              </a:rPr>
              <a:t>Non Billing in SAP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(yes/no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Settings of limit and default working time in Primavera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990720"/>
          <a:ext cx="8078040" cy="5174640"/>
        </p:xfrm>
        <a:graphic>
          <a:graphicData uri="http://schemas.openxmlformats.org/drawingml/2006/table">
            <a:tbl>
              <a:tblPr/>
              <a:tblGrid>
                <a:gridCol w="4041360"/>
                <a:gridCol w="4036680"/>
              </a:tblGrid>
              <a:tr h="11185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time [weekly] </a:t>
                      </a:r>
                      <a:r>
                        <a:rPr b="0" i="1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According to contr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 in Primavera [daily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a-DK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efault and max units/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,3 h – 3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,8 h – 36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6,3 h – 38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8,8 h – 41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1,3 h – 4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= 43,8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5.0 Released 15.12.05 Jacob Juul</dc:description>
  <dc:language>en-US</dc:language>
  <cp:lastModifiedBy>Ole Sletting Madsen</cp:lastModifiedBy>
  <dcterms:modified xsi:type="dcterms:W3CDTF">2006-02-07T12:28:00Z</dcterms:modified>
  <cp:revision>16</cp:revision>
  <dc:subject/>
  <dc:title>Maintain Resource tree in Primavera</dc:title>
</cp:coreProperties>
</file>