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04C6-8D25-45E4-9433-C7A2540E6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699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92000" y="3769920"/>
            <a:ext cx="699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8DCC-3A68-4773-95DA-9A2B7AF03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92000" y="376992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6160" y="376992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379F-350E-4DA5-AEFA-74C2B4872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6840" y="99036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1680" y="99036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92000" y="376992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6840" y="376992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1680" y="3769920"/>
            <a:ext cx="225180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30F4-6E01-4192-9BED-D0027491BE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92000" y="990360"/>
            <a:ext cx="69944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78A5-4B49-45A9-944F-B1FA37B10D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69944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8884-C378-4478-A4F3-687B98E43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DE06-F19F-4946-8C7F-C3CB45B76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D734-8296-450D-AB6A-3F1A8497B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294760" cy="25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7986-12D7-4FF8-91B6-9DA1129AD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92000" y="376992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221C-D89E-49E8-81D7-A58A7BE60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6160" y="376992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EA50-3F4B-4CCB-9B96-FF2BC6391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9200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990360"/>
            <a:ext cx="3413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92000" y="3769920"/>
            <a:ext cx="699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930C-D600-4C35-A532-6553DFEF4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947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92000" y="990360"/>
            <a:ext cx="69944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3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3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3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EBA8-DD97-4606-9CBF-59A5B3ACB1E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7 February 2006 – V1.0 – Page </a:t>
            </a:r>
            <a:fld id="{A4DDFAB8-3066-430E-9BA8-38F2275550D4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Timesheet Approval Managemen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7 Febr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42900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Guideline for timesheet approval managers about the weekly plausibility check and approval of resource’s time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08720" y="3654360"/>
            <a:ext cx="2879640" cy="190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947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Login to Citrix and Primavera Project Managemen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"/>
          <p:cNvSpPr/>
          <p:nvPr/>
        </p:nvSpPr>
        <p:spPr>
          <a:xfrm>
            <a:off x="1692360" y="69228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ogin to Citrix by use of your Citrix Username and Password (domain is “aaldk1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08720" y="773280"/>
            <a:ext cx="2879640" cy="259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6443640" y="4302000"/>
            <a:ext cx="432000" cy="289080"/>
          </a:xfrm>
          <a:prstGeom prst="wedgeEllipseCallout">
            <a:avLst>
              <a:gd name="adj1" fmla="val -145222"/>
              <a:gd name="adj2" fmla="val -59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302000"/>
            <a:ext cx="432000" cy="289080"/>
          </a:xfrm>
          <a:prstGeom prst="wedgeEllipseCallout">
            <a:avLst>
              <a:gd name="adj1" fmla="val -133087"/>
              <a:gd name="adj2" fmla="val 796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6640" y="2933640"/>
            <a:ext cx="360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om the Citrix desktop select ”Project Manageme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your Primavera Login Name and Pass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Database “PMDB” from th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lick ”O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4807080"/>
            <a:ext cx="432000" cy="288720"/>
          </a:xfrm>
          <a:prstGeom prst="wedgeEllipseCallout">
            <a:avLst>
              <a:gd name="adj1" fmla="val 142648"/>
              <a:gd name="adj2" fmla="val 123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4807080"/>
            <a:ext cx="432000" cy="288720"/>
          </a:xfrm>
          <a:prstGeom prst="wedgeEllipseCallout">
            <a:avLst>
              <a:gd name="adj1" fmla="val -144486"/>
              <a:gd name="adj2" fmla="val 117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798720"/>
            <a:ext cx="432000" cy="289080"/>
          </a:xfrm>
          <a:prstGeom prst="wedgeEllipseCallout">
            <a:avLst>
              <a:gd name="adj1" fmla="val 116175"/>
              <a:gd name="adj2" fmla="val 26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2403360"/>
            <a:ext cx="431640" cy="289080"/>
          </a:xfrm>
          <a:prstGeom prst="wedgeEllipseCallout">
            <a:avLst>
              <a:gd name="adj1" fmla="val 120587"/>
              <a:gd name="adj2" fmla="val -106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2403360"/>
            <a:ext cx="431640" cy="289080"/>
          </a:xfrm>
          <a:prstGeom prst="wedgeEllipseCallout">
            <a:avLst>
              <a:gd name="adj1" fmla="val 127203"/>
              <a:gd name="adj2" fmla="val -6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311640" y="3519360"/>
            <a:ext cx="66492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637000" y="3743280"/>
            <a:ext cx="431640" cy="289080"/>
          </a:xfrm>
          <a:prstGeom prst="wedgeEllipseCallout">
            <a:avLst>
              <a:gd name="adj1" fmla="val 108453"/>
              <a:gd name="adj2" fmla="val -4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947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Opening Timesheet Approval Tool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69228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“Open Global Dat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508720" y="692280"/>
          <a:ext cx="287964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692280"/>
                    <a:ext cx="2879640" cy="146520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48360" y="2060640"/>
            <a:ext cx="432000" cy="288720"/>
          </a:xfrm>
          <a:prstGeom prst="wedgeEllipseCallout">
            <a:avLst>
              <a:gd name="adj1" fmla="val -156250"/>
              <a:gd name="adj2" fmla="val -780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508720" y="2492280"/>
            <a:ext cx="2879640" cy="2217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7812000" y="3139920"/>
            <a:ext cx="432000" cy="289080"/>
          </a:xfrm>
          <a:prstGeom prst="wedgeEllipseCallout">
            <a:avLst>
              <a:gd name="adj1" fmla="val -265810"/>
              <a:gd name="adj2" fmla="val -174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249228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“Tools” &gt; “Time Approva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16640" y="2843280"/>
            <a:ext cx="2879640" cy="1647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947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Selecting Timesheets to Approve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508720" y="682560"/>
            <a:ext cx="2879640" cy="97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651640" y="1403280"/>
            <a:ext cx="1800000" cy="1208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8244000" y="1116000"/>
            <a:ext cx="431640" cy="289080"/>
          </a:xfrm>
          <a:prstGeom prst="wedgeEllipseCallout">
            <a:avLst>
              <a:gd name="adj1" fmla="val -76472"/>
              <a:gd name="adj2" fmla="val -807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12000" y="1332000"/>
            <a:ext cx="432000" cy="288720"/>
          </a:xfrm>
          <a:prstGeom prst="wedgeEllipseCallout">
            <a:avLst>
              <a:gd name="adj1" fmla="val -148898"/>
              <a:gd name="adj2" fmla="val -125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12000" y="1332000"/>
            <a:ext cx="432000" cy="288720"/>
          </a:xfrm>
          <a:prstGeom prst="wedgeEllipseCallout">
            <a:avLst>
              <a:gd name="adj1" fmla="val -292648"/>
              <a:gd name="adj2" fmla="val 2285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46640" y="1719360"/>
            <a:ext cx="432000" cy="288720"/>
          </a:xfrm>
          <a:prstGeom prst="wedgeEllipseCallout">
            <a:avLst>
              <a:gd name="adj1" fmla="val 235662"/>
              <a:gd name="adj2" fmla="val -19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692280"/>
            <a:ext cx="3600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 „Select Timesheet Date Range“ click the  button      for „From Start Period“, select relevant Start Date/End Date in the „Select Timesheet Period“ window and 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n „Select Timesheet Date Range“ click the  button      for  „To Finish Period“, select relevant Start Date/End Date in the „Select Timesheet Period“ window and cl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lick OK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the period for which you want to check the time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status of timesheets to view - Click bar ”Display ...” and select ”Filter B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timesheet status to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527720" y="1314360"/>
            <a:ext cx="144360" cy="14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536920" y="944640"/>
            <a:ext cx="144360" cy="14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5967360" y="2754360"/>
            <a:ext cx="432000" cy="288720"/>
          </a:xfrm>
          <a:prstGeom prst="wedgeEllipseCallout">
            <a:avLst>
              <a:gd name="adj1" fmla="val -88972"/>
              <a:gd name="adj2" fmla="val 53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536920" y="1663560"/>
            <a:ext cx="144360" cy="14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6640" y="1719360"/>
            <a:ext cx="432000" cy="288720"/>
          </a:xfrm>
          <a:prstGeom prst="wedgeEllipseCallout">
            <a:avLst>
              <a:gd name="adj1" fmla="val -8453"/>
              <a:gd name="adj2" fmla="val 111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4527720" y="2033640"/>
            <a:ext cx="144360" cy="14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5742000" y="3924360"/>
            <a:ext cx="431640" cy="288720"/>
          </a:xfrm>
          <a:prstGeom prst="wedgeEllipseCallout">
            <a:avLst>
              <a:gd name="adj1" fmla="val -54046"/>
              <a:gd name="adj2" fmla="val -282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2000" y="3924360"/>
            <a:ext cx="431640" cy="288720"/>
          </a:xfrm>
          <a:prstGeom prst="wedgeEllipseCallout">
            <a:avLst>
              <a:gd name="adj1" fmla="val -16546"/>
              <a:gd name="adj2" fmla="val -209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42000" y="3743280"/>
            <a:ext cx="432000" cy="289080"/>
          </a:xfrm>
          <a:prstGeom prst="wedgeEllipseCallout">
            <a:avLst>
              <a:gd name="adj1" fmla="val -66546"/>
              <a:gd name="adj2" fmla="val -118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92360" y="4869000"/>
            <a:ext cx="373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Timesheet St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 submitted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Timesheet opened by 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ubmitted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Timesheet submitted by 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pproved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Timesheet ap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ejected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Timesheet rej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 Timesheets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- View all independent of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947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Checking the Timesheets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72000" y="728640"/>
            <a:ext cx="2880000" cy="186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692360" y="684360"/>
            <a:ext cx="360036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heck whether 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 resources assigned to you have submitted the timesheet (Status = Submitted). If not remind those in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heck the submitted timesheets for plausibility, e.g.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83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 obvious typ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83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 obvious missing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83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 local rules for working hours vi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eject timesheet in case of errors by clicking ”Reject”, acknowledge subsequent prompt, and inform the resource in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pprove timesheet if no obvious errors found by clicking ”Approve” and acknowledge subsequent pro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86640" y="863640"/>
            <a:ext cx="431640" cy="288720"/>
          </a:xfrm>
          <a:prstGeom prst="wedgeEllipseCallout">
            <a:avLst>
              <a:gd name="adj1" fmla="val 126472"/>
              <a:gd name="adj2" fmla="val 9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07360" y="1628640"/>
            <a:ext cx="431640" cy="289080"/>
          </a:xfrm>
          <a:prstGeom prst="wedgeEllipseCallout">
            <a:avLst>
              <a:gd name="adj1" fmla="val -98898"/>
              <a:gd name="adj2" fmla="val 117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7360" y="1177920"/>
            <a:ext cx="432000" cy="289080"/>
          </a:xfrm>
          <a:prstGeom prst="wedgeEllipseCallout">
            <a:avLst>
              <a:gd name="adj1" fmla="val -69486"/>
              <a:gd name="adj2" fmla="val -58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07360" y="728640"/>
            <a:ext cx="432000" cy="289080"/>
          </a:xfrm>
          <a:prstGeom prst="wedgeEllipseCallout">
            <a:avLst>
              <a:gd name="adj1" fmla="val -71324"/>
              <a:gd name="adj2" fmla="val 56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3608280"/>
            <a:ext cx="706572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ere will be no timesheets for a period where the resource was absent because of e.g. holiday. Exception: Timesheets is used for collection of non-project related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imesheets not opened do not appear in the list of timesheets as the status ”Not Started” is not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4714920"/>
            <a:ext cx="3600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ow to See Resources to Check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 „Resources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ort column „Timesheet Approval Manager“ by clicking the title bar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buClr>
                <a:srgbClr val="3a0e66"/>
              </a:buClr>
              <a:buFont typeface="Minio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e resources you are responsible for as the timesheet approval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16640" y="4759200"/>
            <a:ext cx="2879640" cy="130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7047000" y="5904000"/>
            <a:ext cx="431640" cy="288720"/>
          </a:xfrm>
          <a:prstGeom prst="wedgeEllipseCallout">
            <a:avLst>
              <a:gd name="adj1" fmla="val -63972"/>
              <a:gd name="adj2" fmla="val -1087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62720" y="4714920"/>
            <a:ext cx="432000" cy="288720"/>
          </a:xfrm>
          <a:prstGeom prst="wedgeEllipseCallout">
            <a:avLst>
              <a:gd name="adj1" fmla="val 97425"/>
              <a:gd name="adj2" fmla="val 62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27720" y="5524560"/>
            <a:ext cx="431640" cy="288720"/>
          </a:xfrm>
          <a:prstGeom prst="wedgeEllipseCallout">
            <a:avLst>
              <a:gd name="adj1" fmla="val 12865"/>
              <a:gd name="adj2" fmla="val -1554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36640" y="1333440"/>
            <a:ext cx="7245360" cy="412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73080" y="692280"/>
            <a:ext cx="154620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gin Citrix and Primav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ing Timesheet Approval T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electing Time-sheets to Appr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hecking Timeshe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947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Weekly Update Cycle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4:52:36Z</dcterms:created>
  <dc:creator>Reinholdt Hansen</dc:creator>
  <dc:description>- V0.1 - reh - 20 January 2006 - among others based on "Quick Guide From template to Project" by Sebastian Stier
- V0.2 - reh - 17 February 2006 - updated according to Planning Office comments
Renamed to Version 1.0 - 07-03-2006 - OSM</dc:description>
  <dc:language>en-US</dc:language>
  <cp:lastModifiedBy>Ole Sletting Madsen</cp:lastModifiedBy>
  <dcterms:modified xsi:type="dcterms:W3CDTF">2006-03-07T14:30:09Z</dcterms:modified>
  <cp:revision>99</cp:revision>
  <dc:subject/>
  <dc:title>Guidelines for project planning from template to close down</dc:title>
</cp:coreProperties>
</file>