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786563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73A2A-E71C-4EDB-891D-78127F6901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520" y="115560"/>
            <a:ext cx="829476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19280" y="692280"/>
            <a:ext cx="7067520" cy="268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19280" y="3627360"/>
            <a:ext cx="7067520" cy="268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B549D-62BB-4222-8B5A-8E7F56D023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115560"/>
            <a:ext cx="829476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19280" y="692280"/>
            <a:ext cx="3448800" cy="268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40880" y="692280"/>
            <a:ext cx="3448800" cy="268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19280" y="3627360"/>
            <a:ext cx="3448800" cy="268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40880" y="3627360"/>
            <a:ext cx="3448800" cy="268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378BD-DDE3-442B-8A69-CF9AD3F458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520" y="115560"/>
            <a:ext cx="829476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19280" y="692280"/>
            <a:ext cx="2275560" cy="268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08960" y="692280"/>
            <a:ext cx="2275560" cy="268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98640" y="692280"/>
            <a:ext cx="2275560" cy="268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19280" y="3627360"/>
            <a:ext cx="2275560" cy="268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08960" y="3627360"/>
            <a:ext cx="2275560" cy="268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98640" y="3627360"/>
            <a:ext cx="2275560" cy="268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EEF7C-0C2A-4F6D-B3CB-EAC39BA4DC1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520" y="115560"/>
            <a:ext cx="829476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19280" y="692280"/>
            <a:ext cx="7067520" cy="561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4E183-C672-4EF9-B1A2-6B6858BDA2E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115560"/>
            <a:ext cx="829476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19280" y="692280"/>
            <a:ext cx="7067520" cy="56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E88C1-20A6-4799-A763-0086A23169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115560"/>
            <a:ext cx="829476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19280" y="692280"/>
            <a:ext cx="3448800" cy="56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40880" y="692280"/>
            <a:ext cx="3448800" cy="56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EC9F7-0E28-4C94-8EC5-B5D0FF7A9A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520" y="115560"/>
            <a:ext cx="829476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E230E-70FF-4BB4-93B9-8ADD44E52A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520" y="115560"/>
            <a:ext cx="8294760" cy="21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B8B26-48B2-4BB5-A303-FD01D44C09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115560"/>
            <a:ext cx="829476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19280" y="692280"/>
            <a:ext cx="3448800" cy="268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40880" y="692280"/>
            <a:ext cx="3448800" cy="56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19280" y="3627360"/>
            <a:ext cx="3448800" cy="268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F548E-273C-43A0-B241-1471109D45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520" y="115560"/>
            <a:ext cx="829476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19280" y="692280"/>
            <a:ext cx="3448800" cy="56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40880" y="692280"/>
            <a:ext cx="3448800" cy="268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40880" y="3627360"/>
            <a:ext cx="3448800" cy="268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D6F9A-5C1D-4AAD-84C7-59164BC9C1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115560"/>
            <a:ext cx="829476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19280" y="692280"/>
            <a:ext cx="3448800" cy="268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40880" y="692280"/>
            <a:ext cx="3448800" cy="268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19280" y="3627360"/>
            <a:ext cx="7067520" cy="268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80BC6-DFB9-46CC-A0DF-0D06CC5CBC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115560"/>
            <a:ext cx="829476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619280" y="692280"/>
            <a:ext cx="7067520" cy="56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E91DA-2FE8-4327-8193-F357DB7B0958}" type="slidenum"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71520" y="636264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- Planning Office – 06 January 2006 – Version 1.0 – Page </a:t>
            </a:r>
            <a:fld id="{933FB4CB-4A67-4E5A-9A87-B1D09B1C2F74}" type="slidenum"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&lt;number&gt;</a:t>
            </a:fld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 of 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primavera.aaldk1.aal.siemens.dk/GroupserverP3e/en/index.html" TargetMode="External"/><Relationship Id="rId3" Type="http://schemas.openxmlformats.org/officeDocument/2006/relationships/image" Target="../media/image4.png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4.xml"/><Relationship Id="rId9" Type="http://schemas.openxmlformats.org/officeDocument/2006/relationships/slide" Target="slide5.xml"/><Relationship Id="rId10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4.xml"/><Relationship Id="rId8" Type="http://schemas.openxmlformats.org/officeDocument/2006/relationships/slide" Target="slide5.xml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4920" y="2133360"/>
            <a:ext cx="7010280" cy="995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Minion"/>
              </a:rPr>
              <a:t>How to use Timesheets</a:t>
            </a:r>
            <a:r>
              <a:rPr b="1" lang="zh-TW" sz="1800" spc="-1" strike="noStrike">
                <a:solidFill>
                  <a:srgbClr val="3a0e66"/>
                </a:solidFill>
                <a:latin typeface="Minion"/>
              </a:rPr>
              <a:t> </a:t>
            </a:r>
            <a:endParaRPr b="1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2" name=""/>
          <p:cNvSpPr/>
          <p:nvPr/>
        </p:nvSpPr>
        <p:spPr>
          <a:xfrm>
            <a:off x="409680" y="4981680"/>
            <a:ext cx="4572000" cy="92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Planning Off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06 January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95280" y="335772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Guideline for entering hours spent (Actuals) and progress of work packages in Timeshe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965240" y="3747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4920" y="115560"/>
            <a:ext cx="828036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a0e66"/>
                </a:solidFill>
                <a:latin typeface="Minion"/>
              </a:rPr>
              <a:t>Start Timesheets</a:t>
            </a:r>
            <a:r>
              <a:rPr b="1" lang="zh-TW" sz="1800" spc="-1" strike="noStrike">
                <a:solidFill>
                  <a:srgbClr val="3a0e66"/>
                </a:solidFill>
                <a:latin typeface="Minion"/>
              </a:rPr>
              <a:t> and Login</a:t>
            </a:r>
            <a:endParaRPr b="1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692280"/>
            <a:ext cx="3673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74600">
              <a:lnSpc>
                <a:spcPct val="100000"/>
              </a:lnSpc>
              <a:buClr>
                <a:srgbClr val="3a0e66"/>
              </a:buClr>
              <a:buFont typeface="Minion"/>
              <a:buAutoNum type="arabicPeriod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Open Microsoft Internet-Explor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174600">
              <a:lnSpc>
                <a:spcPct val="100000"/>
              </a:lnSpc>
              <a:buClr>
                <a:srgbClr val="3a0e66"/>
              </a:buClr>
              <a:buFont typeface="Minion"/>
              <a:buAutoNum type="arabicPeriod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Enter the URL below to access Timeshe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174600">
              <a:lnSpc>
                <a:spcPct val="100000"/>
              </a:lnSpc>
              <a:buClr>
                <a:srgbClr val="3a0e66"/>
              </a:buClr>
              <a:buFont typeface="Minion"/>
              <a:buAutoNum type="arabicPeriod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Click „Run Timesheets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(Remember to turn-off Popup blocke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8000" y="549360"/>
            <a:ext cx="8856720" cy="0"/>
          </a:xfrm>
          <a:prstGeom prst="line">
            <a:avLst/>
          </a:prstGeom>
          <a:ln w="1908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508720" y="692280"/>
            <a:ext cx="3238560" cy="21207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619280" y="3213000"/>
            <a:ext cx="727236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724360" y="1628640"/>
            <a:ext cx="432000" cy="289080"/>
          </a:xfrm>
          <a:prstGeom prst="wedgeEllipseCallout">
            <a:avLst>
              <a:gd name="adj1" fmla="val 58087"/>
              <a:gd name="adj2" fmla="val -2351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740720" y="1700280"/>
            <a:ext cx="431640" cy="288720"/>
          </a:xfrm>
          <a:prstGeom prst="wedgeEllipseCallout">
            <a:avLst>
              <a:gd name="adj1" fmla="val -161398"/>
              <a:gd name="adj2" fmla="val 3900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19280" y="2867040"/>
            <a:ext cx="7273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660066"/>
                </a:solidFill>
                <a:latin typeface="Minion"/>
                <a:ea typeface="文鼎中黑"/>
              </a:rPr>
              <a:t>Timesheets URL:</a:t>
            </a:r>
            <a:r>
              <a:rPr b="1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en-GB" sz="1200" spc="-1" strike="noStrike" u="sng">
                <a:solidFill>
                  <a:srgbClr val="800080"/>
                </a:solidFill>
                <a:uFillTx/>
                <a:latin typeface="Minion"/>
                <a:ea typeface="文鼎中黑"/>
                <a:hlinkClick r:id="rId2"/>
              </a:rPr>
              <a:t>http://primavera.aaldk1.aal.siemens.dk/GroupserverP3e/en/index.html</a:t>
            </a:r>
            <a:r>
              <a:rPr b="1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19280" y="3278160"/>
            <a:ext cx="3673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buClr>
                <a:srgbClr val="3a0e66"/>
              </a:buClr>
              <a:buFont typeface="Minion"/>
              <a:buAutoNum type="arabicPeriod" startAt="4"/>
              <a:tabLst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Enter your login name (e.g. „klf987“) and your passwo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5508720" y="3344760"/>
            <a:ext cx="3238560" cy="21002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7164360" y="4219560"/>
            <a:ext cx="432000" cy="289080"/>
          </a:xfrm>
          <a:prstGeom prst="wedgeEllipseCallout">
            <a:avLst>
              <a:gd name="adj1" fmla="val -291912"/>
              <a:gd name="adj2" fmla="val -549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164360" y="4219560"/>
            <a:ext cx="432000" cy="289080"/>
          </a:xfrm>
          <a:prstGeom prst="wedgeEllipseCallout">
            <a:avLst>
              <a:gd name="adj1" fmla="val -246324"/>
              <a:gd name="adj2" fmla="val 11318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19280" y="5516640"/>
            <a:ext cx="727236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3789360"/>
            <a:ext cx="3744720" cy="1447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Note</a:t>
            </a:r>
            <a:r>
              <a:rPr b="1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spcBef>
                <a:spcPts val="3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If you need a Login Name and Password for Timesheets or you do not remember your password please contact Primavera Sup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spcBef>
                <a:spcPts val="3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Login Name and Password for Primavera Timesheets and Project Management are the s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3080" y="692280"/>
            <a:ext cx="1474560" cy="5616360"/>
          </a:xfrm>
          <a:prstGeom prst="rect">
            <a:avLst/>
          </a:pr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3600" indent="-936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Cont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3600" indent="-93600">
              <a:lnSpc>
                <a:spcPct val="100000"/>
              </a:lnSpc>
              <a:spcBef>
                <a:spcPts val="624"/>
              </a:spcBef>
              <a:buClr>
                <a:srgbClr val="800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 u="sng">
                <a:solidFill>
                  <a:srgbClr val="800080"/>
                </a:solidFill>
                <a:uFillTx/>
                <a:latin typeface="Minion"/>
                <a:ea typeface="文鼎中黑"/>
                <a:hlinkClick r:id="rId4" action="ppaction://hlinksldjump"/>
              </a:rPr>
              <a:t>Start and Login</a:t>
            </a:r>
            <a:r>
              <a:rPr b="0" lang="en-US" sz="1000" spc="-1" strike="noStrike" u="sng">
                <a:solidFill>
                  <a:srgbClr val="800080"/>
                </a:solidFill>
                <a:uFillTx/>
                <a:latin typeface="Minion"/>
                <a:ea typeface="文鼎中黑"/>
                <a:hlinkClick r:id="rId5" action="ppaction://hlinksldjump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93600" indent="-936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 u="sng">
                <a:solidFill>
                  <a:srgbClr val="800080"/>
                </a:solidFill>
                <a:uFillTx/>
                <a:latin typeface="Minion"/>
                <a:ea typeface="文鼎中黑"/>
                <a:hlinkClick r:id="rId6" action="ppaction://hlinksldjump"/>
              </a:rPr>
              <a:t>Open Timesheet</a:t>
            </a:r>
            <a:r>
              <a:rPr b="0" lang="en-US" sz="1000" spc="-1" strike="noStrike" u="sng">
                <a:solidFill>
                  <a:srgbClr val="800080"/>
                </a:solidFill>
                <a:uFillTx/>
                <a:latin typeface="Minion"/>
                <a:ea typeface="文鼎中黑"/>
                <a:hlinkClick r:id="rId7" action="ppaction://hlinksldjump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93600" indent="-936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 u="sng">
                <a:solidFill>
                  <a:srgbClr val="800080"/>
                </a:solidFill>
                <a:uFillTx/>
                <a:latin typeface="Minion"/>
                <a:ea typeface="文鼎中黑"/>
                <a:hlinkClick r:id="rId8" action="ppaction://hlinksldjump"/>
              </a:rPr>
              <a:t>Enter Hours Spent and Remain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93600" indent="-936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 u="sng">
                <a:solidFill>
                  <a:srgbClr val="800080"/>
                </a:solidFill>
                <a:uFillTx/>
                <a:latin typeface="Minion"/>
                <a:ea typeface="文鼎中黑"/>
                <a:hlinkClick r:id="rId9" action="ppaction://hlinksldjump"/>
              </a:rPr>
              <a:t>Enter Progress Feedb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508720" y="2928960"/>
            <a:ext cx="3238560" cy="30924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508720" y="620640"/>
            <a:ext cx="3238560" cy="2200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965240" y="3747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4920" y="115560"/>
            <a:ext cx="828036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a0e66"/>
                </a:solidFill>
                <a:latin typeface="Minion"/>
              </a:rPr>
              <a:t>Open Timesheet</a:t>
            </a:r>
            <a:endParaRPr b="1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4" name=""/>
          <p:cNvSpPr/>
          <p:nvPr/>
        </p:nvSpPr>
        <p:spPr>
          <a:xfrm>
            <a:off x="1619280" y="692280"/>
            <a:ext cx="3673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buClr>
                <a:srgbClr val="3a0e66"/>
              </a:buClr>
              <a:buFont typeface="Minio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Open the timesheet:</a:t>
            </a:r>
            <a:br>
              <a:rPr sz="1200"/>
            </a:br>
            <a:r>
              <a:rPr b="0" lang="en-GB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Select: </a:t>
            </a:r>
            <a:r>
              <a:rPr b="0" i="1" lang="en-GB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File &gt; Open Timeshe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95280" y="2565360"/>
            <a:ext cx="835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8000" y="549360"/>
            <a:ext cx="8856720" cy="0"/>
          </a:xfrm>
          <a:prstGeom prst="line">
            <a:avLst/>
          </a:prstGeom>
          <a:ln w="1908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19280" y="2852640"/>
            <a:ext cx="727236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372360" y="1268280"/>
            <a:ext cx="431640" cy="289080"/>
          </a:xfrm>
          <a:prstGeom prst="wedgeEllipseCallout">
            <a:avLst>
              <a:gd name="adj1" fmla="val -144115"/>
              <a:gd name="adj2" fmla="val -16868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19280" y="3076560"/>
            <a:ext cx="367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619280" y="6093000"/>
            <a:ext cx="727236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619280" y="2989440"/>
            <a:ext cx="367344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buClr>
                <a:srgbClr val="3a0e66"/>
              </a:buClr>
              <a:buFont typeface="Minio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Mark timesheet of last week and click „OK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buClr>
                <a:srgbClr val="3a0e66"/>
              </a:buClr>
              <a:buFont typeface="Minio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When you open a timesheet the first time you may choose whether all your work packages are added automatically to the timesheet (recommended)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buClr>
                <a:srgbClr val="3a0e66"/>
              </a:buClr>
              <a:buFont typeface="Minio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or added manually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buClr>
                <a:srgbClr val="3a0e66"/>
              </a:buClr>
              <a:buFont typeface="Minio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or copied from the previous timeshee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buClr>
                <a:srgbClr val="3a0e66"/>
              </a:buClr>
              <a:buFont typeface="Minio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You may select not to include your completed assignments (recommen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028000" y="4005360"/>
            <a:ext cx="431640" cy="288720"/>
          </a:xfrm>
          <a:prstGeom prst="wedgeEllipseCallout">
            <a:avLst>
              <a:gd name="adj1" fmla="val -161398"/>
              <a:gd name="adj2" fmla="val 3900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028000" y="4941720"/>
            <a:ext cx="431640" cy="289080"/>
          </a:xfrm>
          <a:prstGeom prst="wedgeEllipseCallout">
            <a:avLst>
              <a:gd name="adj1" fmla="val -148898"/>
              <a:gd name="adj2" fmla="val -2307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028000" y="5229360"/>
            <a:ext cx="431640" cy="288720"/>
          </a:xfrm>
          <a:prstGeom prst="wedgeEllipseCallout">
            <a:avLst>
              <a:gd name="adj1" fmla="val -254412"/>
              <a:gd name="adj2" fmla="val -1153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028000" y="5516640"/>
            <a:ext cx="431640" cy="288720"/>
          </a:xfrm>
          <a:prstGeom prst="wedgeEllipseCallout">
            <a:avLst>
              <a:gd name="adj1" fmla="val -222796"/>
              <a:gd name="adj2" fmla="val -3681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219640" y="5157720"/>
            <a:ext cx="432000" cy="289080"/>
          </a:xfrm>
          <a:prstGeom prst="wedgeEllipseCallout">
            <a:avLst>
              <a:gd name="adj1" fmla="val 87865"/>
              <a:gd name="adj2" fmla="val -3956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3080" y="692280"/>
            <a:ext cx="1474560" cy="5616360"/>
          </a:xfrm>
          <a:prstGeom prst="rect">
            <a:avLst/>
          </a:pr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3600" indent="-936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Cont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3600" indent="-936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 u="sng">
                <a:solidFill>
                  <a:srgbClr val="800080"/>
                </a:solidFill>
                <a:uFillTx/>
                <a:latin typeface="Minion"/>
                <a:ea typeface="文鼎中黑"/>
                <a:hlinkClick r:id="rId3" action="ppaction://hlinksldjump"/>
              </a:rPr>
              <a:t>Start and Login</a:t>
            </a:r>
            <a:r>
              <a:rPr b="0" lang="en-US" sz="1000" spc="-1" strike="noStrike" u="sng">
                <a:solidFill>
                  <a:srgbClr val="800080"/>
                </a:solidFill>
                <a:uFillTx/>
                <a:latin typeface="Minion"/>
                <a:ea typeface="文鼎中黑"/>
                <a:hlinkClick r:id="rId4" action="ppaction://hlinksldjump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93600" indent="-93600">
              <a:lnSpc>
                <a:spcPct val="100000"/>
              </a:lnSpc>
              <a:spcBef>
                <a:spcPts val="624"/>
              </a:spcBef>
              <a:buClr>
                <a:srgbClr val="800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 u="sng">
                <a:solidFill>
                  <a:srgbClr val="800080"/>
                </a:solidFill>
                <a:uFillTx/>
                <a:latin typeface="Minion"/>
                <a:ea typeface="文鼎中黑"/>
                <a:hlinkClick r:id="rId5" action="ppaction://hlinksldjump"/>
              </a:rPr>
              <a:t>Open Timesheet</a:t>
            </a:r>
            <a:r>
              <a:rPr b="0" lang="en-US" sz="1000" spc="-1" strike="noStrike" u="sng">
                <a:solidFill>
                  <a:srgbClr val="800080"/>
                </a:solidFill>
                <a:uFillTx/>
                <a:latin typeface="Minion"/>
                <a:ea typeface="文鼎中黑"/>
                <a:hlinkClick r:id="rId6" action="ppaction://hlinksldjump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93600" indent="-936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 u="sng">
                <a:solidFill>
                  <a:srgbClr val="800080"/>
                </a:solidFill>
                <a:uFillTx/>
                <a:latin typeface="Minion"/>
                <a:ea typeface="文鼎中黑"/>
                <a:hlinkClick r:id="rId7" action="ppaction://hlinksldjump"/>
              </a:rPr>
              <a:t>Enter Hours Spent and Remain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93600" indent="-936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 u="sng">
                <a:solidFill>
                  <a:srgbClr val="800080"/>
                </a:solidFill>
                <a:uFillTx/>
                <a:latin typeface="Minion"/>
                <a:ea typeface="文鼎中黑"/>
                <a:hlinkClick r:id="rId8" action="ppaction://hlinksldjump"/>
              </a:rPr>
              <a:t>Enter Progress Feedb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292720" y="3355920"/>
            <a:ext cx="3238560" cy="21970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5292720" y="692280"/>
            <a:ext cx="3238560" cy="2197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0" name=""/>
          <p:cNvSpPr/>
          <p:nvPr/>
        </p:nvSpPr>
        <p:spPr>
          <a:xfrm>
            <a:off x="1965240" y="4106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4920" y="115560"/>
            <a:ext cx="828036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a0e66"/>
                </a:solidFill>
                <a:latin typeface="Minion"/>
              </a:rPr>
              <a:t>Enter Hours Spent and Remaining (by all resources)</a:t>
            </a:r>
            <a:endParaRPr b="1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2" name=""/>
          <p:cNvSpPr/>
          <p:nvPr/>
        </p:nvSpPr>
        <p:spPr>
          <a:xfrm>
            <a:off x="1619280" y="549360"/>
            <a:ext cx="3457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To be entered by all resourc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buClr>
                <a:srgbClr val="3a0e66"/>
              </a:buClr>
              <a:buFont typeface="Minion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Enter hours spent on your work packag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95280" y="2565360"/>
            <a:ext cx="835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08000" y="549360"/>
            <a:ext cx="8856720" cy="0"/>
          </a:xfrm>
          <a:prstGeom prst="line">
            <a:avLst/>
          </a:prstGeom>
          <a:ln w="1908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619280" y="3284640"/>
            <a:ext cx="727236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948360" y="1628640"/>
            <a:ext cx="432000" cy="289080"/>
          </a:xfrm>
          <a:prstGeom prst="wedgeEllipseCallout">
            <a:avLst>
              <a:gd name="adj1" fmla="val 40810"/>
              <a:gd name="adj2" fmla="val -13131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619280" y="3435480"/>
            <a:ext cx="367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619280" y="3368520"/>
            <a:ext cx="34574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3a0e66"/>
              </a:buClr>
              <a:buFont typeface="Minion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To enter your remaining hours select the tab “Resource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a0e66"/>
              </a:buClr>
              <a:buFont typeface="Minion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Enter your remaining hours for the work package selected in the cell “New Remaining Unit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524720" y="5300640"/>
            <a:ext cx="432000" cy="289080"/>
          </a:xfrm>
          <a:prstGeom prst="wedgeEllipseCallout">
            <a:avLst>
              <a:gd name="adj1" fmla="val 108453"/>
              <a:gd name="adj2" fmla="val -9120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364000" y="5083200"/>
            <a:ext cx="432000" cy="289080"/>
          </a:xfrm>
          <a:prstGeom prst="wedgeEllipseCallout">
            <a:avLst>
              <a:gd name="adj1" fmla="val 31615"/>
              <a:gd name="adj2" fmla="val -17582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619280" y="981000"/>
            <a:ext cx="3457440" cy="2254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spcBef>
                <a:spcPts val="300"/>
              </a:spcBef>
              <a:buClr>
                <a:srgbClr val="6600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660066"/>
                </a:solidFill>
                <a:latin typeface="Minion"/>
                <a:ea typeface="文鼎中黑"/>
              </a:rPr>
              <a:t>Do not open timesheets for periods consisting of e.g. holidays only (contact your timesheet approval manager in case of a timesheet opened by mistak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spcBef>
                <a:spcPts val="300"/>
              </a:spcBef>
              <a:buClr>
                <a:srgbClr val="6600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660066"/>
                </a:solidFill>
                <a:latin typeface="Minion"/>
                <a:ea typeface="文鼎中黑"/>
              </a:rPr>
              <a:t>Hours are entered as hours and hundreds of hours separated by a d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spcBef>
                <a:spcPts val="300"/>
              </a:spcBef>
              <a:buClr>
                <a:srgbClr val="6600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660066"/>
                </a:solidFill>
                <a:latin typeface="Minion"/>
                <a:ea typeface="文鼎中黑"/>
              </a:rPr>
              <a:t>Do not submit timesheet before entries done for all days relev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spcBef>
                <a:spcPts val="300"/>
              </a:spcBef>
              <a:buClr>
                <a:srgbClr val="6600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660066"/>
                </a:solidFill>
                <a:latin typeface="Minion"/>
                <a:ea typeface="文鼎中黑"/>
              </a:rPr>
              <a:t>Blue rows indicates the period between planned start and finish 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19280" y="4437000"/>
            <a:ext cx="3457440" cy="86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Not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spcBef>
                <a:spcPts val="3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Enter new remaining units only when major change compared to ”Remaining Unit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619280" y="5589720"/>
            <a:ext cx="7273800" cy="67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Not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spcBef>
                <a:spcPts val="3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Work packages missing in your timesheet are added manually by use of: </a:t>
            </a:r>
            <a:r>
              <a:rPr b="0" i="1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Edit &gt; Add Activity</a:t>
            </a:r>
            <a:r>
              <a:rPr b="0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. Select the work package missing and click </a:t>
            </a:r>
            <a:r>
              <a:rPr b="0" i="1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Ad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3080" y="692280"/>
            <a:ext cx="1474560" cy="5616360"/>
          </a:xfrm>
          <a:prstGeom prst="rect">
            <a:avLst/>
          </a:pr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3600" indent="-936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Cont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3600" indent="-936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 u="sng">
                <a:solidFill>
                  <a:srgbClr val="800080"/>
                </a:solidFill>
                <a:uFillTx/>
                <a:latin typeface="Minion"/>
                <a:ea typeface="文鼎中黑"/>
                <a:hlinkClick r:id="rId3" action="ppaction://hlinksldjump"/>
              </a:rPr>
              <a:t>Start and Login</a:t>
            </a:r>
            <a:r>
              <a:rPr b="0" lang="en-US" sz="1000" spc="-1" strike="noStrike" u="sng">
                <a:solidFill>
                  <a:srgbClr val="800080"/>
                </a:solidFill>
                <a:uFillTx/>
                <a:latin typeface="Minion"/>
                <a:ea typeface="文鼎中黑"/>
                <a:hlinkClick r:id="rId4" action="ppaction://hlinksldjump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93600" indent="-936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 u="sng">
                <a:solidFill>
                  <a:srgbClr val="800080"/>
                </a:solidFill>
                <a:uFillTx/>
                <a:latin typeface="Minion"/>
                <a:ea typeface="文鼎中黑"/>
                <a:hlinkClick r:id="rId5" action="ppaction://hlinksldjump"/>
              </a:rPr>
              <a:t>Open Timesheet</a:t>
            </a:r>
            <a:r>
              <a:rPr b="0" lang="en-US" sz="1000" spc="-1" strike="noStrike" u="sng">
                <a:solidFill>
                  <a:srgbClr val="800080"/>
                </a:solidFill>
                <a:uFillTx/>
                <a:latin typeface="Minion"/>
                <a:ea typeface="文鼎中黑"/>
                <a:hlinkClick r:id="rId6" action="ppaction://hlinksldjump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93600" indent="-936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Enter Hours Spent and Remain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93600" indent="-936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Enter Progress Feedb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292720" y="692280"/>
            <a:ext cx="3238560" cy="2197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"/>
          <p:cNvSpPr/>
          <p:nvPr/>
        </p:nvSpPr>
        <p:spPr>
          <a:xfrm>
            <a:off x="1965240" y="4108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4920" y="115560"/>
            <a:ext cx="828036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a0e66"/>
                </a:solidFill>
                <a:latin typeface="Minion"/>
              </a:rPr>
              <a:t>Enter Progress Feedback (by primary resources)</a:t>
            </a:r>
            <a:endParaRPr b="1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8" name=""/>
          <p:cNvSpPr/>
          <p:nvPr/>
        </p:nvSpPr>
        <p:spPr>
          <a:xfrm>
            <a:off x="395280" y="2565360"/>
            <a:ext cx="835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8000" y="549360"/>
            <a:ext cx="8856720" cy="0"/>
          </a:xfrm>
          <a:prstGeom prst="line">
            <a:avLst/>
          </a:prstGeom>
          <a:ln w="1908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619280" y="4653000"/>
            <a:ext cx="727236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651640" y="1844640"/>
            <a:ext cx="431640" cy="289080"/>
          </a:xfrm>
          <a:prstGeom prst="wedgeEllipseCallout">
            <a:avLst>
              <a:gd name="adj1" fmla="val -55884"/>
              <a:gd name="adj2" fmla="val 17747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19280" y="3436920"/>
            <a:ext cx="367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812000" y="2133720"/>
            <a:ext cx="432000" cy="288720"/>
          </a:xfrm>
          <a:prstGeom prst="wedgeEllipseCallout">
            <a:avLst>
              <a:gd name="adj1" fmla="val -181986"/>
              <a:gd name="adj2" fmla="val 14230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724360" y="2852640"/>
            <a:ext cx="432000" cy="289080"/>
          </a:xfrm>
          <a:prstGeom prst="wedgeEllipseCallout">
            <a:avLst>
              <a:gd name="adj1" fmla="val -61398"/>
              <a:gd name="adj2" fmla="val -115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547640" y="692280"/>
            <a:ext cx="352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660066"/>
                </a:solidFill>
                <a:latin typeface="Minion"/>
                <a:ea typeface="文鼎中黑"/>
              </a:rPr>
              <a:t>To be entered by primary resources onl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buClr>
                <a:srgbClr val="660066"/>
              </a:buClr>
              <a:buFont typeface="Minion"/>
              <a:buAutoNum type="arabicPeriod" startAt="14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660066"/>
                </a:solidFill>
                <a:latin typeface="Minion"/>
                <a:ea typeface="文鼎中黑"/>
              </a:rPr>
              <a:t>Select tab „General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buClr>
                <a:srgbClr val="660066"/>
              </a:buClr>
              <a:buFont typeface="Minion"/>
              <a:buAutoNum type="arabicPeriod" startAt="14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660066"/>
                </a:solidFill>
                <a:latin typeface="Minion"/>
                <a:ea typeface="文鼎中黑"/>
              </a:rPr>
              <a:t>Mark work package started and select date of 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buClr>
                <a:srgbClr val="660066"/>
              </a:buClr>
              <a:buFont typeface="Minion"/>
              <a:buAutoNum type="arabicPeriod" startAt="14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660066"/>
                </a:solidFill>
                <a:latin typeface="Minion"/>
                <a:ea typeface="文鼎中黑"/>
              </a:rPr>
              <a:t>► </a:t>
            </a:r>
            <a:r>
              <a:rPr b="1" lang="de-DE" sz="1200" spc="-1" strike="noStrike">
                <a:solidFill>
                  <a:srgbClr val="660066"/>
                </a:solidFill>
                <a:latin typeface="Minion"/>
                <a:ea typeface="文鼎中黑"/>
              </a:rPr>
              <a:t>Enter „Expected Finish Date“</a:t>
            </a:r>
            <a:r>
              <a:rPr b="0" lang="de-DE" sz="1200" spc="-1" strike="noStrike">
                <a:solidFill>
                  <a:srgbClr val="660066"/>
                </a:solidFill>
                <a:latin typeface="Minion"/>
                <a:ea typeface="文鼎中黑"/>
              </a:rPr>
              <a:t> </a:t>
            </a:r>
            <a:r>
              <a:rPr b="1" lang="de-DE" sz="1200" spc="-1" strike="noStrike">
                <a:solidFill>
                  <a:srgbClr val="660066"/>
                </a:solidFill>
                <a:latin typeface="Minion"/>
                <a:ea typeface="文鼎中黑"/>
              </a:rPr>
              <a:t>for every work package in progress ◄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buClr>
                <a:srgbClr val="660066"/>
              </a:buClr>
              <a:buFont typeface="Minion"/>
              <a:buAutoNum type="arabicPeriod" startAt="14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660066"/>
                </a:solidFill>
                <a:latin typeface="Minion"/>
                <a:ea typeface="文鼎中黑"/>
              </a:rPr>
              <a:t>Mark work package finished when completed and select date of comple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19280" y="2325600"/>
            <a:ext cx="3529080" cy="2254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spcBef>
                <a:spcPts val="300"/>
              </a:spcBef>
              <a:buClr>
                <a:srgbClr val="6600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660066"/>
                </a:solidFill>
                <a:latin typeface="Minion"/>
                <a:ea typeface="文鼎中黑"/>
              </a:rPr>
              <a:t>The cells „Started“, „Finished“, and „Expected Finish Date“ are available for the primary resource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spcBef>
                <a:spcPts val="300"/>
              </a:spcBef>
              <a:buClr>
                <a:srgbClr val="6600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660066"/>
                </a:solidFill>
                <a:latin typeface="Minion"/>
                <a:ea typeface="文鼎中黑"/>
              </a:rPr>
              <a:t>The primary resource (tab „Resources“) is marked with a specific ic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spcBef>
                <a:spcPts val="300"/>
              </a:spcBef>
              <a:buClr>
                <a:srgbClr val="6600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660066"/>
                </a:solidFill>
                <a:latin typeface="Minion"/>
                <a:ea typeface="文鼎中黑"/>
              </a:rPr>
              <a:t>Do not enter „Expected Finish Date“ on a Level of Effort work pack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spcBef>
                <a:spcPts val="300"/>
              </a:spcBef>
              <a:buClr>
                <a:srgbClr val="6600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660066"/>
                </a:solidFill>
                <a:latin typeface="Minion"/>
                <a:ea typeface="文鼎中黑"/>
              </a:rPr>
              <a:t>When a work package is marked finished assigned resources cannot enter actuals anym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435640" y="1484280"/>
            <a:ext cx="431640" cy="289080"/>
          </a:xfrm>
          <a:prstGeom prst="wedgeEllipseCallout">
            <a:avLst>
              <a:gd name="adj1" fmla="val -50736"/>
              <a:gd name="adj2" fmla="val 15824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651640" y="1844640"/>
            <a:ext cx="431640" cy="289080"/>
          </a:xfrm>
          <a:prstGeom prst="wedgeEllipseCallout">
            <a:avLst>
              <a:gd name="adj1" fmla="val 90810"/>
              <a:gd name="adj2" fmla="val 17143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724360" y="2852640"/>
            <a:ext cx="432000" cy="289080"/>
          </a:xfrm>
          <a:prstGeom prst="wedgeEllipseCallout">
            <a:avLst>
              <a:gd name="adj1" fmla="val 67648"/>
              <a:gd name="adj2" fmla="val -978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3781440" y="3357720"/>
            <a:ext cx="142920" cy="1616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3080" y="692280"/>
            <a:ext cx="1474560" cy="5616360"/>
          </a:xfrm>
          <a:prstGeom prst="rect">
            <a:avLst/>
          </a:pr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3600" indent="-936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Cont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3600" indent="-936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Start and Login</a:t>
            </a: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93600" indent="-936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Open Timesheet</a:t>
            </a: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93600" indent="-936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Enter Hours Spent and Remain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93600" indent="-936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Enter Progress Feedb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23T13:57:11Z</dcterms:created>
  <dc:creator>Reinholdt Hansen</dc:creator>
  <dc:description>- V0.1 - 6.1.06 - reh - initial BenQ version based on "Quick Guide_Enter_Project_Time_041203.doc" by Oliver Mucha
Version number changed to 1.0 - 25 January 2006 - OSM</dc:description>
  <dc:language>en-US</dc:language>
  <cp:lastModifiedBy>Ole Sletting Madsen</cp:lastModifiedBy>
  <dcterms:modified xsi:type="dcterms:W3CDTF">2006-01-25T10:17:45Z</dcterms:modified>
  <cp:revision>69</cp:revision>
  <dc:subject/>
  <dc:title>How to use Timesheets</dc:title>
</cp:coreProperties>
</file>