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9969A-65F2-4413-AF07-CB1A9C7A0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570B4-7A04-4581-BCCA-E4C490BAF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FE6D3-5347-402F-9C20-7E1B9A374D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56AED-8123-4452-B727-8DC72BAF69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C247D-DBC6-43AE-8117-305B3C2BAC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B7EDC-C0EE-4631-8B69-46B648E14B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92FA4-36F6-48C1-8280-BCB7ACC90E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F2706-F280-47B0-9401-2E6498F487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D656B-AA90-4CCD-B5A3-D0BC5F5555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6B1CE-AD65-4928-BD90-D12EAE2F4C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8967D-59F4-42A9-B9A0-F496E1AA37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191A2-6BF3-440D-BE24-2C78AC29F7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4A6D-E853-4003-8A66-FC4BFA8E1A1C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- Version 5.0 – 15 December 2005 – Page </a:t>
            </a:r>
            <a:fld id="{6593746D-C607-450E-9849-B9656C9665D4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of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primavera_support@benq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Primavera_support@benq.com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988640"/>
            <a:ext cx="701028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Maintain Resource tree in Primavera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ann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5 December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57336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This guide describes an easy way - for the Line Managers - to maintain the resource data in Primav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Basic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This guide will give a definition of the required information and guidance how to administrate resource data in Primavera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The Line Manager must secure that the  resource data - necessary to maintain the resource tree in Primavera - is available and up to date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All maintenance requests must be sent to Planning Office (</a:t>
            </a:r>
            <a:r>
              <a:rPr b="0" lang="en-US" sz="2400" spc="-1" strike="noStrike" u="sng">
                <a:solidFill>
                  <a:srgbClr val="800080"/>
                </a:solidFill>
                <a:uFillTx/>
                <a:latin typeface="Minion"/>
                <a:hlinkClick r:id="rId1"/>
              </a:rPr>
              <a:t>primavera_support@benq.com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)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Planning Office will update the resources according to the received information. 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24000" y="1990800"/>
            <a:ext cx="2833920" cy="27050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How to set up Primavera!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a0e66"/>
                </a:solidFill>
                <a:latin typeface="Minion"/>
              </a:rPr>
              <a:t>The easiest way of reporting any change(s) to the Resource-tree, is by copying the concerned part of the Resource-tree to MS Excel - following these steps.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a0e66"/>
                </a:solidFill>
                <a:latin typeface="Minion"/>
              </a:rPr>
              <a:t>   </a:t>
            </a:r>
            <a:r>
              <a:rPr b="0" lang="en-GB" sz="1800" spc="-1" strike="noStrike">
                <a:solidFill>
                  <a:srgbClr val="3a0e66"/>
                </a:solidFill>
                <a:latin typeface="Minion"/>
              </a:rPr>
              <a:t>Start Primavera Project Manager and go to Resource area.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2565360"/>
            <a:ext cx="1295640" cy="457200"/>
          </a:xfrm>
          <a:prstGeom prst="wedgeRoundRectCallout">
            <a:avLst>
              <a:gd name="adj1" fmla="val -127449"/>
              <a:gd name="adj2" fmla="val 659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31640" y="4365720"/>
            <a:ext cx="8280720" cy="1866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957400" y="3405240"/>
            <a:ext cx="685800" cy="1066680"/>
          </a:xfrm>
          <a:prstGeom prst="downArrow">
            <a:avLst>
              <a:gd name="adj1" fmla="val 50000"/>
              <a:gd name="adj2" fmla="val 38885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240360" cy="3178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How to set up Primavera!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a0e66"/>
                </a:solidFill>
                <a:latin typeface="Minion"/>
              </a:rPr>
              <a:t>The columns in the window can be modified.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992160"/>
            <a:ext cx="73929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1751040"/>
            <a:ext cx="2060640" cy="1143000"/>
          </a:xfrm>
          <a:prstGeom prst="wedgeRoundRectCallout">
            <a:avLst>
              <a:gd name="adj1" fmla="val -122421"/>
              <a:gd name="adj2" fmla="val 1158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lick on the mouse and select columns and custom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49760" y="4268880"/>
            <a:ext cx="457200" cy="306360"/>
          </a:xfrm>
          <a:prstGeom prst="rightArrow">
            <a:avLst>
              <a:gd name="adj1" fmla="val 50000"/>
              <a:gd name="adj2" fmla="val 3730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564000" y="3284640"/>
            <a:ext cx="5210280" cy="2381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55640" y="4581360"/>
            <a:ext cx="2665440" cy="1683000"/>
          </a:xfrm>
          <a:prstGeom prst="wedgeRoundRectCallout">
            <a:avLst>
              <a:gd name="adj1" fmla="val 140351"/>
              <a:gd name="adj2" fmla="val -57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this view it is possible to select the needed columns. Please include all the columns shown in this window and order them as shown he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43640" y="1413000"/>
            <a:ext cx="2514600" cy="1373040"/>
          </a:xfrm>
          <a:prstGeom prst="wedgeRoundRectCallout">
            <a:avLst>
              <a:gd name="adj1" fmla="val 22412"/>
              <a:gd name="adj2" fmla="val 1059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fter selecting the columns you press OK and the columns will be shown in the resource wind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How to set up Primavera!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a0e66"/>
                </a:solidFill>
                <a:latin typeface="Minion"/>
              </a:rPr>
              <a:t>The content in the resource window can be copied and pasted to Excel.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992160"/>
            <a:ext cx="73929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6413400" cy="3519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010280" y="1371600"/>
            <a:ext cx="1981440" cy="1371600"/>
          </a:xfrm>
          <a:prstGeom prst="wedgeRoundRectCallout">
            <a:avLst>
              <a:gd name="adj1" fmla="val -84134"/>
              <a:gd name="adj2" fmla="val 120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rk the concerned resources and then select cop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4360" y="5229360"/>
            <a:ext cx="7264080" cy="927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43920" y="4040280"/>
            <a:ext cx="1576080" cy="914400"/>
          </a:xfrm>
          <a:prstGeom prst="wedgeRoundRectCallout">
            <a:avLst>
              <a:gd name="adj1" fmla="val -228249"/>
              <a:gd name="adj2" fmla="val 10607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ste into an MS Excel She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Excel shee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a0e66"/>
                </a:solidFill>
                <a:latin typeface="Minion"/>
              </a:rPr>
              <a:t>In MS Excel you can make the corrections and/or add new resources to the tree. Please mark all corrections with a yellow colour.</a:t>
            </a:r>
            <a:r>
              <a:rPr b="0" lang="en-GB" sz="32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"/>
          <p:cNvSpPr/>
          <p:nvPr/>
        </p:nvSpPr>
        <p:spPr>
          <a:xfrm>
            <a:off x="2987640" y="4437000"/>
            <a:ext cx="3657600" cy="1676520"/>
          </a:xfrm>
          <a:prstGeom prst="wedgeRoundRectCallout">
            <a:avLst>
              <a:gd name="adj1" fmla="val -12629"/>
              <a:gd name="adj2" fmla="val 279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fter the corrections are made then send the sheet to: </a:t>
            </a:r>
            <a:r>
              <a:rPr b="0" lang="en-GB" sz="1600" spc="-1" strike="noStrike" u="sng">
                <a:solidFill>
                  <a:srgbClr val="800080"/>
                </a:solidFill>
                <a:uFillTx/>
                <a:latin typeface="Arial"/>
                <a:hlinkClick r:id="rId1"/>
              </a:rPr>
              <a:t>Primavera_support@benq.co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ning Office will update the resources in Primavera according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8136000" cy="1123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804000" y="3213000"/>
            <a:ext cx="1970280" cy="1447920"/>
          </a:xfrm>
          <a:prstGeom prst="wedgeRoundRectCallout">
            <a:avLst>
              <a:gd name="adj1" fmla="val -36787"/>
              <a:gd name="adj2" fmla="val -27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new resources in the department a Start Date must be set. This column has to be added in the MS excel-she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4920" y="3430440"/>
            <a:ext cx="1801800" cy="838440"/>
          </a:xfrm>
          <a:prstGeom prst="wedgeRoundRectCallout">
            <a:avLst>
              <a:gd name="adj1" fmla="val -49296"/>
              <a:gd name="adj2" fmla="val -1761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rk cells needed corrections with yello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1960" y="3200400"/>
            <a:ext cx="1676160" cy="1236600"/>
          </a:xfrm>
          <a:prstGeom prst="wedgeRoundRectCallout">
            <a:avLst>
              <a:gd name="adj1" fmla="val -11458"/>
              <a:gd name="adj2" fmla="val -7207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new resource can be set in like this. Planning Office will give an I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04000" y="4724280"/>
            <a:ext cx="2016000" cy="1447920"/>
          </a:xfrm>
          <a:prstGeom prst="wedgeRoundRectCallout">
            <a:avLst>
              <a:gd name="adj1" fmla="val 31101"/>
              <a:gd name="adj2" fmla="val -4100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f an end date is known for the resource it can be set. This column has to be added in the MS excel-she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Which information's is required?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Minion"/>
              </a:rPr>
              <a:t>The following resource data is required: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 u="sng">
                <a:solidFill>
                  <a:srgbClr val="3a0e66"/>
                </a:solidFill>
                <a:uFillTx/>
                <a:latin typeface="Minion"/>
              </a:rPr>
              <a:t>Resource ID</a:t>
            </a:r>
            <a:r>
              <a:rPr b="0" i="1" lang="en-US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1" i="1" lang="en-US" sz="1300" spc="-1" strike="noStrike">
                <a:solidFill>
                  <a:srgbClr val="3a0e66"/>
                </a:solidFill>
                <a:latin typeface="Minion"/>
              </a:rPr>
              <a:t>is given by Planning Office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  <a:ea typeface="Times New Roman"/>
              </a:rPr>
              <a:t>Name</a:t>
            </a: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. 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The name of the Resource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  <a:ea typeface="Times New Roman"/>
              </a:rPr>
              <a:t>E-mail. 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The e-mail is needed for all Resources when possible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  <a:ea typeface="Times New Roman"/>
              </a:rPr>
              <a:t>Location</a:t>
            </a: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. 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This is the location where the resource is working e.g. MCH, KLF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  <a:ea typeface="Times New Roman"/>
              </a:rPr>
              <a:t>Department</a:t>
            </a: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. 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This is the department abbreviation where the resource is working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  <a:ea typeface="Times New Roman"/>
              </a:rPr>
              <a:t>SAP-Account.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 This is the SAP account for the department where the resource is working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  <a:ea typeface="Times New Roman"/>
              </a:rPr>
              <a:t>Employee type</a:t>
            </a: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. 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Is HC, INTCON, EXTCON, STUD, NOLABOR or TITLE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24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3a0e66"/>
                </a:solidFill>
                <a:uFillTx/>
                <a:latin typeface="Minion"/>
              </a:rPr>
              <a:t>HC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</a:rPr>
              <a:t> are BenQ Employees (Headcounts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24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3a0e66"/>
                </a:solidFill>
                <a:uFillTx/>
                <a:latin typeface="Minion"/>
              </a:rPr>
              <a:t>INTCON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</a:rPr>
              <a:t> are Internal consultants, who according to their contract are treated like a HC employee (in Germany: AÜG).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24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3a0e66"/>
                </a:solidFill>
                <a:uFillTx/>
                <a:latin typeface="Minion"/>
              </a:rPr>
              <a:t>EXTCON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</a:rPr>
              <a:t> are External consultants, who are paid for a deliverable (in Germany: Werkvertrag) and their work is not planned in hours nor tracked in Timesheets.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24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3a0e66"/>
                </a:solidFill>
                <a:uFillTx/>
                <a:latin typeface="Minion"/>
              </a:rPr>
              <a:t>STUD</a:t>
            </a:r>
            <a:r>
              <a:rPr b="0" lang="en-US" sz="1000" spc="-1" strike="noStrike">
                <a:solidFill>
                  <a:srgbClr val="3a0e66"/>
                </a:solidFill>
                <a:latin typeface="Minion"/>
              </a:rPr>
              <a:t> is Students or Trainees.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24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 u="sng">
                <a:solidFill>
                  <a:srgbClr val="3a0e66"/>
                </a:solidFill>
                <a:uFillTx/>
                <a:latin typeface="Minion"/>
              </a:rPr>
              <a:t>NOLABOR</a:t>
            </a:r>
            <a:r>
              <a:rPr b="0" lang="da-DK" sz="1000" spc="-1" strike="noStrike">
                <a:solidFill>
                  <a:srgbClr val="3a0e66"/>
                </a:solidFill>
                <a:latin typeface="Minion"/>
              </a:rPr>
              <a:t> is non labour Resourc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249"/>
              </a:spcBef>
              <a:buClr>
                <a:srgbClr val="3a0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 u="sng">
                <a:solidFill>
                  <a:srgbClr val="3a0e66"/>
                </a:solidFill>
                <a:uFillTx/>
                <a:latin typeface="Minion"/>
              </a:rPr>
              <a:t>TITLE </a:t>
            </a:r>
            <a:r>
              <a:rPr b="0" lang="da-DK" sz="1000" spc="-1" strike="noStrike">
                <a:solidFill>
                  <a:srgbClr val="3a0e66"/>
                </a:solidFill>
                <a:latin typeface="Minion"/>
              </a:rPr>
              <a:t>is used for a Resource group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  <a:ea typeface="Times New Roman"/>
              </a:rPr>
              <a:t>Max and Default Units/time</a:t>
            </a: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. 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Is set according to the table at the next page in this guide (same value for every weekday). 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  <a:ea typeface="Times New Roman"/>
              </a:rPr>
              <a:t>Role</a:t>
            </a: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.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 The primary role has to be set for the resource.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  <a:ea typeface="Times New Roman"/>
              </a:rPr>
              <a:t>Uses Timesheet</a:t>
            </a: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 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has to be marked for resources when they must use Timesheets. Do not mark this field before the Timesheet Approval Manager is known.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  <a:ea typeface="Times New Roman"/>
              </a:rPr>
              <a:t>Timesheet Approval Manager</a:t>
            </a: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 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Times New Roman"/>
              </a:rPr>
              <a:t>has to be inserted when the field Uses Timesheet is marked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</a:rPr>
              <a:t>Start date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</a:rPr>
              <a:t>End date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</a:rPr>
              <a:t> (if any)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326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3a0e66"/>
                </a:solidFill>
                <a:uFillTx/>
                <a:latin typeface="Minion"/>
                <a:ea typeface="Arial"/>
              </a:rPr>
              <a:t>Non Billing in SAP</a:t>
            </a:r>
            <a:r>
              <a:rPr b="0" lang="en-US" sz="1300" spc="-1" strike="noStrike">
                <a:solidFill>
                  <a:srgbClr val="3a0e66"/>
                </a:solidFill>
                <a:latin typeface="Minion"/>
                <a:ea typeface="Arial"/>
              </a:rPr>
              <a:t> </a:t>
            </a:r>
            <a:r>
              <a:rPr b="1" lang="en-US" sz="1300" spc="-1" strike="noStrike">
                <a:solidFill>
                  <a:srgbClr val="3a0e66"/>
                </a:solidFill>
                <a:latin typeface="Minion"/>
                <a:ea typeface="Arial"/>
              </a:rPr>
              <a:t>(yes/no)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a0e66"/>
                </a:solidFill>
                <a:latin typeface="Minion"/>
              </a:rPr>
              <a:t>Settings of limit and default working time in Primavera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80880" y="990720"/>
          <a:ext cx="8078040" cy="5174640"/>
        </p:xfrm>
        <a:graphic>
          <a:graphicData uri="http://schemas.openxmlformats.org/drawingml/2006/table">
            <a:tbl>
              <a:tblPr/>
              <a:tblGrid>
                <a:gridCol w="4041360"/>
                <a:gridCol w="4036680"/>
              </a:tblGrid>
              <a:tr h="11185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Working time [weekly] </a:t>
                      </a:r>
                      <a:r>
                        <a:rPr b="0" i="1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According to contra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imit in Primavera [daily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a-DK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Default and max units/tim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31,3 h – 33,7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6,0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33,8 h – 36,2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6,5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36,3 h – 38,7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7,0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38,8 h – 41,2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7,5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41,3 h – 43,7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8,0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&gt;= 43,8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2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8,5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15:39:06Z</dcterms:created>
  <dc:creator>Jacob Juul</dc:creator>
  <dc:description>5.0 Released 15.12.05 Jacob Juul</dc:description>
  <dc:language>en-US</dc:language>
  <cp:lastModifiedBy>Ole Sletting Madsen</cp:lastModifiedBy>
  <dcterms:modified xsi:type="dcterms:W3CDTF">2006-02-07T12:28:00Z</dcterms:modified>
  <cp:revision>16</cp:revision>
  <dc:subject/>
  <dc:title>Maintain Resource tree in Primavera</dc:title>
</cp:coreProperties>
</file>