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- </a:t>
            </a:r>
            <a:r>
              <a:rPr b="0" lang="en-GB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1 January 2006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- Version 4.0 - Page </a:t>
            </a:r>
            <a:fld id="{032D1978-967E-4014-A454-1B5ABE211799}" type="slidenum">
              <a:rPr b="0" lang="zh-TW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000066"/>
                </a:solidFill>
                <a:latin typeface="Times New Roman"/>
                <a:ea typeface="文鼎中黑"/>
              </a:rPr>
              <a:t> of 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Minion"/>
              </a:rPr>
              <a:t>Capacity and load in Primavera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1 January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6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Resource load on running projects in PV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603360" y="1979280"/>
            <a:ext cx="0" cy="28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3360" y="480384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3360" y="4575240"/>
            <a:ext cx="5648040" cy="228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3360" y="2514600"/>
            <a:ext cx="22860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3360" y="3200400"/>
            <a:ext cx="2900160" cy="2300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3360" y="3430440"/>
            <a:ext cx="397008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3360" y="3659040"/>
            <a:ext cx="427500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3360" y="3887640"/>
            <a:ext cx="480852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3360" y="4116240"/>
            <a:ext cx="5038560" cy="230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3360" y="4346640"/>
            <a:ext cx="5343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3360" y="2971800"/>
            <a:ext cx="17557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3360" y="2743200"/>
            <a:ext cx="122220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3360" y="2666880"/>
            <a:ext cx="5800680" cy="2136960"/>
          </a:xfrm>
          <a:custGeom>
            <a:avLst/>
            <a:gdLst/>
            <a:ahLst/>
            <a:rect l="l" t="t" r="r" b="b"/>
            <a:pathLst>
              <a:path w="3654" h="1346">
                <a:moveTo>
                  <a:pt x="0" y="0"/>
                </a:moveTo>
                <a:cubicBezTo>
                  <a:pt x="360" y="52"/>
                  <a:pt x="721" y="104"/>
                  <a:pt x="1106" y="192"/>
                </a:cubicBezTo>
                <a:cubicBezTo>
                  <a:pt x="1491" y="280"/>
                  <a:pt x="1883" y="337"/>
                  <a:pt x="2308" y="529"/>
                </a:cubicBezTo>
                <a:cubicBezTo>
                  <a:pt x="2733" y="721"/>
                  <a:pt x="3430" y="1210"/>
                  <a:pt x="3654" y="13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720" y="2997360"/>
            <a:ext cx="35859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in Primavera for runn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62080" y="4838760"/>
            <a:ext cx="52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6440" y="1557360"/>
            <a:ext cx="652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3360" y="2514600"/>
            <a:ext cx="557208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254640" y="2284560"/>
            <a:ext cx="935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esource load in PMC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"/>
          <p:cNvSpPr/>
          <p:nvPr/>
        </p:nvSpPr>
        <p:spPr>
          <a:xfrm>
            <a:off x="584280" y="2284560"/>
            <a:ext cx="5648400" cy="229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84280" y="205596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4320" y="2286000"/>
            <a:ext cx="541836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2800" y="3657600"/>
            <a:ext cx="839880" cy="230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3430440"/>
            <a:ext cx="137340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4360" y="3201840"/>
            <a:ext cx="167832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4440" y="2971800"/>
            <a:ext cx="274824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2743200"/>
            <a:ext cx="3894120" cy="23004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06480" y="2514600"/>
            <a:ext cx="442764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622840" y="3887640"/>
            <a:ext cx="60984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27760" y="4118040"/>
            <a:ext cx="30492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85320" y="2438280"/>
            <a:ext cx="253728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om com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in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622840" y="2743200"/>
            <a:ext cx="106848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9080" y="3430440"/>
            <a:ext cx="266076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 from Running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3360" y="457524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6440" y="1557360"/>
            <a:ext cx="6523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562080" y="4575240"/>
            <a:ext cx="5288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3a0e66"/>
                </a:solidFill>
                <a:latin typeface="Minion"/>
              </a:rPr>
              <a:t>Resource load – overall pictur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02680" y="707760"/>
            <a:ext cx="73933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1" name=""/>
          <p:cNvSpPr/>
          <p:nvPr/>
        </p:nvSpPr>
        <p:spPr>
          <a:xfrm>
            <a:off x="203040" y="744480"/>
            <a:ext cx="7393320" cy="55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806400" y="779040"/>
            <a:ext cx="0" cy="282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6400" y="360360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6400" y="3375000"/>
            <a:ext cx="5648400" cy="2286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6400" y="1314360"/>
            <a:ext cx="22860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06400" y="2000160"/>
            <a:ext cx="2900520" cy="230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6400" y="2230560"/>
            <a:ext cx="397044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6400" y="2459160"/>
            <a:ext cx="427536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6400" y="2687760"/>
            <a:ext cx="4808520" cy="228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06400" y="2916360"/>
            <a:ext cx="5038920" cy="2300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6400" y="3146400"/>
            <a:ext cx="534348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6400" y="1771560"/>
            <a:ext cx="1755720" cy="2286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6400" y="1542960"/>
            <a:ext cx="1222560" cy="228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400" y="1467000"/>
            <a:ext cx="5800680" cy="2136600"/>
          </a:xfrm>
          <a:custGeom>
            <a:avLst/>
            <a:gdLst/>
            <a:ahLst/>
            <a:rect l="l" t="t" r="r" b="b"/>
            <a:pathLst>
              <a:path w="3654" h="1346">
                <a:moveTo>
                  <a:pt x="0" y="0"/>
                </a:moveTo>
                <a:cubicBezTo>
                  <a:pt x="360" y="52"/>
                  <a:pt x="721" y="104"/>
                  <a:pt x="1106" y="192"/>
                </a:cubicBezTo>
                <a:cubicBezTo>
                  <a:pt x="1491" y="280"/>
                  <a:pt x="1883" y="337"/>
                  <a:pt x="2308" y="529"/>
                </a:cubicBezTo>
                <a:cubicBezTo>
                  <a:pt x="2733" y="721"/>
                  <a:pt x="3430" y="1210"/>
                  <a:pt x="3654" y="13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65960" y="1003320"/>
            <a:ext cx="15102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vera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7320" y="3908520"/>
            <a:ext cx="5648400" cy="22906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787320" y="36799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17720" y="3909960"/>
            <a:ext cx="541800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95840" y="5281560"/>
            <a:ext cx="839880" cy="230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62680" y="5054760"/>
            <a:ext cx="137304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57760" y="4826160"/>
            <a:ext cx="167796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87840" y="4595760"/>
            <a:ext cx="274788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43040" y="4367160"/>
            <a:ext cx="3894120" cy="2304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9880" y="4138560"/>
            <a:ext cx="442728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26240" y="5511960"/>
            <a:ext cx="609480" cy="2286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30800" y="5742000"/>
            <a:ext cx="304920" cy="228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825880" y="4367160"/>
            <a:ext cx="106812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81280" y="5221440"/>
            <a:ext cx="275220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ial ongoing: Focus only 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2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er of planned ho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46280" y="2992320"/>
            <a:ext cx="382680" cy="1984320"/>
          </a:xfrm>
          <a:prstGeom prst="downArrow">
            <a:avLst>
              <a:gd name="adj1" fmla="val 50000"/>
              <a:gd name="adj2" fmla="val 129633"/>
            </a:avLst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-25920" y="2235600"/>
            <a:ext cx="112608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v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245160" y="4792320"/>
            <a:ext cx="5958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6400" y="6199200"/>
            <a:ext cx="618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93080" y="3933720"/>
            <a:ext cx="180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inion"/>
                <a:ea typeface="文鼎中黑"/>
              </a:rPr>
              <a:t>Load from coming projects only in PM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0e66"/>
                </a:solidFill>
                <a:latin typeface="Minion"/>
              </a:rPr>
              <a:t>Working time for a resourc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03360" y="1902960"/>
            <a:ext cx="0" cy="32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3360" y="5108400"/>
            <a:ext cx="5114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3360" y="2514600"/>
            <a:ext cx="38163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19720" y="2514600"/>
            <a:ext cx="0" cy="259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4680" y="2514600"/>
            <a:ext cx="0" cy="2593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4680" y="2514600"/>
            <a:ext cx="7635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9080" y="1521000"/>
            <a:ext cx="4266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/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2244600"/>
            <a:ext cx="20635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ct work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10560" y="5632560"/>
            <a:ext cx="8229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ts val="8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lid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649760" y="487944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3360" y="274320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4680" y="2743200"/>
            <a:ext cx="83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2000" bIns="-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518840" y="1903320"/>
            <a:ext cx="45900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98520" y="2681280"/>
            <a:ext cx="187128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ts val="7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produ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7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1633680"/>
            <a:ext cx="457200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ministration/Training &amp; Absence (excl. holid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66920" y="2514600"/>
            <a:ext cx="75960" cy="228600"/>
          </a:xfrm>
          <a:custGeom>
            <a:avLst/>
            <a:gdLst>
              <a:gd name="textAreaLeft" fmla="*/ 0 w 75960"/>
              <a:gd name="textAreaRight" fmla="*/ 27360 w 7596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Limit shown in Primavera for a resource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2" name=""/>
          <p:cNvSpPr/>
          <p:nvPr/>
        </p:nvSpPr>
        <p:spPr>
          <a:xfrm>
            <a:off x="909720" y="3181320"/>
            <a:ext cx="29001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-70560" bIns="-7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909720" y="1577880"/>
            <a:ext cx="1440" cy="160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9720" y="1882800"/>
            <a:ext cx="228600" cy="1298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38320" y="2036880"/>
            <a:ext cx="230040" cy="1144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68360" y="1882800"/>
            <a:ext cx="228600" cy="12985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96960" y="2189160"/>
            <a:ext cx="228600" cy="9921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5560" y="1959120"/>
            <a:ext cx="228600" cy="12222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4160" y="2646360"/>
            <a:ext cx="228600" cy="5349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4560" y="2265480"/>
            <a:ext cx="228600" cy="9158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13160" y="2417760"/>
            <a:ext cx="228600" cy="76356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9720" y="1884240"/>
            <a:ext cx="2367000" cy="1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0200" bIns="-70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1760" y="2570040"/>
            <a:ext cx="228600" cy="6112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1730520"/>
            <a:ext cx="75960" cy="152280"/>
          </a:xfrm>
          <a:custGeom>
            <a:avLst/>
            <a:gdLst>
              <a:gd name="textAreaLeft" fmla="*/ 0 w 75960"/>
              <a:gd name="textAreaRight" fmla="*/ 27360 w 7596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9720" y="1730520"/>
            <a:ext cx="2367000" cy="1440"/>
          </a:xfrm>
          <a:prstGeom prst="line">
            <a:avLst/>
          </a:prstGeom>
          <a:ln w="324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70560" bIns="-70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40440" y="1630440"/>
            <a:ext cx="3474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/Training &amp; Absence (excl. holi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49960" y="1197000"/>
            <a:ext cx="1621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ct working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82400" y="1425600"/>
            <a:ext cx="382680" cy="23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7840" y="2092320"/>
            <a:ext cx="18500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 shown in Primav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2511000" y="1960200"/>
            <a:ext cx="306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0720" y="3540240"/>
            <a:ext cx="3664080" cy="27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spAutoFit/>
          </a:bodyPr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imit shown in Primavera is individual for each resour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aily working time from the contract is reduced by 0,5 hours to take in account that a resource cannot be 100% productiv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granularity in Primavera for the limit should be not lower than 0,5 h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99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 limit in Primavera has to be set according to the following tabl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3240" y="1204920"/>
            <a:ext cx="527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40360" y="3132000"/>
            <a:ext cx="44193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onclusion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Primavera planning tool cover approved running projects. Valid from M0, C0, I0, …. (the pre-work to be booked in a Pre M0, Pre C0, Pre I0,.. project)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future projects are planned only in PMC. </a:t>
            </a:r>
            <a:br>
              <a:rPr sz="2800"/>
            </a:b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refore only in PMC we have the complete picture regarding planned load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The limit for working time in Primavera show the contract working time reduced by 0,5 hour to leave space for the non productive work.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a0e66"/>
                </a:solidFill>
                <a:latin typeface="Minion"/>
              </a:rPr>
              <a:t> 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1T08:00:02Z</dcterms:created>
  <dc:creator>Finn Møller Jensen</dc:creator>
  <dc:description>Version 4.0</dc:description>
  <dc:language>en-US</dc:language>
  <cp:lastModifiedBy>Ole Sletting Madsen</cp:lastModifiedBy>
  <dcterms:modified xsi:type="dcterms:W3CDTF">2006-03-07T14:24:43Z</dcterms:modified>
  <cp:revision>5</cp:revision>
  <dc:subject/>
  <dc:title>Capacity and load in Primavera</dc:title>
</cp:coreProperties>
</file>