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5 December 2005 – version 3.0 - Page </a:t>
            </a:r>
            <a:fld id="{DECA5F1A-72B0-42A9-B58F-43370257A233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5758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How to initiate Tracking View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for analysing resources.</a:t>
            </a:r>
            <a:br>
              <a:rPr sz="4000"/>
            </a:b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how to set up Tracking View in Primavera Project Manager for analysing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38480" cy="299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4137120"/>
            <a:ext cx="936720" cy="457200"/>
          </a:xfrm>
          <a:prstGeom prst="wedgeRoundRectCallout">
            <a:avLst>
              <a:gd name="adj1" fmla="val -235930"/>
              <a:gd name="adj2" fmla="val -17465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276640"/>
            <a:ext cx="936720" cy="685800"/>
          </a:xfrm>
          <a:prstGeom prst="wedgeRoundRectCallout">
            <a:avLst>
              <a:gd name="adj1" fmla="val -354236"/>
              <a:gd name="adj2" fmla="val -6550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Group and Sort settings for the lower left corner has to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005440" cy="26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3213000"/>
            <a:ext cx="1523880" cy="762120"/>
          </a:xfrm>
          <a:prstGeom prst="wedgeRoundRectCallout">
            <a:avLst>
              <a:gd name="adj1" fmla="val -153750"/>
              <a:gd name="adj2" fmla="val -156250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roup and sort for the resource view has to be set as shown be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324320" cy="2943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Unit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628640"/>
            <a:ext cx="1152720" cy="762120"/>
          </a:xfrm>
          <a:prstGeom prst="wedgeRoundRectCallout">
            <a:avLst>
              <a:gd name="adj1" fmla="val -334986"/>
              <a:gd name="adj2" fmla="val 3687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Right 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664000" cy="156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64000" y="2598840"/>
            <a:ext cx="2664000" cy="1657080"/>
          </a:xfrm>
          <a:prstGeom prst="wedgeRoundRectCallout">
            <a:avLst>
              <a:gd name="adj1" fmla="val -89870"/>
              <a:gd name="adj2" fmla="val -2662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e type of units needed to be shown. If choosing Customize more than one type can be in th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1720" y="4537080"/>
            <a:ext cx="863640" cy="31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 units can be shown in this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860720" cy="357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 Tracking View Layout is now build up and analyses of resources can st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746440"/>
            <a:ext cx="76320" cy="718920"/>
          </a:xfrm>
          <a:custGeom>
            <a:avLst/>
            <a:gdLst>
              <a:gd name="textAreaLeft" fmla="*/ 0 w 76320"/>
              <a:gd name="textAreaRight" fmla="*/ 27360 w 763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106800"/>
            <a:ext cx="2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07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“building” the Tracking View the Start Up Filter have to be set back -  in the User Prefer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365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3280" y="2060640"/>
            <a:ext cx="6135480" cy="3876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Global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"/>
          <p:cNvSpPr/>
          <p:nvPr/>
        </p:nvSpPr>
        <p:spPr>
          <a:xfrm>
            <a:off x="430200" y="2852640"/>
            <a:ext cx="7207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4920" y="278136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5280" y="2278080"/>
            <a:ext cx="1573200" cy="585720"/>
          </a:xfrm>
          <a:prstGeom prst="wedgeRoundRectCallout">
            <a:avLst>
              <a:gd name="adj1" fmla="val -67962"/>
              <a:gd name="adj2" fmla="val 15406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Global Line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19280" y="2878200"/>
            <a:ext cx="1595520" cy="14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4920" y="429408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907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following slides show the planned efforts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t is e.g. possible to see which projects the resources have booked their effort on and/or to see which project they are assigned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292720" cy="3899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Depart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076640"/>
            <a:ext cx="1511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1916280"/>
            <a:ext cx="1608120" cy="761760"/>
          </a:xfrm>
          <a:prstGeom prst="wedgeRoundRectCallout">
            <a:avLst>
              <a:gd name="adj1" fmla="val -108736"/>
              <a:gd name="adj2" fmla="val 6312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Department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2781360"/>
            <a:ext cx="1873440" cy="1287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13440" cy="385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4149720"/>
            <a:ext cx="15829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oad and Projects in a Department by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3456000" cy="180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9640" y="3284640"/>
            <a:ext cx="1224000" cy="576000"/>
          </a:xfrm>
          <a:prstGeom prst="wedgeRoundRectCallout">
            <a:avLst>
              <a:gd name="adj1" fmla="val -89041"/>
              <a:gd name="adj2" fmla="val 1224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Remove checkmark to show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240" y="2003400"/>
            <a:ext cx="2350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59280" y="2276640"/>
            <a:ext cx="50472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628640"/>
            <a:ext cx="1441440" cy="838440"/>
          </a:xfrm>
          <a:prstGeom prst="wedgeRoundRectCallout">
            <a:avLst>
              <a:gd name="adj1" fmla="val -24337"/>
              <a:gd name="adj2" fmla="val 7140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projects &amp; efforts by resource for selected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84360" y="2492280"/>
            <a:ext cx="71928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02280" cy="3845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of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628640"/>
            <a:ext cx="1243080" cy="720720"/>
          </a:xfrm>
          <a:prstGeom prst="wedgeRoundRectCallout">
            <a:avLst>
              <a:gd name="adj1" fmla="val -10027"/>
              <a:gd name="adj2" fmla="val 929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of selected 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76640"/>
            <a:ext cx="1079640" cy="27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00000" y="2421000"/>
            <a:ext cx="647640" cy="151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836640"/>
            <a:ext cx="84247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Tracking View will include a heavy data-transfer, it is absolutely necessary to set up Tracking View as mentioned in the slides of step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(This should only be done o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1" action="ppaction://hlinksldjump"/>
              </a:rPr>
              <a:t>Initiate Tracking View (when never used before)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 action="ppaction://hlinksldjump"/>
              </a:rPr>
              <a:t>–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 Page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slides in step B show the planned effort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Tracking View – Pag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!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racking View is based on summaries data which are calculated every night. If recent changes to a project should be included - the project must be open. Then online values will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74920" cy="34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653840" y="4027320"/>
            <a:ext cx="131436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3280" y="4416480"/>
            <a:ext cx="86328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o to User Preferences under EDIT in Primavera Project Manager and change the settings of Start Up Fil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4360" cy="26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341440" y="3105000"/>
            <a:ext cx="21456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0520" y="27115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Start Up Filters shown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365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3421080" cy="258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216000" cy="110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640" y="1413000"/>
            <a:ext cx="1512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2276640"/>
            <a:ext cx="396720" cy="29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2637000"/>
            <a:ext cx="936720" cy="46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the Tracking View by using one of the shown but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pushing the button it can take some time before the Tracking view is shown. Just be patient. </a:t>
            </a:r>
            <a:r>
              <a:rPr b="1" lang="en-GB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layou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hen the view is opened - select the Layout: BenQ Department Resourc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6872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4255920"/>
            <a:ext cx="1368360" cy="757440"/>
          </a:xfrm>
          <a:prstGeom prst="wedgeRoundRectCallout">
            <a:avLst>
              <a:gd name="adj1" fmla="val -244777"/>
              <a:gd name="adj2" fmla="val 3469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is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1368360" cy="1008000"/>
          </a:xfrm>
          <a:prstGeom prst="wedgeRoundRectCallout">
            <a:avLst>
              <a:gd name="adj1" fmla="val -116356"/>
              <a:gd name="adj2" fmla="val -1850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Press to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all lay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91120" cy="25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2133720"/>
            <a:ext cx="934920" cy="685800"/>
          </a:xfrm>
          <a:prstGeom prst="wedgeRoundRectCallout">
            <a:avLst>
              <a:gd name="adj1" fmla="val -330643"/>
              <a:gd name="adj2" fmla="val 6828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3500280"/>
            <a:ext cx="934920" cy="457200"/>
          </a:xfrm>
          <a:prstGeom prst="wedgeRoundRectCallout">
            <a:avLst>
              <a:gd name="adj1" fmla="val -171560"/>
              <a:gd name="adj2" fmla="val -15555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view in the lower left corner. It has to b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876920" cy="32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060640"/>
            <a:ext cx="936720" cy="685800"/>
          </a:xfrm>
          <a:prstGeom prst="wedgeRoundRectCallout">
            <a:avLst>
              <a:gd name="adj1" fmla="val -354236"/>
              <a:gd name="adj2" fmla="val 3402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3798720"/>
            <a:ext cx="936720" cy="457200"/>
          </a:xfrm>
          <a:prstGeom prst="wedgeRoundRectCallout">
            <a:avLst>
              <a:gd name="adj1" fmla="val -215930"/>
              <a:gd name="adj2" fmla="val 5034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up a Filter for the resources before the rights figures are shown. The filter is “build” in the lower left co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4429080" cy="262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78200" y="2637000"/>
            <a:ext cx="1009440" cy="178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2349360"/>
            <a:ext cx="4906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31640" y="1484280"/>
            <a:ext cx="28764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“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uild” a filter like shown below. In the resource tree - select the department in qu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3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n only </a:t>
            </a:r>
            <a:r>
              <a:rPr b="1" lang="en-GB" sz="18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labor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resources are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Reinholdt Hansen</dc:creator>
  <dc:description>2.2 - 15 December 05 - jju - updated as BenQ template
Changed to Version 3.0 - 25 January 2006 - OSM</dc:description>
  <dc:language>en-US</dc:language>
  <cp:lastModifiedBy>Ole Sletting Madsen</cp:lastModifiedBy>
  <dcterms:modified xsi:type="dcterms:W3CDTF">2006-01-25T11:33:05Z</dcterms:modified>
  <cp:revision>18</cp:revision>
  <dc:subject/>
  <dc:title>How to initiate Tracking View for analysing resources</dc:title>
</cp:coreProperties>
</file>