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7A93-96DC-4F5F-8E2F-985B0F364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2000" y="376992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F6A2-84A6-4263-85C7-1E1AB6274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2E40-5667-45A1-8A8D-5F3CB9007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684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168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200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684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168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41FF-66D0-47CA-B1C7-79B7CF904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595E-ECD4-48B8-AC8C-2756773734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AD9A-93EB-4486-8004-CB8512F6D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4692-75D0-4907-8CC6-042BEC632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CAF5-291F-43E2-8CF7-84FC6AF9B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94760" cy="25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96D2-F17A-4B49-80DD-84F476931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BA2B-FD80-4552-A884-B5C6D8360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E06C-F384-427E-9266-DF0936405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1B32-1CD8-4497-949E-F4FEF438C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3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3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3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7846-0181-4062-B2C6-14964F6C24EA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7 February 2006 – V1.0 – Page </a:t>
            </a:r>
            <a:fld id="{54224C68-0A6A-4C60-AFC3-8C12B47A2C44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Timesheet Approval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 Febr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429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Guideline for timesheet approval managers about the weekly plausibility check and approval of resource’s time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08720" y="3654360"/>
            <a:ext cx="2879640" cy="19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94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Login to Citrix and Primavera Project Manage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692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gin to Citrix by use of your Citrix Username and Password (domain is “aaldk1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08720" y="773280"/>
            <a:ext cx="2879640" cy="25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443640" y="4302000"/>
            <a:ext cx="432000" cy="289080"/>
          </a:xfrm>
          <a:prstGeom prst="wedgeEllipseCallout">
            <a:avLst>
              <a:gd name="adj1" fmla="val -145222"/>
              <a:gd name="adj2" fmla="val -59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302000"/>
            <a:ext cx="432000" cy="289080"/>
          </a:xfrm>
          <a:prstGeom prst="wedgeEllipseCallout">
            <a:avLst>
              <a:gd name="adj1" fmla="val -133087"/>
              <a:gd name="adj2" fmla="val 79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6640" y="2933640"/>
            <a:ext cx="36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om the Citrix desktop select ”Project Manageme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Primavera Login Name and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Database “PMDB” from th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”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4807080"/>
            <a:ext cx="432000" cy="288720"/>
          </a:xfrm>
          <a:prstGeom prst="wedgeEllipseCallout">
            <a:avLst>
              <a:gd name="adj1" fmla="val 142648"/>
              <a:gd name="adj2" fmla="val 123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4807080"/>
            <a:ext cx="432000" cy="288720"/>
          </a:xfrm>
          <a:prstGeom prst="wedgeEllipseCallout">
            <a:avLst>
              <a:gd name="adj1" fmla="val -144486"/>
              <a:gd name="adj2" fmla="val 117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798720"/>
            <a:ext cx="432000" cy="289080"/>
          </a:xfrm>
          <a:prstGeom prst="wedgeEllipseCallout">
            <a:avLst>
              <a:gd name="adj1" fmla="val 116175"/>
              <a:gd name="adj2" fmla="val 26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2403360"/>
            <a:ext cx="431640" cy="289080"/>
          </a:xfrm>
          <a:prstGeom prst="wedgeEllipseCallout">
            <a:avLst>
              <a:gd name="adj1" fmla="val 120587"/>
              <a:gd name="adj2" fmla="val -106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403360"/>
            <a:ext cx="431640" cy="289080"/>
          </a:xfrm>
          <a:prstGeom prst="wedgeEllipseCallout">
            <a:avLst>
              <a:gd name="adj1" fmla="val 127203"/>
              <a:gd name="adj2" fmla="val -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311640" y="3519360"/>
            <a:ext cx="66492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637000" y="3743280"/>
            <a:ext cx="431640" cy="289080"/>
          </a:xfrm>
          <a:prstGeom prst="wedgeEllipseCallout">
            <a:avLst>
              <a:gd name="adj1" fmla="val 108453"/>
              <a:gd name="adj2" fmla="val -4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94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Opening Timesheet Approval Tool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69228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“Open Global Dat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508720" y="692280"/>
          <a:ext cx="2879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692280"/>
                    <a:ext cx="2879640" cy="14652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2060640"/>
            <a:ext cx="432000" cy="288720"/>
          </a:xfrm>
          <a:prstGeom prst="wedgeEllipseCallout">
            <a:avLst>
              <a:gd name="adj1" fmla="val -156250"/>
              <a:gd name="adj2" fmla="val -78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2879640" cy="221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7812000" y="3139920"/>
            <a:ext cx="432000" cy="289080"/>
          </a:xfrm>
          <a:prstGeom prst="wedgeEllipseCallout">
            <a:avLst>
              <a:gd name="adj1" fmla="val -265810"/>
              <a:gd name="adj2" fmla="val -174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249228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“Tools” &gt; “Time Approv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16640" y="2843280"/>
            <a:ext cx="2879640" cy="1647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Selecting Timesheets to Approve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08720" y="682560"/>
            <a:ext cx="2879640" cy="97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651640" y="1403280"/>
            <a:ext cx="1800000" cy="120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8244000" y="1116000"/>
            <a:ext cx="431640" cy="289080"/>
          </a:xfrm>
          <a:prstGeom prst="wedgeEllipseCallout">
            <a:avLst>
              <a:gd name="adj1" fmla="val -76472"/>
              <a:gd name="adj2" fmla="val -807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12000" y="1332000"/>
            <a:ext cx="432000" cy="288720"/>
          </a:xfrm>
          <a:prstGeom prst="wedgeEllipseCallout">
            <a:avLst>
              <a:gd name="adj1" fmla="val -148898"/>
              <a:gd name="adj2" fmla="val -125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12000" y="1332000"/>
            <a:ext cx="432000" cy="288720"/>
          </a:xfrm>
          <a:prstGeom prst="wedgeEllipseCallout">
            <a:avLst>
              <a:gd name="adj1" fmla="val -292648"/>
              <a:gd name="adj2" fmla="val 228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6640" y="1719360"/>
            <a:ext cx="432000" cy="288720"/>
          </a:xfrm>
          <a:prstGeom prst="wedgeEllipseCallout">
            <a:avLst>
              <a:gd name="adj1" fmla="val 235662"/>
              <a:gd name="adj2" fmla="val -19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692280"/>
            <a:ext cx="3600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 „Select Timesheet Date Range“ click the  button      for „From Start Period“, select relevant Start Date/End Date in the „Select Timesheet Period“ window and 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 „Select Timesheet Date Range“ click the  button      for  „To Finish Period“, select relevant Start Date/End Date in the „Select Timesheet Period“ window and 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OK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he period for which you want to check the time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status of timesheets to view - Click bar ”Display ...” and select ”Filter B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imesheet status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27720" y="1314360"/>
            <a:ext cx="144360" cy="1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36920" y="944640"/>
            <a:ext cx="144360" cy="14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967360" y="2754360"/>
            <a:ext cx="432000" cy="288720"/>
          </a:xfrm>
          <a:prstGeom prst="wedgeEllipseCallout">
            <a:avLst>
              <a:gd name="adj1" fmla="val -88972"/>
              <a:gd name="adj2" fmla="val 53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536920" y="1663560"/>
            <a:ext cx="144360" cy="1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6640" y="1719360"/>
            <a:ext cx="432000" cy="288720"/>
          </a:xfrm>
          <a:prstGeom prst="wedgeEllipseCallout">
            <a:avLst>
              <a:gd name="adj1" fmla="val -8453"/>
              <a:gd name="adj2" fmla="val 11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527720" y="2033640"/>
            <a:ext cx="144360" cy="14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742000" y="3924360"/>
            <a:ext cx="431640" cy="288720"/>
          </a:xfrm>
          <a:prstGeom prst="wedgeEllipseCallout">
            <a:avLst>
              <a:gd name="adj1" fmla="val -54046"/>
              <a:gd name="adj2" fmla="val -282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2000" y="3924360"/>
            <a:ext cx="431640" cy="288720"/>
          </a:xfrm>
          <a:prstGeom prst="wedgeEllipseCallout">
            <a:avLst>
              <a:gd name="adj1" fmla="val -16546"/>
              <a:gd name="adj2" fmla="val -209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2000" y="3743280"/>
            <a:ext cx="432000" cy="289080"/>
          </a:xfrm>
          <a:prstGeom prst="wedgeEllipseCallout">
            <a:avLst>
              <a:gd name="adj1" fmla="val -66546"/>
              <a:gd name="adj2" fmla="val -118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4869000"/>
            <a:ext cx="373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Timesheet St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 submit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opened by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bmit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submitted by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pprov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ap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jec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re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 Timesheets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View all independent of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Checking the Timesheets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72000" y="728640"/>
            <a:ext cx="2880000" cy="186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692360" y="684360"/>
            <a:ext cx="36003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heck whether 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 resources assigned to you have submitted the timesheet (Status = Submitted). If not remind those in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heck the submitted timesheets for plausibility, e.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obvious typ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obvious missing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local rules for working hours vi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ject timesheet in case of errors by clicking ”Reject”, acknowledge subsequent prompt, and inform the resource in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pprove timesheet if no obvious errors found by clicking ”Approve” and acknowledge subsequent pro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86640" y="863640"/>
            <a:ext cx="431640" cy="288720"/>
          </a:xfrm>
          <a:prstGeom prst="wedgeEllipseCallout">
            <a:avLst>
              <a:gd name="adj1" fmla="val 126472"/>
              <a:gd name="adj2" fmla="val 9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07360" y="1628640"/>
            <a:ext cx="431640" cy="289080"/>
          </a:xfrm>
          <a:prstGeom prst="wedgeEllipseCallout">
            <a:avLst>
              <a:gd name="adj1" fmla="val -98898"/>
              <a:gd name="adj2" fmla="val 117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7360" y="1177920"/>
            <a:ext cx="432000" cy="289080"/>
          </a:xfrm>
          <a:prstGeom prst="wedgeEllipseCallout">
            <a:avLst>
              <a:gd name="adj1" fmla="val -69486"/>
              <a:gd name="adj2" fmla="val -58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07360" y="728640"/>
            <a:ext cx="432000" cy="289080"/>
          </a:xfrm>
          <a:prstGeom prst="wedgeEllipseCallout">
            <a:avLst>
              <a:gd name="adj1" fmla="val -71324"/>
              <a:gd name="adj2" fmla="val 56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608280"/>
            <a:ext cx="70657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ere will be no timesheets for a period where the resource was absent because of e.g. holiday. Exception: Timesheets is used for collection of non-project related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imesheets not opened do not appear in the list of timesheets as the status ”Not Started” is not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14920"/>
            <a:ext cx="360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w to See Resources to Check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„Resource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rt column „Timesheet Approval Manager“ by clicking the title bar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e resources you are responsible for as the timesheet approval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16640" y="4759200"/>
            <a:ext cx="2879640" cy="13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7047000" y="5904000"/>
            <a:ext cx="431640" cy="288720"/>
          </a:xfrm>
          <a:prstGeom prst="wedgeEllipseCallout">
            <a:avLst>
              <a:gd name="adj1" fmla="val -63972"/>
              <a:gd name="adj2" fmla="val -108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62720" y="4714920"/>
            <a:ext cx="432000" cy="288720"/>
          </a:xfrm>
          <a:prstGeom prst="wedgeEllipseCallout">
            <a:avLst>
              <a:gd name="adj1" fmla="val 97425"/>
              <a:gd name="adj2" fmla="val 62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27720" y="5524560"/>
            <a:ext cx="431640" cy="288720"/>
          </a:xfrm>
          <a:prstGeom prst="wedgeEllipseCallout">
            <a:avLst>
              <a:gd name="adj1" fmla="val 12865"/>
              <a:gd name="adj2" fmla="val -155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36640" y="1333440"/>
            <a:ext cx="7245360" cy="412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Weekly Update Cycle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4:52:36Z</dcterms:created>
  <dc:creator>Reinholdt Hansen</dc:creator>
  <dc:description>- V0.1 - reh - 20 January 2006 - among others based on "Quick Guide From template to Project" by Sebastian Stier
- V0.2 - reh - 17 February 2006 - updated according to Planning Office comments
Renamed to Version 1.0 - 07-03-2006 - OSM</dc:description>
  <dc:language>en-US</dc:language>
  <cp:lastModifiedBy>Ole Sletting Madsen</cp:lastModifiedBy>
  <dcterms:modified xsi:type="dcterms:W3CDTF">2006-03-07T14:30:09Z</dcterms:modified>
  <cp:revision>99</cp:revision>
  <dc:subject/>
  <dc:title>Guidelines for project planning from template to close down</dc:title>
</cp:coreProperties>
</file>