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CE59-2FD8-45D2-B2CC-0A8909EC6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706752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19280" y="3627360"/>
            <a:ext cx="706752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9B3B-E384-448C-B0A5-5DF147A63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408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19280" y="362736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40880" y="362736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93A4-581C-4721-9CE7-BE511D2F2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8960" y="69228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8640" y="69228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19280" y="362736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8960" y="362736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8640" y="362736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D702-7B55-433C-952F-267282568A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19280" y="692280"/>
            <a:ext cx="7067520" cy="56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36B0-E634-40FB-A95F-B03A189E3E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70675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396B9-1D03-46F9-9EE1-D3922A9E9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3448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40880" y="692280"/>
            <a:ext cx="3448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44E9-137A-4704-BC2D-2F69B346D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4B5B-5D23-4F1F-96B0-FF04CE196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15560"/>
            <a:ext cx="829476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44AA-6237-4630-B28B-22BD6BDA9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0880" y="692280"/>
            <a:ext cx="3448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19280" y="362736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1E9E-E58D-4EE9-9828-7446F608C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3448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08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40880" y="362736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41BD-57E7-45E2-9020-841412A9D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08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9280" y="3627360"/>
            <a:ext cx="706752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79C2-F890-4528-BE57-CF22FB060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692280"/>
            <a:ext cx="70675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0F09-217A-4862-8E9B-1E9E0991BA1D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06 January 2006 – Version 1.0 – Page </a:t>
            </a:r>
            <a:fld id="{82C2F787-D38D-4722-A904-EE98CEBD4B4A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primavera.aaldk1.aal.siemens.dk/GroupserverP3e/en/index.html" TargetMode="Externa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133360"/>
            <a:ext cx="701028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Minion"/>
              </a:rPr>
              <a:t>How to use Timesheets</a:t>
            </a:r>
            <a:r>
              <a:rPr b="1" lang="zh-TW" sz="1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6 Januar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57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Guideline for entering hours spent (Actuals) and progress of work packages in Time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2803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Start Timesheets</a:t>
            </a:r>
            <a:r>
              <a:rPr b="1" lang="zh-TW" sz="1800" spc="-1" strike="noStrike">
                <a:solidFill>
                  <a:srgbClr val="3a0e66"/>
                </a:solidFill>
                <a:latin typeface="Minion"/>
              </a:rPr>
              <a:t> and Login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692280"/>
            <a:ext cx="367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46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pen Microsoft Internet-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the URL below to access Time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lick „Run Timesheets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Remember to turn-off Popup block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08720" y="692280"/>
            <a:ext cx="3238560" cy="2120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19280" y="321300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1628640"/>
            <a:ext cx="432000" cy="289080"/>
          </a:xfrm>
          <a:prstGeom prst="wedgeEllipseCallout">
            <a:avLst>
              <a:gd name="adj1" fmla="val 58087"/>
              <a:gd name="adj2" fmla="val -235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40720" y="1700280"/>
            <a:ext cx="431640" cy="288720"/>
          </a:xfrm>
          <a:prstGeom prst="wedgeEllipseCallout">
            <a:avLst>
              <a:gd name="adj1" fmla="val -161398"/>
              <a:gd name="adj2" fmla="val 3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2867040"/>
            <a:ext cx="7273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Timesheets URL:</a:t>
            </a: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GB" sz="12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2"/>
              </a:rPr>
              <a:t>http://primavera.aaldk1.aal.siemens.dk/GroupserverP3e/en/index.html</a:t>
            </a: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3278160"/>
            <a:ext cx="367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4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your login name (e.g. „klf987“) and your pass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508720" y="3344760"/>
            <a:ext cx="3238560" cy="2100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164360" y="4219560"/>
            <a:ext cx="432000" cy="289080"/>
          </a:xfrm>
          <a:prstGeom prst="wedgeEllipseCallout">
            <a:avLst>
              <a:gd name="adj1" fmla="val -291912"/>
              <a:gd name="adj2" fmla="val -54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64360" y="4219560"/>
            <a:ext cx="432000" cy="289080"/>
          </a:xfrm>
          <a:prstGeom prst="wedgeEllipseCallout">
            <a:avLst>
              <a:gd name="adj1" fmla="val -246324"/>
              <a:gd name="adj2" fmla="val 1131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551664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3789360"/>
            <a:ext cx="374472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</a:t>
            </a: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f you need a Login Name and Password for Timesheets or you do not remember your password please contact Primavera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ogin Name and Password for Primavera Timesheets and Project Management are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080" y="692280"/>
            <a:ext cx="147456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0" indent="-93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4" action="ppaction://hlinksldjump"/>
              </a:rPr>
              <a:t>Start and Login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5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6" action="ppaction://hlinksldjump"/>
              </a:rPr>
              <a:t>Open Timesheet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7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8" action="ppaction://hlinksldjump"/>
              </a:rPr>
              <a:t>Enter Hours Spent and Rem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9" action="ppaction://hlinksldjump"/>
              </a:rPr>
              <a:t>Enter Progress Feed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2928960"/>
            <a:ext cx="3238560" cy="3092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620640"/>
            <a:ext cx="3238560" cy="2200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2803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Open Timeshee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692280"/>
            <a:ext cx="367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pen the timesheet:</a:t>
            </a:r>
            <a:br>
              <a:rPr sz="1200"/>
            </a:b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: </a:t>
            </a:r>
            <a:r>
              <a:rPr b="0" i="1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ile &gt; Open Time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256536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285264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72360" y="1268280"/>
            <a:ext cx="431640" cy="289080"/>
          </a:xfrm>
          <a:prstGeom prst="wedgeEllipseCallout">
            <a:avLst>
              <a:gd name="adj1" fmla="val -144115"/>
              <a:gd name="adj2" fmla="val -1686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3076560"/>
            <a:ext cx="36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609300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2989440"/>
            <a:ext cx="36734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ark timesheet of last week and click „O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hen you open a timesheet the first time you may choose whether all your work packages are added automatically to the timesheet (recommended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r added manual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r copied from the previous timesh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You may select not to include your completed assignments (recommen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28000" y="4005360"/>
            <a:ext cx="431640" cy="288720"/>
          </a:xfrm>
          <a:prstGeom prst="wedgeEllipseCallout">
            <a:avLst>
              <a:gd name="adj1" fmla="val -161398"/>
              <a:gd name="adj2" fmla="val 3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28000" y="4941720"/>
            <a:ext cx="431640" cy="289080"/>
          </a:xfrm>
          <a:prstGeom prst="wedgeEllipseCallout">
            <a:avLst>
              <a:gd name="adj1" fmla="val -148898"/>
              <a:gd name="adj2" fmla="val -230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28000" y="5229360"/>
            <a:ext cx="431640" cy="288720"/>
          </a:xfrm>
          <a:prstGeom prst="wedgeEllipseCallout">
            <a:avLst>
              <a:gd name="adj1" fmla="val -254412"/>
              <a:gd name="adj2" fmla="val -11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28000" y="5516640"/>
            <a:ext cx="431640" cy="288720"/>
          </a:xfrm>
          <a:prstGeom prst="wedgeEllipseCallout">
            <a:avLst>
              <a:gd name="adj1" fmla="val -222796"/>
              <a:gd name="adj2" fmla="val -368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5157720"/>
            <a:ext cx="432000" cy="289080"/>
          </a:xfrm>
          <a:prstGeom prst="wedgeEllipseCallout">
            <a:avLst>
              <a:gd name="adj1" fmla="val 87865"/>
              <a:gd name="adj2" fmla="val -39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080" y="692280"/>
            <a:ext cx="147456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0" indent="-93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3" action="ppaction://hlinksldjump"/>
              </a:rPr>
              <a:t>Start and Login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4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5" action="ppaction://hlinksldjump"/>
              </a:rPr>
              <a:t>Open Timesheet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6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7" action="ppaction://hlinksldjump"/>
              </a:rPr>
              <a:t>Enter Hours Spent and Rem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8" action="ppaction://hlinksldjump"/>
              </a:rPr>
              <a:t>Enter Progress Feed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292720" y="3355920"/>
            <a:ext cx="3238560" cy="2197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292720" y="692280"/>
            <a:ext cx="3238560" cy="21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1965240" y="410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2803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Enter Hours Spent and Remaining (by all resources)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549360"/>
            <a:ext cx="34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o be entered by all resour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hours spent on your work packa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256536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328464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48360" y="1628640"/>
            <a:ext cx="432000" cy="289080"/>
          </a:xfrm>
          <a:prstGeom prst="wedgeEllipseCallout">
            <a:avLst>
              <a:gd name="adj1" fmla="val 40810"/>
              <a:gd name="adj2" fmla="val -1313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3435480"/>
            <a:ext cx="36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3368520"/>
            <a:ext cx="345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o enter your remaining hours select the tab “Resourc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your remaining hours for the work package selected in the cell “New Remaining Uni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24720" y="5300640"/>
            <a:ext cx="432000" cy="289080"/>
          </a:xfrm>
          <a:prstGeom prst="wedgeEllipseCallout">
            <a:avLst>
              <a:gd name="adj1" fmla="val 108453"/>
              <a:gd name="adj2" fmla="val -912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64000" y="5083200"/>
            <a:ext cx="432000" cy="289080"/>
          </a:xfrm>
          <a:prstGeom prst="wedgeEllipseCallout">
            <a:avLst>
              <a:gd name="adj1" fmla="val 31615"/>
              <a:gd name="adj2" fmla="val -1758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981000"/>
            <a:ext cx="3457440" cy="225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Do not open timesheets for periods consisting of e.g. holidays only (contact your timesheet approval manager in case of a timesheet opened by mista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Hours are entered as hours and hundreds of hours separated by a d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Do not submit timesheet before entries done for all days rele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Blue rows indicates the period between planned start and finish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4437000"/>
            <a:ext cx="3457440" cy="8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new remaining units only when major change compared to ”Remaining Uni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19280" y="5589720"/>
            <a:ext cx="7273800" cy="67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ork packages missing in your timesheet are added manually by use of: </a:t>
            </a:r>
            <a:r>
              <a:rPr b="0" i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dit &gt; Add Activity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. Select the work package missing and click </a:t>
            </a:r>
            <a:r>
              <a:rPr b="0" i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d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080" y="692280"/>
            <a:ext cx="147456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0" indent="-93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3" action="ppaction://hlinksldjump"/>
              </a:rPr>
              <a:t>Start and Login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4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5" action="ppaction://hlinksldjump"/>
              </a:rPr>
              <a:t>Open Timesheet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6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nter Hours Spent and Rem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nter Progress Feed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3238560" cy="21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965240" y="410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2803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Enter Progress Feedback (by primary resources)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256536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465300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51640" y="1844640"/>
            <a:ext cx="431640" cy="289080"/>
          </a:xfrm>
          <a:prstGeom prst="wedgeEllipseCallout">
            <a:avLst>
              <a:gd name="adj1" fmla="val -55884"/>
              <a:gd name="adj2" fmla="val 177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3436920"/>
            <a:ext cx="36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12000" y="2133720"/>
            <a:ext cx="432000" cy="288720"/>
          </a:xfrm>
          <a:prstGeom prst="wedgeEllipseCallout">
            <a:avLst>
              <a:gd name="adj1" fmla="val -181986"/>
              <a:gd name="adj2" fmla="val 1423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2852640"/>
            <a:ext cx="432000" cy="289080"/>
          </a:xfrm>
          <a:prstGeom prst="wedgeEllipseCallout">
            <a:avLst>
              <a:gd name="adj1" fmla="val -61398"/>
              <a:gd name="adj2" fmla="val -115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692280"/>
            <a:ext cx="352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To be entered by primary resources on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660066"/>
              </a:buClr>
              <a:buFont typeface="Minion"/>
              <a:buAutoNum type="arabicPeriod" startAt="14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Select tab „General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660066"/>
              </a:buClr>
              <a:buFont typeface="Minion"/>
              <a:buAutoNum type="arabicPeriod" startAt="14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Mark work package started and select date of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660066"/>
              </a:buClr>
              <a:buFont typeface="Minion"/>
              <a:buAutoNum type="arabicPeriod" startAt="14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► </a:t>
            </a:r>
            <a:r>
              <a:rPr b="1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Enter „Expected Finish Date“</a:t>
            </a: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 </a:t>
            </a:r>
            <a:r>
              <a:rPr b="1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for every work package in progress 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660066"/>
              </a:buClr>
              <a:buFont typeface="Minion"/>
              <a:buAutoNum type="arabicPeriod" startAt="14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Mark work package finished when completed and select date of compl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2325600"/>
            <a:ext cx="3529080" cy="225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The cells „Started“, „Finished“, and „Expected Finish Date“ are available for the primary resourc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The primary resource (tab „Resources“) is marked with a specific 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Do not enter „Expected Finish Date“ on a Level of Effort work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When a work package is marked finished assigned resources cannot enter actuals any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1484280"/>
            <a:ext cx="431640" cy="289080"/>
          </a:xfrm>
          <a:prstGeom prst="wedgeEllipseCallout">
            <a:avLst>
              <a:gd name="adj1" fmla="val -50736"/>
              <a:gd name="adj2" fmla="val 1582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1844640"/>
            <a:ext cx="431640" cy="289080"/>
          </a:xfrm>
          <a:prstGeom prst="wedgeEllipseCallout">
            <a:avLst>
              <a:gd name="adj1" fmla="val 90810"/>
              <a:gd name="adj2" fmla="val 171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24360" y="2852640"/>
            <a:ext cx="432000" cy="289080"/>
          </a:xfrm>
          <a:prstGeom prst="wedgeEllipseCallout">
            <a:avLst>
              <a:gd name="adj1" fmla="val 67648"/>
              <a:gd name="adj2" fmla="val -978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81440" y="3357720"/>
            <a:ext cx="142920" cy="161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080" y="692280"/>
            <a:ext cx="147456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0" indent="-93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art and Login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 Timesheet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nter Hours Spent and Rem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nter Progress Feed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3T13:57:11Z</dcterms:created>
  <dc:creator>Reinholdt Hansen</dc:creator>
  <dc:description>- V0.1 - 6.1.06 - reh - initial BenQ version based on "Quick Guide_Enter_Project_Time_041203.doc" by Oliver Mucha
Version number changed to 1.0 - 25 January 2006 - OSM</dc:description>
  <dc:language>en-US</dc:language>
  <cp:lastModifiedBy>Ole Sletting Madsen</cp:lastModifiedBy>
  <dcterms:modified xsi:type="dcterms:W3CDTF">2006-01-25T10:17:45Z</dcterms:modified>
  <cp:revision>69</cp:revision>
  <dc:subject/>
  <dc:title>How to use Timesheets</dc:title>
</cp:coreProperties>
</file>