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93B5-6FDF-45B8-8753-B81108722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914F-3B66-4B72-AF6B-1DB97E09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940A-D050-461D-8695-A98E1AF10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96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96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46A0-D8B3-4583-B77A-F0CB3C59D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3716-56E9-4AAF-9721-702ECC027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088D-BD9A-4ADC-AD30-6A6835984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3CD1-B66C-4342-A387-F5068EB02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FF6A-262F-4C84-B83D-C876A62BC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15560"/>
            <a:ext cx="829476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A932-F01E-4B78-9101-20BA2CB3D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DEB8-C75F-466C-A5DF-0DE5CA424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BD83-72A4-4ACA-96B9-D33805D28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00B0-9A4E-413B-A2DD-FE375FEE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FC1-5B3C-4BFC-8766-20D86401881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06 January 2006 – Version 1.0 – Page </a:t>
            </a:r>
            <a:fld id="{5A6F8C18-67B3-43BC-A1B5-0C6428A39049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imavera.aaldk1.aal.siemens.dk/GroupserverP3e/en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nion"/>
              </a:rPr>
              <a:t>How to use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6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entering hours spent (Actuals) and progress of work packages in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tart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and Login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692280"/>
            <a:ext cx="36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Microsoft Internet-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the URL below to access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„Run Timesheet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Remember to turn-off Popup block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38560" cy="212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321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628640"/>
            <a:ext cx="432000" cy="289080"/>
          </a:xfrm>
          <a:prstGeom prst="wedgeEllipseCallout">
            <a:avLst>
              <a:gd name="adj1" fmla="val 58087"/>
              <a:gd name="adj2" fmla="val -23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70028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2867040"/>
            <a:ext cx="727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imesheets URL: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GB" sz="12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/>
              </a:rPr>
              <a:t>http://primavera.aaldk1.aal.siemens.dk/GroupserverP3e/en/index.html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2781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4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login name (e.g. „klf987“) and your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3344760"/>
            <a:ext cx="3238560" cy="21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91912"/>
              <a:gd name="adj2" fmla="val -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46324"/>
              <a:gd name="adj2" fmla="val 113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516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3789360"/>
            <a:ext cx="37447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f you need a Login Name and Password for Timesheets or you do not remember your password please contact Primaver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Name and Password for Primavera Timesheets and Project Management are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9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2928960"/>
            <a:ext cx="323856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238560" cy="220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pen Timeshee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9228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the timesheet:</a:t>
            </a:r>
            <a:br>
              <a:rPr sz="1200"/>
            </a:b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: </a:t>
            </a:r>
            <a:r>
              <a:rPr b="0" i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ile &gt; Open Time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268280"/>
            <a:ext cx="431640" cy="289080"/>
          </a:xfrm>
          <a:prstGeom prst="wedgeEllipseCallout">
            <a:avLst>
              <a:gd name="adj1" fmla="val -144115"/>
              <a:gd name="adj2" fmla="val -16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07656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09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989440"/>
            <a:ext cx="3673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rk timesheet of last week and click „O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hen you open a timesheet the first time you may choose whether all your work packages are added automatically to the timesheet (recommende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added manual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copied from the previous time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You may select not to include your completed assignments (recommen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400536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941720"/>
            <a:ext cx="431640" cy="289080"/>
          </a:xfrm>
          <a:prstGeom prst="wedgeEllipseCallout">
            <a:avLst>
              <a:gd name="adj1" fmla="val -148898"/>
              <a:gd name="adj2" fmla="val -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5229360"/>
            <a:ext cx="431640" cy="288720"/>
          </a:xfrm>
          <a:prstGeom prst="wedgeEllipseCallout">
            <a:avLst>
              <a:gd name="adj1" fmla="val -254412"/>
              <a:gd name="adj2" fmla="val -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5516640"/>
            <a:ext cx="431640" cy="288720"/>
          </a:xfrm>
          <a:prstGeom prst="wedgeEllipseCallout">
            <a:avLst>
              <a:gd name="adj1" fmla="val -222796"/>
              <a:gd name="adj2" fmla="val -36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157720"/>
            <a:ext cx="432000" cy="289080"/>
          </a:xfrm>
          <a:prstGeom prst="wedgeEllipseCallout">
            <a:avLst>
              <a:gd name="adj1" fmla="val 87865"/>
              <a:gd name="adj2" fmla="val -3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92720" y="335592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6524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Hours Spent and Remaining (by all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54936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be entered by all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on your work pack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3284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1628640"/>
            <a:ext cx="432000" cy="289080"/>
          </a:xfrm>
          <a:prstGeom prst="wedgeEllipseCallout">
            <a:avLst>
              <a:gd name="adj1" fmla="val 40810"/>
              <a:gd name="adj2" fmla="val -13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34354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68520"/>
            <a:ext cx="34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enter your remaining hours select the tab “Resour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remaining hours for the work package selected in the cell “New 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5300640"/>
            <a:ext cx="432000" cy="289080"/>
          </a:xfrm>
          <a:prstGeom prst="wedgeEllipseCallout">
            <a:avLst>
              <a:gd name="adj1" fmla="val 108453"/>
              <a:gd name="adj2" fmla="val -91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5083200"/>
            <a:ext cx="432000" cy="289080"/>
          </a:xfrm>
          <a:prstGeom prst="wedgeEllipseCallout">
            <a:avLst>
              <a:gd name="adj1" fmla="val 31615"/>
              <a:gd name="adj2" fmla="val -175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981000"/>
            <a:ext cx="345744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open timesheets for periods consisting of e.g. holidays only (contact your timesheet approval manager in case of a timesheet opened by mis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Hours are entered as hours and hundreds of hours separated by a d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submit timesheet before entries done for all days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Blue rows indicates the period between planned start and finish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34574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new remaining units only when major change compared to ”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5589720"/>
            <a:ext cx="7273800" cy="67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s missing in your timesheet are added manually by use of: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dit &gt; Add Activity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. Select the work package missing and click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965240" y="410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Progress Feedback (by primary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65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-55884"/>
              <a:gd name="adj2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43692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0" y="2133720"/>
            <a:ext cx="432000" cy="288720"/>
          </a:xfrm>
          <a:prstGeom prst="wedgeEllipseCallout">
            <a:avLst>
              <a:gd name="adj1" fmla="val -181986"/>
              <a:gd name="adj2" fmla="val 14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-61398"/>
              <a:gd name="adj2" fmla="val -115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692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o be entered by primary resources on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Select tab „General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started and select date of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►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Enter „Expected Finish Date“</a:t>
            </a: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for every work package in progress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finished when completed and select date of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325600"/>
            <a:ext cx="352908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cells „Started“, „Finished“, and „Expected Finish Date“ are available for the primary resourc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primary resource (tab „Resources“) is marked with a specific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enter „Expected Finish Date“ on a Level of Effort work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When a work package is marked finished assigned resources cannot enter actuals any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1484280"/>
            <a:ext cx="431640" cy="289080"/>
          </a:xfrm>
          <a:prstGeom prst="wedgeEllipseCallout">
            <a:avLst>
              <a:gd name="adj1" fmla="val -50736"/>
              <a:gd name="adj2" fmla="val 1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90810"/>
              <a:gd name="adj2" fmla="val 17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67648"/>
              <a:gd name="adj2" fmla="val -97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1440" y="3357720"/>
            <a:ext cx="142920" cy="16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rt and Logi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 Timesheet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3:57:11Z</dcterms:created>
  <dc:creator>Reinholdt Hansen</dc:creator>
  <dc:description>- V0.1 - 6.1.06 - reh - initial BenQ version based on "Quick Guide_Enter_Project_Time_041203.doc" by Oliver Mucha
Version number changed to 1.0 - 25 January 2006 - OSM</dc:description>
  <dc:language>en-US</dc:language>
  <cp:lastModifiedBy>Ole Sletting Madsen</cp:lastModifiedBy>
  <dcterms:modified xsi:type="dcterms:W3CDTF">2006-01-25T10:17:45Z</dcterms:modified>
  <cp:revision>69</cp:revision>
  <dc:subject/>
  <dc:title>How to use Timesheets</dc:title>
</cp:coreProperties>
</file>