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C2C1-0BCF-4EF7-A12E-1C96D0CD0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FB00-41F2-47BE-94EB-1F9436DA6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2471-166F-487F-A28E-B2B0F9A6B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712E-5E9C-4A55-AB65-4E2B7B8FB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58C0-70B3-43B7-B62D-DFA78B16A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8DD2-8265-4986-8720-093FA27B8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E6FE-D8B4-47B3-834F-7DD8BA038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CC0A-C064-404A-B56F-A989DB68C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ABE4-F15D-4050-B067-3F1BC60DC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DE41-543B-4060-A20A-883755851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CDC6-C878-48F7-87AE-D20F851A4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18C3-6F1C-43A4-B3A5-103E5387B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E36E-5896-4E3D-AC90-96A019B6557E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- Version 5.0 – 15 December 2005 – Page </a:t>
            </a:r>
            <a:fld id="{5473EACF-F7F8-41F8-94FA-BFEA068FB47F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701028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Maintain Resource tree in Primavera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describes an easy way - for the Line Managers - to maintain the resource data in Primav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Basi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s guide will give a definition of the required information and guidance how to administrate resource data in Primavera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e Line Manager must secure that the  resource data - necessary to maintain the resource tree in Primavera - is available and up to dat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ll maintenance requests must be sent to Planning Office (</a:t>
            </a:r>
            <a:r>
              <a:rPr b="0" lang="en-US" sz="2400" spc="-1" strike="noStrike" u="sng">
                <a:solidFill>
                  <a:srgbClr val="800080"/>
                </a:solidFill>
                <a:uFillTx/>
                <a:latin typeface="Minion"/>
                <a:hlinkClick r:id="rId1"/>
              </a:rPr>
              <a:t>primavera_support@benq.com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)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lanning Office will update the resources according to the received information.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990800"/>
            <a:ext cx="2833920" cy="270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easiest way of reporting any change(s) to the Resource-tree, is by copying the concerned part of the Resource-tree to MS Excel - following these steps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Start Primavera Project Manager and go to Resource area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565360"/>
            <a:ext cx="1295640" cy="457200"/>
          </a:xfrm>
          <a:prstGeom prst="wedgeRoundRectCallout">
            <a:avLst>
              <a:gd name="adj1" fmla="val -127449"/>
              <a:gd name="adj2" fmla="val 65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1640" y="4365720"/>
            <a:ext cx="8280720" cy="186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57400" y="3405240"/>
            <a:ext cx="685800" cy="1066680"/>
          </a:xfrm>
          <a:prstGeom prst="downArrow">
            <a:avLst>
              <a:gd name="adj1" fmla="val 50000"/>
              <a:gd name="adj2" fmla="val 3888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240360" cy="3178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columns in the window can be modified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751040"/>
            <a:ext cx="2060640" cy="1143000"/>
          </a:xfrm>
          <a:prstGeom prst="wedgeRoundRectCallout">
            <a:avLst>
              <a:gd name="adj1" fmla="val -122421"/>
              <a:gd name="adj2" fmla="val 115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lick on the mouse and select columns and custo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9760" y="4268880"/>
            <a:ext cx="457200" cy="306360"/>
          </a:xfrm>
          <a:prstGeom prst="rightArrow">
            <a:avLst>
              <a:gd name="adj1" fmla="val 50000"/>
              <a:gd name="adj2" fmla="val 3730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210280" cy="23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4581360"/>
            <a:ext cx="2665440" cy="1683000"/>
          </a:xfrm>
          <a:prstGeom prst="wedgeRoundRectCallout">
            <a:avLst>
              <a:gd name="adj1" fmla="val 140351"/>
              <a:gd name="adj2" fmla="val -57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is view it is possible to select the needed columns. Please include all the columns shown in this window and order them as shown h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1413000"/>
            <a:ext cx="2514600" cy="1373040"/>
          </a:xfrm>
          <a:prstGeom prst="wedgeRoundRectCallout">
            <a:avLst>
              <a:gd name="adj1" fmla="val 22412"/>
              <a:gd name="adj2" fmla="val 105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selecting the columns you press OK and the columns will be shown in the resource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content in the resource window can be copied and pasted to Excel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6413400" cy="35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10280" y="1371600"/>
            <a:ext cx="1981440" cy="1371600"/>
          </a:xfrm>
          <a:prstGeom prst="wedgeRoundRectCallout">
            <a:avLst>
              <a:gd name="adj1" fmla="val -84134"/>
              <a:gd name="adj2" fmla="val 120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rk the concerned resources and then select cop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726408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3920" y="4040280"/>
            <a:ext cx="1576080" cy="914400"/>
          </a:xfrm>
          <a:prstGeom prst="wedgeRoundRectCallout">
            <a:avLst>
              <a:gd name="adj1" fmla="val -228249"/>
              <a:gd name="adj2" fmla="val 1060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te into an MS Excel Sh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Excel shee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In MS Excel you can make the corrections and/or add new resources to the tree. Please mark all corrections with a yellow colour.</a:t>
            </a: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4437000"/>
            <a:ext cx="3657600" cy="1676520"/>
          </a:xfrm>
          <a:prstGeom prst="wedgeRoundRectCallout">
            <a:avLst>
              <a:gd name="adj1" fmla="val -12629"/>
              <a:gd name="adj2" fmla="val 279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the corrections are made then send the sheet to: </a:t>
            </a:r>
            <a:r>
              <a:rPr b="0" lang="en-GB" sz="1600" spc="-1" strike="noStrike" u="sng">
                <a:solidFill>
                  <a:srgbClr val="800080"/>
                </a:solidFill>
                <a:uFillTx/>
                <a:latin typeface="Arial"/>
                <a:hlinkClick r:id="rId1"/>
              </a:rPr>
              <a:t>Primavera_support@benq.c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ning Office will update the resources in Primavera according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136000" cy="112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04000" y="3213000"/>
            <a:ext cx="1970280" cy="1447920"/>
          </a:xfrm>
          <a:prstGeom prst="wedgeRoundRectCallout">
            <a:avLst>
              <a:gd name="adj1" fmla="val -36787"/>
              <a:gd name="adj2" fmla="val -27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new resources in the department a Start Date must be set. This column has to be added in the MS excel-sh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4920" y="3430440"/>
            <a:ext cx="1801800" cy="838440"/>
          </a:xfrm>
          <a:prstGeom prst="wedgeRoundRectCallout">
            <a:avLst>
              <a:gd name="adj1" fmla="val -49296"/>
              <a:gd name="adj2" fmla="val -1761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cells needed corrections with yel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1960" y="3200400"/>
            <a:ext cx="1676160" cy="1236600"/>
          </a:xfrm>
          <a:prstGeom prst="wedgeRoundRectCallout">
            <a:avLst>
              <a:gd name="adj1" fmla="val -11458"/>
              <a:gd name="adj2" fmla="val -720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new resource can be set in like this. Planning Office will give an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4724280"/>
            <a:ext cx="2016000" cy="1447920"/>
          </a:xfrm>
          <a:prstGeom prst="wedgeRoundRectCallout">
            <a:avLst>
              <a:gd name="adj1" fmla="val 31101"/>
              <a:gd name="adj2" fmla="val -4100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an end date is known for the resource it can be set. This column has to be added in the MS excel-sh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Which information's is required?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The following resource data is required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Resource ID</a:t>
            </a:r>
            <a:r>
              <a:rPr b="0" i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i="1" lang="en-US" sz="1300" spc="-1" strike="noStrike">
                <a:solidFill>
                  <a:srgbClr val="3a0e66"/>
                </a:solidFill>
                <a:latin typeface="Minion"/>
              </a:rPr>
              <a:t>is given by Planning Offic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Nam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e name of the Resource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E-mail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e e-mail is needed for all Resources when possibl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Location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is is the location where the resource is working e.g. MCH, KLF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Department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is is the department abbreviation where the resource is working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SAP-Account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This is the SAP account for the department where the resource is working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Employee typ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Is HC, INTCON, EXTCON, STUD, NOLABOR or TITLE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HC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BenQ Employees (Headcounts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INTC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Internal consultants, who according to their contract are treated like a HC employee (in Germany: AÜG)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EXTC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External consultants, who are paid for a deliverable (in Germany: Werkvertrag) and their work is not planned in hours nor tracked in Timesheets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STUD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is Students or Trainees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3a0e66"/>
                </a:solidFill>
                <a:uFillTx/>
                <a:latin typeface="Minion"/>
              </a:rPr>
              <a:t>NOLABOR</a:t>
            </a:r>
            <a:r>
              <a:rPr b="0" lang="da-DK" sz="1000" spc="-1" strike="noStrike">
                <a:solidFill>
                  <a:srgbClr val="3a0e66"/>
                </a:solidFill>
                <a:latin typeface="Minion"/>
              </a:rPr>
              <a:t> is non labour Resourc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3a0e66"/>
                </a:solidFill>
                <a:uFillTx/>
                <a:latin typeface="Minion"/>
              </a:rPr>
              <a:t>TITLE </a:t>
            </a:r>
            <a:r>
              <a:rPr b="0" lang="da-DK" sz="1000" spc="-1" strike="noStrike">
                <a:solidFill>
                  <a:srgbClr val="3a0e66"/>
                </a:solidFill>
                <a:latin typeface="Minion"/>
              </a:rPr>
              <a:t>is used for a Resource group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Max and Default Units/tim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Is set according to the table at the next page in this guide (same value for every weekday)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Rol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The primary role has to be set for the resource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Uses Timesheet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has to be marked for resources when they must use Timesheets. Do not mark this field before the Timesheet Approval Manager is known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Timesheet Approval Manager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has to be inserted when the field Uses Timesheet is marked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Start date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End date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(if any)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Arial"/>
              </a:rPr>
              <a:t>Non Billing in SAP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Arial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Arial"/>
              </a:rPr>
              <a:t>(yes/no)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Settings of limit and default working time in Primavera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990720"/>
          <a:ext cx="8078040" cy="5174640"/>
        </p:xfrm>
        <a:graphic>
          <a:graphicData uri="http://schemas.openxmlformats.org/drawingml/2006/table">
            <a:tbl>
              <a:tblPr/>
              <a:tblGrid>
                <a:gridCol w="4041360"/>
                <a:gridCol w="4036680"/>
              </a:tblGrid>
              <a:tr h="11185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time [weekly] </a:t>
                      </a:r>
                      <a:r>
                        <a:rPr b="0" i="1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According to contra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 in Primavera [daily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a-DK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efault and max units/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,3 h – 33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3,8 h – 36,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6,3 h – 38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8,8 h – 41,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1,3 h – 43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&gt;= 43,8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5.0 Released 15.12.05 Jacob Juul</dc:description>
  <dc:language>en-US</dc:language>
  <cp:lastModifiedBy>Ole Sletting Madsen</cp:lastModifiedBy>
  <dcterms:modified xsi:type="dcterms:W3CDTF">2006-02-07T12:28:00Z</dcterms:modified>
  <cp:revision>16</cp:revision>
  <dc:subject/>
  <dc:title>Maintain Resource tree in Primavera</dc:title>
</cp:coreProperties>
</file>