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83400" cy="10033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4924-192B-40AA-812E-5C21BD7F2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59EE0-0509-4E48-981F-079A2936C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6EB6F-2ABA-4E56-A3B4-B1E5A49EA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4A84-D37B-4EE1-AE51-64352C376A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DED2-504A-44AC-AA6E-7F0E5A07D9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C70A-E526-450F-A735-B25E2F2E3D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7947-8E16-4BC6-BA3B-2701A43BA5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ACAF-CCA4-42E3-878D-05CBD1F3A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BA397-A7F4-4131-BA79-923E5E2595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6F51-5273-4B83-8406-0D0B1AC01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0AFE-EEB3-4B97-8833-F5897FEF3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5E51-EB67-4A3A-B696-104D11699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039F-E2B7-4782-9E26-60CD7D8CD0C8}" type="slidenum"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71520" y="6362640"/>
            <a:ext cx="506556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- Planning Office – 20 December 2005 – version 3.0 – Page </a:t>
            </a:r>
            <a:fld id="{80A6B869-96FB-4C2F-A359-FE6AA2D5A6FE}" type="slidenum"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&lt;number&gt;</a:t>
            </a:fld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 of 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primavera_support@benq.co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995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Minion"/>
              </a:rPr>
              <a:t>How to Request a new or another Project Manager for a Project in Primavera.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"/>
          <p:cNvSpPr/>
          <p:nvPr/>
        </p:nvSpPr>
        <p:spPr>
          <a:xfrm>
            <a:off x="409680" y="4981680"/>
            <a:ext cx="4572000" cy="92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Planning Off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 Decem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357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This document describes the proced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List of Conten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Introduction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a0e66"/>
                </a:solidFill>
                <a:latin typeface="Minion"/>
              </a:rPr>
              <a:t>How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spcBef>
                <a:spcPts val="700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-2)</a:t>
            </a:r>
            <a:endParaRPr b="0" lang="en-US" sz="28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Project Manager request - Introduction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Each project in Primavera do have a Project Managers Responsible assign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At a later time the Project Manager who shall join the management of the project, may be assigned. 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Requesters may be Line Managers, PLT, PPL, PLC, Local Supporters, and Planning Coordinator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Project Managers to projects in Primavera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To ensure that Primavera write and linking rights are assigned to Project Managers in agreement with the Project Manager Responsible this guide has to be follow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Project Manager request - How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Before the request (by e-mail) is send to </a:t>
            </a:r>
            <a:r>
              <a:rPr b="0" lang="en-US" sz="2000" spc="-1" strike="noStrike" u="sng">
                <a:solidFill>
                  <a:srgbClr val="800080"/>
                </a:solidFill>
                <a:uFillTx/>
                <a:latin typeface="Minion"/>
                <a:hlinkClick r:id="rId1"/>
              </a:rPr>
              <a:t>Primavera Support</a:t>
            </a: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 the requester ensures the acceptance by the Project Manager Responsible (for details look at page 5)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The request must include: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Primavera project ID nam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Name of the new Project Manager i.e. Primavera login name or e-mail address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Documentation for the Project Managers acceptance e.g. e-mail confirmation of the acceptance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a0e66"/>
                </a:solidFill>
                <a:latin typeface="Minion"/>
              </a:rPr>
              <a:t>The responsibility: either Project Manager or Project Manager Responsible must be stated (only one Project Manager Responsible per project allowed).</a:t>
            </a: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In case of the withdrawal of a Project Manager, then inform who to be withdrawn as Primavera login name or e-mail address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a0e66"/>
              </a:solidFill>
              <a:latin typeface="Minion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a0e66"/>
                </a:solidFill>
                <a:latin typeface="Minion"/>
              </a:rPr>
              <a:t>Primavera Support assigns or withdraws the writing and linking rights for the Project Manager in question and informs via e-mail the involved parties, that the change has been don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1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Open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EPS select the</a:t>
            </a:r>
            <a:br>
              <a:rPr sz="2000"/>
            </a:b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project in question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Enterprise” and “OB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5" name=""/>
          <p:cNvSpPr/>
          <p:nvPr/>
        </p:nvSpPr>
        <p:spPr>
          <a:xfrm>
            <a:off x="8136000" y="3564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19640" y="973080"/>
            <a:ext cx="536400" cy="302760"/>
          </a:xfrm>
          <a:prstGeom prst="wedgeEllipseCallout">
            <a:avLst>
              <a:gd name="adj1" fmla="val 53486"/>
              <a:gd name="adj2" fmla="val 54393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932360" y="1125360"/>
            <a:ext cx="3159000" cy="328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932360" y="4668840"/>
            <a:ext cx="3206880" cy="15256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459480" y="4632480"/>
            <a:ext cx="536760" cy="302760"/>
          </a:xfrm>
          <a:prstGeom prst="wedgeEllipseCallout">
            <a:avLst>
              <a:gd name="adj1" fmla="val -42962"/>
              <a:gd name="adj2" fmla="val 515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How to look up the name of the Project Manager Responsible (2/2)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1911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OBS the project in question is marked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“Users” and find the Login Name of the Project Manager Responsible or Project Manager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Select ”Admin” and “Users…”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In the Login Name columns find the person Login Name e.g. klf178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-591120">
              <a:lnSpc>
                <a:spcPct val="80000"/>
              </a:lnSpc>
              <a:spcBef>
                <a:spcPts val="499"/>
              </a:spcBef>
              <a:buClr>
                <a:srgbClr val="3a0e66"/>
              </a:buClr>
              <a:buFont typeface="Minio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a0e66"/>
                </a:solidFill>
                <a:latin typeface="Minion"/>
              </a:rPr>
              <a:t>Name and e-mail address of the Project Manager Responsible.</a:t>
            </a:r>
            <a:endParaRPr b="0" lang="en-US" sz="20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  <a:p>
            <a:pPr marL="591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a0e66"/>
                </a:solidFill>
                <a:latin typeface="Minion"/>
              </a:rPr>
              <a:t>(If the shown columns are not shown please include those.)</a:t>
            </a:r>
            <a:endParaRPr b="0" lang="en-US" sz="12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859280" y="836640"/>
            <a:ext cx="3513240" cy="2260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86720" y="13716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64160" y="1747800"/>
            <a:ext cx="536760" cy="302760"/>
          </a:xfrm>
          <a:prstGeom prst="wedgeEllipseCallout">
            <a:avLst>
              <a:gd name="adj1" fmla="val -42361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861080" y="3125880"/>
            <a:ext cx="3511440" cy="1654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915320" y="320364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859280" y="4805280"/>
            <a:ext cx="3510000" cy="14446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167440" y="465300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19920" y="4724280"/>
            <a:ext cx="536400" cy="302760"/>
          </a:xfrm>
          <a:prstGeom prst="wedgeEllipseCallout">
            <a:avLst>
              <a:gd name="adj1" fmla="val -42356"/>
              <a:gd name="adj2" fmla="val 7648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0" bIns="0" anchor="t">
            <a:spAutoFit/>
          </a:bodyPr>
          <a:p>
            <a:pPr marL="276120" indent="-276120"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0T08:43:55Z</dcterms:created>
  <dc:creator>Bjarne Lund Thomsen</dc:creator>
  <dc:description>Version 2.1 - 20 December 2005 - osm - updated as Benq template
Version number changed to 3.0 - 25 January 2006 - OSM</dc:description>
  <dc:language>en-US</dc:language>
  <cp:lastModifiedBy>Ole Sletting Madsen</cp:lastModifiedBy>
  <dcterms:modified xsi:type="dcterms:W3CDTF">2006-01-25T10:07:37Z</dcterms:modified>
  <cp:revision>10</cp:revision>
  <dc:subject/>
  <dc:title>How to Request a new or another Project Manager</dc:title>
</cp:coreProperties>
</file>