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E5AB-5735-47E2-A509-5D09D8218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6172-CFB2-472F-B260-A1547E6D6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AF9E-F053-4F61-A21C-80371E728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6790-F6AD-414F-8CDC-F06F174EAD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EB4B-140A-49F7-91F4-8AAB4A5787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1B1C-1B58-4E2B-BB08-82436406E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E64D-A299-4DE9-9256-1073D2401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6885-5900-4D2C-B36D-5B06522FA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10C4-D24A-4C5C-8D9C-0FDE0BEBA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037C7-2032-41B4-B081-E98FFB713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B305-1305-4C85-B62E-F14B6071E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1C53-16F8-4733-9452-16651A518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F1F6-794B-4C4A-BB7A-665AF36D7A4C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20 December 2005 – version 3.0 – Page </a:t>
            </a:r>
            <a:fld id="{EF252F83-A4DF-41D3-8409-6BC41581098F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primavera_support@benq.co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</a:rPr>
              <a:t>How to Request a new or another Project Manager for a Project in Primavera.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 Dec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57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This document describes the proced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List of Conten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a0e66"/>
                </a:solidFill>
                <a:latin typeface="Minion"/>
              </a:rPr>
              <a:t>Introduc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a0e66"/>
                </a:solidFill>
                <a:latin typeface="Minion"/>
              </a:rPr>
              <a:t>How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How to look up the name of the Project Manager Responsible (1-2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roject Manager request - Introduc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Each project in Primavera do have a Project Managers Responsible assigned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At a later time the Project Manager who shall join the management of the project, may be assigned.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questers may be Line Managers, PLT, PPL, PLC, Local Supporters, and Planning Coordinators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imavera Support assigns Project Managers to projects in Primavera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To ensure that Primavera write and linking rights are assigned to Project Managers in agreement with the Project Manager Responsible this guide has to be followed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roject Manager request - How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Before the request (by e-mail) is send to </a:t>
            </a:r>
            <a:r>
              <a:rPr b="0" lang="en-US" sz="2000" spc="-1" strike="noStrike" u="sng">
                <a:solidFill>
                  <a:srgbClr val="800080"/>
                </a:solidFill>
                <a:uFillTx/>
                <a:latin typeface="Minion"/>
                <a:hlinkClick r:id="rId1"/>
              </a:rPr>
              <a:t>Primavera Support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the requester ensures the acceptance by the Project Manager Responsible (for details look at page 5)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he request must include: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imavera project ID name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Name of the new Project Manager i.e. Primavera login name or e-mail address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ocumentation for the Project Managers acceptance e.g. e-mail confirmation of the acceptance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The responsibility: either Project Manager or Project Manager Responsible must be stated (only one Project Manager Responsible per project allowed)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n case of the withdrawal of a Project Manager, then inform who to be withdrawn as Primavera login name or e-mail address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imavera Support assigns or withdraws the writing and linking rights for the Project Manager in question and informs via e-mail the involved parties, that the change has been done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How to look up the name of the Project Manager Responsible (1/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Open Project Manag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In the EPS select the</a:t>
            </a:r>
            <a:br>
              <a:rPr sz="2000"/>
            </a:b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project in question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Select “Enterprise” and “OBS…”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"/>
          <p:cNvSpPr/>
          <p:nvPr/>
        </p:nvSpPr>
        <p:spPr>
          <a:xfrm>
            <a:off x="8136000" y="3564000"/>
            <a:ext cx="536400" cy="302760"/>
          </a:xfrm>
          <a:prstGeom prst="wedgeEllipseCallout">
            <a:avLst>
              <a:gd name="adj1" fmla="val -42356"/>
              <a:gd name="adj2" fmla="val 764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19640" y="973080"/>
            <a:ext cx="536400" cy="302760"/>
          </a:xfrm>
          <a:prstGeom prst="wedgeEllipseCallout">
            <a:avLst>
              <a:gd name="adj1" fmla="val 53486"/>
              <a:gd name="adj2" fmla="val 5439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32360" y="1125360"/>
            <a:ext cx="3159000" cy="3289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932360" y="4668840"/>
            <a:ext cx="3206880" cy="1525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459480" y="4632480"/>
            <a:ext cx="536760" cy="302760"/>
          </a:xfrm>
          <a:prstGeom prst="wedgeEllipseCallout">
            <a:avLst>
              <a:gd name="adj1" fmla="val -42962"/>
              <a:gd name="adj2" fmla="val 5154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How to look up the name of the Project Manager Responsible (2/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1911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In the OBS the project in question is marked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Select “Users” and find the Login Name of the Project Manager Responsible or Project Manag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Select ”Admin” and “Users…”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In the Login Name columns find the person Login Name e.g. klf178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Name and e-mail address of the Project Manager Responsible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91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91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(If the shown columns are not shown please include those.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59280" y="836640"/>
            <a:ext cx="3513240" cy="2260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86720" y="1371600"/>
            <a:ext cx="536400" cy="302760"/>
          </a:xfrm>
          <a:prstGeom prst="wedgeEllipseCallout">
            <a:avLst>
              <a:gd name="adj1" fmla="val -42356"/>
              <a:gd name="adj2" fmla="val 764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64160" y="1747800"/>
            <a:ext cx="536760" cy="302760"/>
          </a:xfrm>
          <a:prstGeom prst="wedgeEllipseCallout">
            <a:avLst>
              <a:gd name="adj1" fmla="val -42361"/>
              <a:gd name="adj2" fmla="val 764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61080" y="3125880"/>
            <a:ext cx="3511440" cy="1654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915320" y="3203640"/>
            <a:ext cx="536400" cy="302760"/>
          </a:xfrm>
          <a:prstGeom prst="wedgeEllipseCallout">
            <a:avLst>
              <a:gd name="adj1" fmla="val -42356"/>
              <a:gd name="adj2" fmla="val 764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859280" y="4805280"/>
            <a:ext cx="3510000" cy="1444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167440" y="4653000"/>
            <a:ext cx="536400" cy="302760"/>
          </a:xfrm>
          <a:prstGeom prst="wedgeEllipseCallout">
            <a:avLst>
              <a:gd name="adj1" fmla="val -42356"/>
              <a:gd name="adj2" fmla="val 764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19920" y="4724280"/>
            <a:ext cx="536400" cy="302760"/>
          </a:xfrm>
          <a:prstGeom prst="wedgeEllipseCallout">
            <a:avLst>
              <a:gd name="adj1" fmla="val -42356"/>
              <a:gd name="adj2" fmla="val 764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08:43:55Z</dcterms:created>
  <dc:creator>Bjarne Lund Thomsen</dc:creator>
  <dc:description>Version 2.1 - 20 December 2005 - osm - updated as Benq template
Version number changed to 3.0 - 25 January 2006 - OSM</dc:description>
  <dc:language>en-US</dc:language>
  <cp:lastModifiedBy>Ole Sletting Madsen</cp:lastModifiedBy>
  <dcterms:modified xsi:type="dcterms:W3CDTF">2006-01-25T10:07:37Z</dcterms:modified>
  <cp:revision>10</cp:revision>
  <dc:subject/>
  <dc:title>How to Request a new or another Project Manager</dc:title>
</cp:coreProperties>
</file>