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2714DD72-CD08-4654-9192-F18DC8B85E74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6119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Project Management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005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Primavera Project Manager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up Filter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42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84464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1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urrency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3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24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2924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3213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3429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Resource Analysi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3716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alculation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39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. - 16.12.05 - jju - updated as BenQ template
Version number changed to 3.0 - 25 January 2006 - OSM</dc:description>
  <dc:language>en-US</dc:language>
  <cp:lastModifiedBy>Ole Sletting Madsen</cp:lastModifiedBy>
  <dcterms:modified xsi:type="dcterms:W3CDTF">2006-01-25T10:22:23Z</dcterms:modified>
  <cp:revision>10</cp:revision>
  <dc:subject/>
  <dc:title>Primavera Project Manager - User Preferences</dc:title>
</cp:coreProperties>
</file>