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6 December 2005 – version 3.0 – Page </a:t>
            </a:r>
            <a:fld id="{DE76BCBA-83C4-4A9C-85CC-41530BF435B7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06436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Default settings for User Preferences in Primavera Timesheets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860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visualise the preferred- and standard settings of “User Preferences in Timesheets.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Verify – and if necessary change – these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836640"/>
            <a:ext cx="7840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Times New Roman"/>
              </a:rPr>
              <a:t>User Preferences is placed under EDIT in the menu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 Uni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206064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Date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-76320" y="1066680"/>
            <a:ext cx="7696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2276640"/>
            <a:ext cx="1151280" cy="43308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Password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3564000" y="4508280"/>
            <a:ext cx="1439640" cy="865080"/>
          </a:xfrm>
          <a:prstGeom prst="line">
            <a:avLst/>
          </a:prstGeom>
          <a:ln w="38160">
            <a:solidFill>
              <a:srgbClr val="3a0e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492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2276640"/>
            <a:ext cx="252108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ke sure the Email address is always vali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8353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: Immediately change the password provided by Primavera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Start Up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69608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he preferred start-up wind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2708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8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ctivity Timefram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-76320" y="1066680"/>
            <a:ext cx="7696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2924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2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shee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836640"/>
            <a:ext cx="806436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288000" bIns="108000" anchor="t">
            <a:no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o not change these colours due to preferred standard setting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3213000"/>
            <a:ext cx="1143000" cy="45720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2.0 Released 16.12.05 Jacob Juul
2.1 - 16.12.05 - jju - updated as BenQ template
Changed to Version 3.0 - 25 January 2006 - OSM</dc:description>
  <dc:language>en-US</dc:language>
  <cp:lastModifiedBy>Ole Sletting Madsen</cp:lastModifiedBy>
  <dcterms:modified xsi:type="dcterms:W3CDTF">2006-01-25T11:35:03Z</dcterms:modified>
  <cp:revision>17</cp:revision>
  <dc:subject/>
  <dc:title>Timesheet - User Preferences</dc:title>
</cp:coreProperties>
</file>