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6593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200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5196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 SD   July 2005   </a:t>
            </a:r>
            <a:fld id="{55A74D0A-C91E-40E6-9964-81A208F14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548400"/>
            <a:ext cx="1255680" cy="282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865160" y="6559560"/>
            <a:ext cx="914400" cy="271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 txBox="1"/>
          <p:nvPr/>
        </p:nvSpPr>
        <p:spPr>
          <a:xfrm>
            <a:off x="8197920" y="142920"/>
            <a:ext cx="630000" cy="88272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e1d3e"/>
                </a:solidFill>
                <a:latin typeface="Arial Black"/>
              </a:rPr>
              <a:t>draft</a:t>
            </a:r>
            <a:endParaRPr b="0" lang="en-US" sz="2400" spc="1" strike="noStrike">
              <a:ln w="0">
                <a:noFill/>
              </a:ln>
              <a:solidFill>
                <a:srgbClr val="9e1d3e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2895480"/>
            <a:ext cx="8839080" cy="1667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2000" y="152280"/>
            <a:ext cx="883908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96360" y="6184800"/>
            <a:ext cx="1384200" cy="41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751880" y="3030480"/>
            <a:ext cx="1104840" cy="1387440"/>
          </a:xfrm>
          <a:prstGeom prst="rect">
            <a:avLst/>
          </a:prstGeom>
        </p:spPr>
        <p:txBody>
          <a:bodyPr wrap="none" lIns="0" rIns="0" tIns="0" bIns="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e1d3e"/>
                </a:solidFill>
                <a:latin typeface="Arial Black"/>
              </a:rPr>
              <a:t>draft</a:t>
            </a:r>
            <a:endParaRPr b="0" lang="en-US" sz="2400" spc="1" strike="noStrike">
              <a:ln w="0">
                <a:noFill/>
              </a:ln>
              <a:solidFill>
                <a:srgbClr val="9e1d3e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House Europ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Development – Responsibilities 1/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70720" y="34956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7880" y="1160640"/>
            <a:ext cx="8448840" cy="76500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73360" y="1338120"/>
            <a:ext cx="200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PE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2920" y="2036880"/>
            <a:ext cx="201276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65360" y="2036880"/>
            <a:ext cx="2016000" cy="3841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92600" y="2036880"/>
            <a:ext cx="201312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5400" y="2036880"/>
            <a:ext cx="201132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880" y="2546280"/>
            <a:ext cx="8448840" cy="39070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3280" y="2673360"/>
            <a:ext cx="7057800" cy="11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ware Product, Platform &amp; Component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EMC, antenna, RF, baseband, acoustics, analog, PMU, signal processing, layout and production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5 G &amp; 3G platform &amp; product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iable and reproducible (robust) development qu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schematic for platforms and components securing reusabil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TC excellence and strategic supplier mgmt., securing 2nd 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3280" y="3933720"/>
            <a:ext cx="7057800" cy="11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chanical Technology &amp; Product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concepts and device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evelopment of new  technologies and el. mechanical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 of MD design strategy and interface to CDO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chanical product development and standard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chanical process improv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 responsibility and harmonization for P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3280" y="5192640"/>
            <a:ext cx="70578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 Platform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Native Software platform and future Brew Software platform based on architectural compon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 Software for all platforms and phones: MPM (Mobile Phone Manager), SMTK (Siemens Mobile Tool K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er Smartphone (Symbian+S60) and Feature phone (Linux+QT) development and partner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EA+APAC+LAM Customization, Operator 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Alliances management, Software Partner and Project control, Software Architecture and Spec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2673360"/>
            <a:ext cx="1008000" cy="113364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933720"/>
            <a:ext cx="1008000" cy="113364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92640"/>
            <a:ext cx="1008000" cy="113508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t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House Europ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 Development – Responsibilities 2/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70720" y="34956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7880" y="1160640"/>
            <a:ext cx="8448840" cy="76500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73360" y="1338120"/>
            <a:ext cx="200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UROPE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920" y="2036880"/>
            <a:ext cx="201276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65360" y="2036880"/>
            <a:ext cx="2016000" cy="3841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2600" y="2036880"/>
            <a:ext cx="201312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5400" y="2036880"/>
            <a:ext cx="2011320" cy="38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880" y="2546280"/>
            <a:ext cx="8448840" cy="39070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3280" y="2673360"/>
            <a:ext cx="7057800" cy="11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-Project Management and get Product Software integ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ering SW-Projects including 3rd party SW-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fying and managing modem SW-platforms from external suppliers (e.g. AMSS from Qualcom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and adaptation of HW-drivers (e.g. for displays), production and service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-Integration incl. Integration Management, Build &amp; Release Management, Configuration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e Integration – System Stabilization, Core System Bug Fix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-Product Integration does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evelop features and applications (e.g. Video player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3280" y="3933720"/>
            <a:ext cx="7057800" cy="11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 Test of all mobile devices to guarantee required quality and approvals 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ctional- and stress-test of entire system regarding HW systems, PS/Layer1, MMI, applications, PC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egulatory and quasi mandatory approvals and certifications (e.g. GCF, PTCRB, Java, WAP, USB 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operability test regarding to protocol stack and all application enabl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customer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dardization and test development and automation in the areas of HW, PS, applications an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-box integration test, HW-component test and R&amp;D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3280" y="5192640"/>
            <a:ext cx="705780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Generation Management GSM /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project lead of internal platform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project lead of internal product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D frontend for CTO/PBM roadmapping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2673360"/>
            <a:ext cx="1008000" cy="113364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933720"/>
            <a:ext cx="1008000" cy="113364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5192640"/>
            <a:ext cx="1008000" cy="113508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3600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t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F</dc:creator>
  <dc:description/>
  <dc:language>en-US</dc:language>
  <cp:lastModifiedBy>Pham Thai Lai</cp:lastModifiedBy>
  <dcterms:modified xsi:type="dcterms:W3CDTF">2005-07-22T07:42:42Z</dcterms:modified>
  <cp:revision>310</cp:revision>
  <dc:subject/>
  <dc:title>com sd overview</dc:title>
</cp:coreProperties>
</file>