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62560" y="6485040"/>
            <a:ext cx="1886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BB71991B-9521-4C0D-A335-F6A7D6037C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360" y="566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4960" y="471816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640" y="6607080"/>
            <a:ext cx="29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COM MD PBM BA – Dec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520" y="3002040"/>
            <a:ext cx="8817120" cy="1598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240" y="3255840"/>
            <a:ext cx="4249800" cy="61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7080" y="149400"/>
            <a:ext cx="881856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40640" y="8100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00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47560" y="41958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s of a mobile device: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05 01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rchas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ctions of a mobile device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main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d receiv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onnections using variou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ring 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menu, telephone book, calling par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telephon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&amp; standby time for teleph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al to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quat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photo /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stream / show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play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5680" y="1087560"/>
            <a:ext cx="4213080" cy="52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 playing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g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utdoor/leisure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 from environmental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/outdoor and leisure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messaging standards (e.g. SMS, MMS, IM, POC,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protocols (e.g. IP, SIP,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PIM &amp; busines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A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viewing and e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business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additio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nnovative services/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2268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Necessary Parts (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F (Base Band IC, RF, Power Supply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s (PS (Lumberg)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-Components (analog &amp; discr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sensors (e.g. temperature, tilt, acceleration, heart, altimeter, barometer, compass, proximity, smell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holder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ing. Keypad, acou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&amp; Low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nting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ad including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and 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access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ffects /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ient size and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and dust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-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need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to be latest by that point of time (e.g. color display, 1 Mpix camera, W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lk- and standb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– play  “games”, see videos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connection / download (UMTS, EDG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and synchronization of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ransfer (Bluetooth, IrDA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corporate mail, server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-/ Receive -/ Stor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, MMS, Video conferenc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s, Instant messaging, Blogg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and Flexibility (exchangeable)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music, vide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, see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located, or to locate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ind a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ave coverage, and to contact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tion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of key strokes (for key fun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enter/ start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36:31Z</dcterms:created>
  <dc:creator>Seidenschwarz &amp; Comp. GmbH</dc:creator>
  <dc:description/>
  <dc:language>en-US</dc:language>
  <cp:lastModifiedBy>Dirk Lutterbeck</cp:lastModifiedBy>
  <dcterms:modified xsi:type="dcterms:W3CDTF">2005-05-09T13:24:06Z</dcterms:modified>
  <cp:revision>18</cp:revision>
  <dc:subject/>
  <dc:title>Folie 1</dc:title>
</cp:coreProperties>
</file>