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D01-DD5E-4475-AD92-A7A1FD0B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893-B3BF-4DFB-A210-E2C0A2A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6F9-AB1E-46D7-8EAC-56FF066A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010-73BD-4CBC-9F33-FD9C7DB5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8CD-C9D0-4A79-A0F6-D6B0E514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0A9-6E9D-421B-A5DA-F94F4303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A17-AE80-46AE-94D6-58CFC1B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EEA-D162-46B2-9F6D-D31DA21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64D-9F82-4C1D-A4E6-A9C239F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22A-9C5B-49DC-B631-CF8AC44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264-96A3-4024-BDC4-7D03E59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FFF-F92D-4FF3-AD1D-716FD38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C69-23B3-454F-A3FE-9F0C2B3A923E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799308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Mobile Phone Manager – mpm</a:t>
            </a:r>
            <a:br>
              <a:rPr sz="48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Call Control (CTI)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Mobile Notifier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Bei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SWM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-02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 (CTI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43440" y="2960640"/>
            <a:ext cx="35434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934400" cy="47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3400" y="3011400"/>
            <a:ext cx="37404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8880" y="3316320"/>
            <a:ext cx="2806920" cy="253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556000" y="2707920"/>
            <a:ext cx="3744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275000" y="4532040"/>
            <a:ext cx="1656000" cy="46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2200" y="4421160"/>
            <a:ext cx="1650960" cy="132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079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Call Control – directly from mpm-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Dial calls directly from Outlook or Phone-Adressbook via PC (C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Handle calls via PC (Dial / Conference / Hang-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ecommended use with BT connection (maybe w/ head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view with one cal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initiate and handle conferences via Virtual Conference Ro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9000"/>
            <a:ext cx="6931080" cy="425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492280"/>
            <a:ext cx="1193760" cy="27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with one call on hol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6959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ference with two people (up to 6 persons possibl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400" y="2179800"/>
            <a:ext cx="3961080" cy="25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35600" y="2181240"/>
            <a:ext cx="347508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6440" y="3174840"/>
            <a:ext cx="1633320" cy="87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05240" y="2752200"/>
            <a:ext cx="1341360" cy="64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9520" y="3987720"/>
            <a:ext cx="3390840" cy="2949480"/>
          </a:xfrm>
          <a:prstGeom prst="rect">
            <a:avLst/>
          </a:prstGeom>
          <a:solidFill>
            <a:srgbClr val="cc99ff">
              <a:alpha val="4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 Bold"/>
              </a:rPr>
              <a:t>Easy conference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put back to single call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in additional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out single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hang up whole conference 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MPM active in the system tr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incoming events (e.g. SMS, calls) an agent pops-up and offers handl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025880" y="2390760"/>
            <a:ext cx="3505320" cy="257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09960" y="5232240"/>
            <a:ext cx="3992760" cy="8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3440" y="4759200"/>
            <a:ext cx="98604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5543640"/>
            <a:ext cx="986040" cy="53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36840" y="5033880"/>
            <a:ext cx="1903320" cy="55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9560" y="2309760"/>
            <a:ext cx="2768760" cy="363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2662200" y="2914560"/>
            <a:ext cx="15415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: message hand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demand incoming SMS gets directly opened via MPM Messenger by one Cli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9560" y="2538360"/>
            <a:ext cx="2768760" cy="340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44920" y="2300400"/>
            <a:ext cx="4897440" cy="365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4640" y="3575160"/>
            <a:ext cx="3233880" cy="43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ombrowskic</cp:lastModifiedBy>
  <dcterms:modified xsi:type="dcterms:W3CDTF">2006-02-28T08:49:03Z</dcterms:modified>
  <cp:revision>52</cp:revision>
  <dc:subject/>
  <dc:title>PowerPoint 簡報</dc:title>
</cp:coreProperties>
</file>