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6A6F-9ADC-47B6-88C7-3D0FDFA5A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5A3E-1BB1-4752-8A7B-A11F2B0D6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6E03-6360-4625-813F-784260820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974B-C93B-4D0C-B6DD-9FCE9B905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FF47-69D4-4C25-BB1F-6DC2E2DB2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355C-B2EB-4171-AF6E-C6A941E7A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7D6D-31DF-4AEB-B4D2-F8E2785BA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1938-48A6-4735-A222-4774633B6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1878-F045-489C-BB11-09AB5897E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E146-95AA-48DB-8DF6-42FBB13B0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14AA-C101-44BA-9291-18E975877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D9E0-F6EA-4C50-B15B-7C98789C8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2560" y="6422400"/>
            <a:ext cx="29574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176720" y="6392160"/>
            <a:ext cx="790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8619-AD9B-4D69-AD84-0D1C53F94A64}" type="slidenum">
              <a: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hange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arch 200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40520" y="1413000"/>
            <a:ext cx="274140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o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10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dfinch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7/06 to 08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li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09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sp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6/06 to 07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set Bluetoot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ereo (HHB-180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3/06 to 05/06 (Euro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Cancel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hanges vs. Roadmap from January 2006 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413000"/>
            <a:ext cx="264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New Produ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es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" y="1413000"/>
            <a:ext cx="27320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Product launch na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ippe: C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ft: EL7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ss C1A: EF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ysses B1: S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dora B2: EF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B1: E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5: CF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ost important changes in the B2B communication section: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25360"/>
            <a:ext cx="81532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BIT Communication K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information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-Siemens brand and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BIT product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large version (zip-file) includes trailers and should be unzipped and saved to a disc for best performanc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S.O.A.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al presentation of the Call Control / Mobile Notifier feature of M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available for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2-native ph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57:02Z</dcterms:created>
  <dc:creator> </dc:creator>
  <dc:description/>
  <dc:language>en-US</dc:language>
  <cp:lastModifiedBy>dombrowskic</cp:lastModifiedBy>
  <dcterms:modified xsi:type="dcterms:W3CDTF">2006-03-02T14:25:49Z</dcterms:modified>
  <cp:revision>6</cp:revision>
  <dc:subject/>
  <dc:title>Change List</dc:title>
</cp:coreProperties>
</file>