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870-F701-4D6A-B095-744C2084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E8D-C9BA-4CB2-849C-09ECDEC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D59-244A-47EC-9AE4-F4702961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454-A2FF-4A8F-B892-4F34F089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3AF-295C-4527-B344-48B99446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9C7-6D36-49A0-A5AA-7B959D9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284-FEC5-4A47-8427-F911528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04D-F4C5-4AA3-8F88-134112FE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AA1-37FC-4522-8779-C3C57DB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EF4-D4C0-4A69-96A5-667896C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C49-451E-44AC-839D-484C230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347-C032-4A0E-B73A-F67806A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B375-8DC3-46A8-ABAB-952EBEF2548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799308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Mobile Phone Manager – mpm</a:t>
            </a:r>
            <a:br>
              <a:rPr sz="48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Call Control (CTI)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Mobile Notifier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Beim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SWM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-02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 (CTI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43440" y="2960640"/>
            <a:ext cx="354348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934400" cy="47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3400" y="3011400"/>
            <a:ext cx="37404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8880" y="3316320"/>
            <a:ext cx="2806920" cy="253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556000" y="2707920"/>
            <a:ext cx="3744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275000" y="4532040"/>
            <a:ext cx="1656000" cy="46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02200" y="4421160"/>
            <a:ext cx="1650960" cy="1320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079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Call Control – directly from mpm-Organ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Dial calls directly from Outlook or Phone-Adressbook via PC (C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Handle calls via PC (Dial / Conference / Hang-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ecommended use with BT connection (maybe w/ head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view with one cal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initiate and handle conferences via Virtual Conference Ro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9000"/>
            <a:ext cx="6931080" cy="425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492280"/>
            <a:ext cx="1193760" cy="279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with one call on hol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69595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ference with two people (up to 6 persons possibl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400" y="2179800"/>
            <a:ext cx="3961080" cy="257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35600" y="2181240"/>
            <a:ext cx="347508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6440" y="3174840"/>
            <a:ext cx="1633320" cy="87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05240" y="2752200"/>
            <a:ext cx="1341360" cy="64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89520" y="3987720"/>
            <a:ext cx="3390840" cy="2949480"/>
          </a:xfrm>
          <a:prstGeom prst="rect">
            <a:avLst/>
          </a:prstGeom>
          <a:solidFill>
            <a:srgbClr val="cc99ff">
              <a:alpha val="4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 Bold"/>
              </a:rPr>
              <a:t>Easy conference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put back to single call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in additional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out single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hang up whole conference at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MPM active in the system tr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incoming events (e.g. SMS, calls) an agent pops-up and offers handl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025880" y="2390760"/>
            <a:ext cx="3505320" cy="257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09960" y="5232240"/>
            <a:ext cx="3992760" cy="8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13440" y="4759200"/>
            <a:ext cx="98604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5543640"/>
            <a:ext cx="986040" cy="53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36840" y="5033880"/>
            <a:ext cx="1903320" cy="55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9560" y="2309760"/>
            <a:ext cx="2768760" cy="363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2662200" y="2914560"/>
            <a:ext cx="15415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: message hand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demand incoming SMS gets directly opened via MPM Messenger by one Cli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9560" y="2538360"/>
            <a:ext cx="2768760" cy="340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44920" y="2300400"/>
            <a:ext cx="4897440" cy="365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4640" y="3575160"/>
            <a:ext cx="3233880" cy="434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ombrowskic</cp:lastModifiedBy>
  <dcterms:modified xsi:type="dcterms:W3CDTF">2006-02-28T08:49:03Z</dcterms:modified>
  <cp:revision>52</cp:revision>
  <dc:subject/>
  <dc:title>PowerPoint 簡報</dc:title>
</cp:coreProperties>
</file>