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FE69F-4E84-4F01-A346-214C39C6E3B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B1417-CFD6-47A8-A2B2-AA01A396572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11860-451C-4C31-AE25-03A185E12E7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D723C-7218-4B50-ABB6-C7BE8C1CD7E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418AA-3F5B-46CC-9E3B-D19ABA213FD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558FD04-5FD5-439F-AAC5-C2247F77E223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4:58:32Z</dcterms:modified>
  <cp:revision>558</cp:revision>
  <dc:subject/>
  <dc:title>Managers' Communication</dc:title>
</cp:coreProperties>
</file>