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04E-D29B-488B-8ECC-F42C6E83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EF8-3342-46C7-9BB1-64745F66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BE5-58AC-4C29-8028-16213ABA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7ED-4822-4C4C-9E58-235BBF60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424-1674-483E-8B70-1B52CDB3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0D0-D89C-45DB-B100-5A3DF169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E19-5D52-4472-8846-C9FAA873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92C-2A3A-4BC6-B9EF-711EF778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2C0-3043-4BE2-B2C4-5DCAE8A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232-594D-47EE-AB0B-C0F94EC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30F-6D41-4A2E-B5DF-98D32E0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23D-EE2B-4680-B129-6F12E21C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8AF2-5C23-4279-8D75-7F0D093E3C21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dd/mm/yyyy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esentation Title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esenter’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ate (DD/MM/YYY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19920" y="425520"/>
            <a:ext cx="25653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Heading Level On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rst line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lin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li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li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New Section Title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aron.Johnson</cp:lastModifiedBy>
  <dcterms:modified xsi:type="dcterms:W3CDTF">2006-06-21T06:29:56Z</dcterms:modified>
  <cp:revision>50</cp:revision>
  <dc:subject/>
  <dc:title>PowerPoint 簡報</dc:title>
</cp:coreProperties>
</file>