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18FB67-E835-4213-B32F-1AEFDC9840A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AD6C9F-65C0-441B-A227-85F48E2F7DD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C17987B9-5E96-46BC-B7D5-1466B86C92B9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Juergen Schmitz</cp:lastModifiedBy>
  <dcterms:modified xsi:type="dcterms:W3CDTF">2006-03-24T13:44:04Z</dcterms:modified>
  <cp:revision>530</cp:revision>
  <dc:subject/>
  <dc:title>All-hands meeting</dc:title>
</cp:coreProperties>
</file>