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26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717800"/>
            <a:ext cx="4894200" cy="446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3BFAAA-421A-47A8-924A-95C65508597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48DCF5-B026-4C58-B95B-F0F1F1A9AAD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99628E-F200-4744-8379-5661812FC4F4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B85612-2996-4973-8D20-13B0C22BD5EA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03B33E-9E1C-4F3B-948D-56BA6E0E6120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21; Sv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4878033B-6FE3-41AD-8051-23841FB4A428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3968640"/>
            <a:ext cx="845820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Supporting Messages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Managers' Communic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1179360"/>
            <a:ext cx="8569080" cy="3418200"/>
          </a:xfrm>
          <a:prstGeom prst="roundRect">
            <a:avLst>
              <a:gd name="adj" fmla="val 6181"/>
            </a:avLst>
          </a:prstGeom>
          <a:solidFill>
            <a:srgbClr val="cfcddf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formula of competitiveness sets the priorit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2979720"/>
            <a:ext cx="2016360" cy="0"/>
          </a:xfrm>
          <a:prstGeom prst="line">
            <a:avLst/>
          </a:prstGeom>
          <a:ln w="2844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8120" y="2593800"/>
            <a:ext cx="4086360" cy="1315080"/>
            <a:chOff x="438120" y="2593800"/>
            <a:chExt cx="4086360" cy="1315080"/>
          </a:xfrm>
        </p:grpSpPr>
        <p:sp>
          <p:nvSpPr>
            <p:cNvPr id="155" name=""/>
            <p:cNvSpPr/>
            <p:nvPr/>
          </p:nvSpPr>
          <p:spPr>
            <a:xfrm>
              <a:off x="438120" y="2593800"/>
              <a:ext cx="374652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4000" spc="-1" strike="noStrike">
                  <a:solidFill>
                    <a:srgbClr val="3a0e66"/>
                  </a:solidFill>
                  <a:latin typeface="Minion"/>
                </a:rPr>
                <a:t>Competitivenes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098960" y="2908440"/>
              <a:ext cx="425520" cy="142560"/>
              <a:chOff x="4098960" y="2908440"/>
              <a:chExt cx="425520" cy="142560"/>
            </a:xfrm>
          </p:grpSpPr>
          <p:sp>
            <p:nvSpPr>
              <p:cNvPr id="157" name=""/>
              <p:cNvSpPr/>
              <p:nvPr/>
            </p:nvSpPr>
            <p:spPr>
              <a:xfrm>
                <a:off x="4098960" y="290844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98960" y="305100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4932360" y="1900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8076a8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2360" y="3124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6a0c2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1560" y="2577960"/>
            <a:ext cx="20912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× 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989000"/>
            <a:ext cx="7272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17720" y="289548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41760" y="325296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2440" y="5076720"/>
            <a:ext cx="664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sk yourself, whether you can do it </a:t>
            </a:r>
            <a:br>
              <a:rPr sz="28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tter, faster, and che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Formula of competi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3360" y="5832360"/>
            <a:ext cx="8810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6600" y="2011320"/>
            <a:ext cx="8464680" cy="38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0080" y="1758960"/>
            <a:ext cx="5470560" cy="407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175896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070320" y="2030400"/>
            <a:ext cx="14040" cy="37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758960"/>
            <a:ext cx="0" cy="40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2240" y="1989000"/>
            <a:ext cx="792000" cy="1440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54440" y="2588040"/>
            <a:ext cx="1274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83000"/>
            <a:ext cx="792360" cy="1116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129240" y="3931200"/>
            <a:ext cx="1224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68560" y="4581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788840"/>
            <a:ext cx="63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9560" y="1788840"/>
            <a:ext cx="143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1788840"/>
            <a:ext cx="130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6640" y="5881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4840" y="5943600"/>
            <a:ext cx="92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Start of activ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00720" y="5943600"/>
            <a:ext cx="171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Concept definition miles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79760" y="59277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56080" y="5943600"/>
            <a:ext cx="6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ull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0640" y="58802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68160" y="594360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irs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63040" y="59007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6000" y="620640"/>
            <a:ext cx="1908000" cy="3333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620640"/>
            <a:ext cx="13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Expand terri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1041480"/>
            <a:ext cx="2062080" cy="712800"/>
          </a:xfrm>
          <a:custGeom>
            <a:avLst/>
            <a:gdLst/>
            <a:ahLst/>
            <a:rect l="l" t="t" r="r" b="b"/>
            <a:pathLst>
              <a:path w="1472" h="536">
                <a:moveTo>
                  <a:pt x="1472" y="0"/>
                </a:moveTo>
                <a:lnTo>
                  <a:pt x="1472" y="536"/>
                </a:lnTo>
                <a:lnTo>
                  <a:pt x="0" y="536"/>
                </a:lnTo>
                <a:lnTo>
                  <a:pt x="1472" y="0"/>
                </a:lnTo>
                <a:close/>
              </a:path>
            </a:pathLst>
          </a:custGeom>
          <a:gradFill rotWithShape="0">
            <a:gsLst>
              <a:gs pos="0">
                <a:srgbClr val="9999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53200" y="127800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Sustainable</a:t>
            </a:r>
            <a:br>
              <a:rPr sz="1400"/>
            </a:b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turn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9360" y="5904000"/>
            <a:ext cx="1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679400"/>
                <a:tab algn="l" pos="269568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41480" y="5943600"/>
            <a:ext cx="109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Milestone re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009800"/>
            <a:ext cx="4248360" cy="7491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47040" y="1360440"/>
            <a:ext cx="705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Ge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171880"/>
            <a:ext cx="2376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M Implementation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WE Sales 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EE Market Intim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LAM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Asia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357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4638600"/>
            <a:ext cx="792360" cy="1181160"/>
          </a:xfrm>
          <a:custGeom>
            <a:avLst/>
            <a:gdLst>
              <a:gd name="textAreaLeft" fmla="*/ 0 w 792360"/>
              <a:gd name="textAreaRight" fmla="*/ 792720 w 7923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92160" y="5119200"/>
            <a:ext cx="780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240" y="42480"/>
            <a:ext cx="7846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n key initiatives are driving the turn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7320" y="1017720"/>
            <a:ext cx="368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Minion"/>
                <a:ea typeface="文鼎中黑"/>
              </a:rPr>
              <a:t>BenQ Mobile turnaround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804000" y="1989000"/>
            <a:ext cx="1440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349600" y="20304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514836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832200"/>
            <a:ext cx="22557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PLM Excell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Mobilize collabo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4838760"/>
            <a:ext cx="22557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cost sensi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product cost 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Reduce non-conformance </a:t>
            </a:r>
            <a:br>
              <a:rPr sz="1300"/>
            </a:b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ost (NC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52480" y="1103400"/>
            <a:ext cx="5457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H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23954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59720" y="2430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670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6000" y="269064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72240" y="38149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1960" y="38433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2276640"/>
            <a:ext cx="4032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28880" y="19890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92840" y="21430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72240" y="4159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17960" y="420228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3916440"/>
            <a:ext cx="3240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7640" y="21556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4281480"/>
            <a:ext cx="331308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41464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7958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4888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72240" y="4797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7760" y="48020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4680" y="481500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52322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62880" y="51195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51624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1000" y="50976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2554200"/>
            <a:ext cx="38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3400" y="24084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67360" y="24415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2784600"/>
            <a:ext cx="28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9400" y="26686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90880" y="27162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19200" y="16844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5080" y="1684440"/>
            <a:ext cx="10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8076a8"/>
                </a:solidFill>
                <a:latin typeface="Minion"/>
                <a:ea typeface="文鼎中黑"/>
              </a:rPr>
              <a:t>L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97280" y="24955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04240" y="249552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99000" y="294624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29671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14640" y="3060720"/>
            <a:ext cx="28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24240" y="29448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1520" y="29923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9000" y="321300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2040" y="3205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4640" y="3327480"/>
            <a:ext cx="475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3120" y="32018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9160" y="325908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0560" y="325764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2479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6720" y="219708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6800" y="56228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12160" y="323856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120" y="6226200"/>
            <a:ext cx="175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* Includes Sales Margin+ 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21337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59320" y="219708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78320" y="220824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9680" y="4137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79680" y="377208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79680" y="48038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7360" y="1928880"/>
            <a:ext cx="7272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0800" y="34322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9880" y="45878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3720" y="14760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Key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4376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behavior is guided by common values (PEC)</a:t>
            </a:r>
            <a:r>
              <a:rPr b="1" lang="en-US" sz="2800" spc="-1" strike="noStrike" baseline="30000">
                <a:solidFill>
                  <a:srgbClr val="3a0e66"/>
                </a:solidFill>
                <a:latin typeface="Minion"/>
              </a:rPr>
              <a:t>2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"/>
          <p:cNvSpPr/>
          <p:nvPr/>
        </p:nvSpPr>
        <p:spPr>
          <a:xfrm>
            <a:off x="7596360" y="141120"/>
            <a:ext cx="1423800" cy="3416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75480" y="1018440"/>
            <a:ext cx="4610880" cy="3968640"/>
            <a:chOff x="2175480" y="1018440"/>
            <a:chExt cx="4610880" cy="3968640"/>
          </a:xfrm>
        </p:grpSpPr>
        <p:sp>
          <p:nvSpPr>
            <p:cNvPr id="273" name=""/>
            <p:cNvSpPr/>
            <p:nvPr/>
          </p:nvSpPr>
          <p:spPr>
            <a:xfrm>
              <a:off x="2562120" y="1084320"/>
              <a:ext cx="3856320" cy="3335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6640" y="2337120"/>
              <a:ext cx="208728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alu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Uncompromising</a:t>
              </a:r>
              <a:br>
                <a:rPr sz="2000"/>
              </a:b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tegrit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3480" y="3038400"/>
              <a:ext cx="1892160" cy="0"/>
            </a:xfrm>
            <a:prstGeom prst="line">
              <a:avLst/>
            </a:prstGeom>
            <a:ln w="1908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000000">
              <a:off x="1663560" y="228024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assion &amp; Professional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3600000">
              <a:off x="3983040" y="2270520"/>
              <a:ext cx="3314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ring &amp; Con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33560" y="425520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xecution &amp; Excel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919240" y="4951440"/>
            <a:ext cx="349920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ximizing customer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del corporate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tecting and preserving the 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erving energy &amp; resource re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aring for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ultivating human t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8440" y="1647720"/>
            <a:ext cx="24652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aking ownership of du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ip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ulfilling commi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uth see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72280" y="1647720"/>
            <a:ext cx="24858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fficient tim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Upgrading quality of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3680" y="51120"/>
            <a:ext cx="8766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nd spirits for a challenging business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77960" y="250812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734000" y="257328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843120" y="3938760"/>
            <a:ext cx="3289320" cy="880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734000" y="3903840"/>
            <a:ext cx="2754360" cy="88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05360" y="1558800"/>
            <a:ext cx="4656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ehaviors / Action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62320" y="1073160"/>
            <a:ext cx="25639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Intrapreneurship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918880" y="1780560"/>
            <a:ext cx="4877280" cy="3643200"/>
            <a:chOff x="2918880" y="1780560"/>
            <a:chExt cx="4877280" cy="3643200"/>
          </a:xfrm>
        </p:grpSpPr>
        <p:sp>
          <p:nvSpPr>
            <p:cNvPr id="291" name=""/>
            <p:cNvSpPr/>
            <p:nvPr/>
          </p:nvSpPr>
          <p:spPr>
            <a:xfrm>
              <a:off x="5214960" y="2114640"/>
              <a:ext cx="25812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Judgment</a:t>
              </a: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8880" y="1780560"/>
              <a:ext cx="3443040" cy="364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409"/>
                  </a:moveTo>
                  <a:arcTo wR="10800" hR="10800" stAng="-4450963" swAng="15979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409"/>
                  </a:moveTo>
                  <a:arcTo wR="10800" hR="10800" stAng="-4450963" swAng="1597982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951280" y="1769400"/>
            <a:ext cx="5254560" cy="3642480"/>
            <a:chOff x="2951280" y="1769400"/>
            <a:chExt cx="5254560" cy="3642480"/>
          </a:xfrm>
        </p:grpSpPr>
        <p:sp>
          <p:nvSpPr>
            <p:cNvPr id="294" name=""/>
            <p:cNvSpPr/>
            <p:nvPr/>
          </p:nvSpPr>
          <p:spPr>
            <a:xfrm>
              <a:off x="5780160" y="3863880"/>
              <a:ext cx="24256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Seek success</a:t>
              </a:r>
              <a:br>
                <a:rPr sz="24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managed ri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51280" y="1769400"/>
              <a:ext cx="3441240" cy="364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1" y="6557"/>
                  </a:moveTo>
                  <a:arcTo wR="10800" hR="10800" stAng="-1388128" swAng="184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1" y="6557"/>
                  </a:moveTo>
                  <a:arcTo wR="10800" hR="10800" stAng="-1388128" swAng="1848069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931120" y="1792800"/>
            <a:ext cx="3437280" cy="4679280"/>
            <a:chOff x="2931120" y="1792800"/>
            <a:chExt cx="3437280" cy="4679280"/>
          </a:xfrm>
        </p:grpSpPr>
        <p:sp>
          <p:nvSpPr>
            <p:cNvPr id="297" name=""/>
            <p:cNvSpPr/>
            <p:nvPr/>
          </p:nvSpPr>
          <p:spPr>
            <a:xfrm>
              <a:off x="3224160" y="5478480"/>
              <a:ext cx="299088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erpetual impro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a sound ba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31120" y="1792800"/>
              <a:ext cx="3437280" cy="364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67" y="16346"/>
                  </a:moveTo>
                  <a:arcTo wR="10800" hR="10800" stAng="1854026" swAng="2200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67" y="16346"/>
                  </a:moveTo>
                  <a:arcTo wR="10800" hR="10800" stAng="1854026" swAng="2200915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49240" y="1807920"/>
            <a:ext cx="5953680" cy="3642120"/>
            <a:chOff x="849240" y="1807920"/>
            <a:chExt cx="5953680" cy="3642120"/>
          </a:xfrm>
        </p:grpSpPr>
        <p:sp>
          <p:nvSpPr>
            <p:cNvPr id="300" name=""/>
            <p:cNvSpPr/>
            <p:nvPr/>
          </p:nvSpPr>
          <p:spPr>
            <a:xfrm>
              <a:off x="849240" y="4116240"/>
              <a:ext cx="256608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Multi-functionalists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specia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33320" y="1807920"/>
              <a:ext cx="4269600" cy="36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10" y="21087"/>
                  </a:moveTo>
                  <a:arcTo wR="10800" hR="10800" stAng="6464106" swAng="1793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7510" y="21087"/>
                  </a:moveTo>
                  <a:arcTo wR="10800" hR="10800" stAng="6464106" swAng="179316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927000" y="1698480"/>
            <a:ext cx="5298840" cy="3751200"/>
            <a:chOff x="927000" y="1698480"/>
            <a:chExt cx="5298840" cy="3751200"/>
          </a:xfrm>
        </p:grpSpPr>
        <p:sp>
          <p:nvSpPr>
            <p:cNvPr id="303" name=""/>
            <p:cNvSpPr/>
            <p:nvPr/>
          </p:nvSpPr>
          <p:spPr>
            <a:xfrm>
              <a:off x="2765520" y="1805040"/>
              <a:ext cx="3434760" cy="36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9" y="13284"/>
                  </a:moveTo>
                  <a:arcTo wR="10800" hR="10800" stAng="10002241" swAng="1815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89" y="13284"/>
                  </a:moveTo>
                  <a:arcTo wR="10800" hR="10800" stAng="10002241" swAng="1815300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7000" y="2319480"/>
              <a:ext cx="27385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wnership</a:t>
              </a:r>
              <a:br>
                <a:rPr sz="24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with engag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97200" y="1698480"/>
              <a:ext cx="3428640" cy="364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1" y="3701"/>
                  </a:moveTo>
                  <a:arcTo wR="10800" hR="10800" stAng="-8334094" swAng="1744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1" y="3701"/>
                  </a:moveTo>
                  <a:arcTo wR="10800" hR="10800" stAng="-8334094" swAng="174469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289320" y="2460600"/>
            <a:ext cx="26258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ight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igh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Cost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My business</a:t>
            </a:r>
            <a:br>
              <a:rPr sz="24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...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312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strive towards a Winning Culture combin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best of both world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28520" y="1203480"/>
            <a:ext cx="6215040" cy="44211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262080"/>
            <a:ext cx="8456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t’s apply BED 2 BED and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1" name=""/>
          <p:cNvSpPr/>
          <p:nvPr/>
        </p:nvSpPr>
        <p:spPr>
          <a:xfrm>
            <a:off x="2119320" y="58132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let's enterprise, agai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7812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ack 2 Basic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have a keen eye on what's relevant and don't waste time for tri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290520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Execute 2 Excellence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improve your skills and talents and always act together as a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40528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own 2 Details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discuss the details to avoid unnecessary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70160" y="578484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60280"/>
            <a:ext cx="8623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verview of elements to communicate regularly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5920" y="993600"/>
            <a:ext cx="8418240" cy="3218760"/>
            <a:chOff x="385920" y="993600"/>
            <a:chExt cx="8418240" cy="3218760"/>
          </a:xfrm>
        </p:grpSpPr>
        <p:sp>
          <p:nvSpPr>
            <p:cNvPr id="54" name=""/>
            <p:cNvSpPr/>
            <p:nvPr/>
          </p:nvSpPr>
          <p:spPr>
            <a:xfrm>
              <a:off x="2544840" y="1056960"/>
              <a:ext cx="6259320" cy="31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BenQ Mobile has formulated a clea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This vision is expressed by 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b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point master plan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corner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formula of competitivenes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prior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ith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key initiativ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driving the turna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920" y="993600"/>
              <a:ext cx="2016000" cy="217476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74760"/>
                <a:gd name="textAreaBottom" fmla="*/ 2175120 h 21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i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85920" y="5924520"/>
            <a:ext cx="86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nion"/>
                <a:ea typeface="文鼎中黑"/>
              </a:rPr>
              <a:t>Let’s enterprise, again !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5920" y="3382920"/>
            <a:ext cx="8418240" cy="2130480"/>
            <a:chOff x="385920" y="3382920"/>
            <a:chExt cx="8418240" cy="2130480"/>
          </a:xfrm>
        </p:grpSpPr>
        <p:sp>
          <p:nvSpPr>
            <p:cNvPr id="58" name=""/>
            <p:cNvSpPr/>
            <p:nvPr/>
          </p:nvSpPr>
          <p:spPr>
            <a:xfrm>
              <a:off x="2544840" y="3681360"/>
              <a:ext cx="625932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behavior is guided by common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alu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spirit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,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e strive towards 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Winning Culture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combining the best of both wor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5920" y="3382920"/>
              <a:ext cx="2016000" cy="21304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hav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2346480"/>
            <a:ext cx="8305920" cy="17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Leading the Way to a New Mobile Lifestyle: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Keep Exploring.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Mobile has formulated a clear vis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vision is expressed by our brand position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1614600"/>
            <a:ext cx="76453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is a fusion of engineering competence with consumer lifestyle and design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offers surprising, innovative, and elegant solutions that expand ones possibilities 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design and style, dynamic and powerful performance or truly amazing, unusual new mobile ideas – BenQ-Siemens sets out to let consumers explore new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is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92680" y="1500120"/>
            <a:ext cx="4374360" cy="4492440"/>
            <a:chOff x="4792680" y="1500120"/>
            <a:chExt cx="4374360" cy="4492440"/>
          </a:xfrm>
        </p:grpSpPr>
        <p:sp>
          <p:nvSpPr>
            <p:cNvPr id="68" name=""/>
            <p:cNvSpPr/>
            <p:nvPr/>
          </p:nvSpPr>
          <p:spPr>
            <a:xfrm>
              <a:off x="505620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984560" y="150012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89800" y="170784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486560" y="2531880"/>
              <a:ext cx="1680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542000" y="396072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534080" y="456552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723640" y="492120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503480" y="335736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243400" y="5549760"/>
              <a:ext cx="1770120" cy="27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4792680" y="1946160"/>
              <a:ext cx="2708280" cy="2708280"/>
              <a:chOff x="4792680" y="1946160"/>
              <a:chExt cx="2708280" cy="2708280"/>
            </a:xfrm>
          </p:grpSpPr>
          <p:sp>
            <p:nvSpPr>
              <p:cNvPr id="78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solidFill>
                <a:srgbClr val="3366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35880" y="1279440"/>
            <a:ext cx="4240800" cy="4713120"/>
            <a:chOff x="335880" y="1279440"/>
            <a:chExt cx="4240800" cy="4713120"/>
          </a:xfrm>
        </p:grpSpPr>
        <p:sp>
          <p:nvSpPr>
            <p:cNvPr id="81" name=""/>
            <p:cNvSpPr/>
            <p:nvPr/>
          </p:nvSpPr>
          <p:spPr>
            <a:xfrm>
              <a:off x="206496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3"/>
            <a:srcRect l="0" t="6721" r="0" b="0"/>
            <a:stretch/>
          </p:blipFill>
          <p:spPr>
            <a:xfrm>
              <a:off x="2334960" y="5421240"/>
              <a:ext cx="16416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flipH="1">
              <a:off x="2261520" y="1279440"/>
              <a:ext cx="1792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35880" y="1707840"/>
              <a:ext cx="2095200" cy="3132360"/>
              <a:chOff x="335880" y="1707840"/>
              <a:chExt cx="2095200" cy="313236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562680" y="3978000"/>
                <a:ext cx="1456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Fast mov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416600" y="456552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Youthf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06800" y="3317760"/>
                <a:ext cx="1258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Innova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35520" y="2619360"/>
                <a:ext cx="146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nnectiv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3960" y="1707840"/>
                <a:ext cx="1471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Multimedia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mpe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2890080" y="492120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734840" y="1879560"/>
              <a:ext cx="2841840" cy="2841480"/>
              <a:chOff x="1734840" y="1879560"/>
              <a:chExt cx="2841840" cy="2841480"/>
            </a:xfrm>
          </p:grpSpPr>
          <p:sp>
            <p:nvSpPr>
              <p:cNvPr id="92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5899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fusion of engineering competence with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festyle and desig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3800" y="1600200"/>
            <a:ext cx="6861600" cy="4492440"/>
            <a:chOff x="1243800" y="1600200"/>
            <a:chExt cx="6861600" cy="4492440"/>
          </a:xfrm>
        </p:grpSpPr>
        <p:sp>
          <p:nvSpPr>
            <p:cNvPr id="97" name=""/>
            <p:cNvSpPr/>
            <p:nvPr/>
          </p:nvSpPr>
          <p:spPr>
            <a:xfrm>
              <a:off x="2085840" y="5483160"/>
              <a:ext cx="4600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rcRect l="21358" t="14029" r="0" b="30220"/>
            <a:stretch/>
          </p:blipFill>
          <p:spPr>
            <a:xfrm>
              <a:off x="2370240" y="5541840"/>
              <a:ext cx="40338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H="1">
              <a:off x="4557240" y="160020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873400" y="210960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982840" y="2887560"/>
              <a:ext cx="21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 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190920" y="395424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911560" y="448776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55240" y="502128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190560" y="342108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73560" y="1600200"/>
              <a:ext cx="266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243440" y="3954240"/>
              <a:ext cx="1456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Fast mo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414240" y="502128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94280" y="3421080"/>
              <a:ext cx="125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Innov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4480" y="2887560"/>
              <a:ext cx="146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42160" y="2109600"/>
              <a:ext cx="1471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Multimedia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890800" y="1960560"/>
              <a:ext cx="2990880" cy="2992320"/>
              <a:chOff x="2890800" y="1960560"/>
              <a:chExt cx="2990880" cy="299232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solidFill>
                <a:srgbClr val="cc99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1914480" y="448776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Youthf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67888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PLORATION is the opportunity space tha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build our brand 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"/>
          <p:cNvSpPr/>
          <p:nvPr/>
        </p:nvSpPr>
        <p:spPr>
          <a:xfrm>
            <a:off x="1449360" y="1487520"/>
            <a:ext cx="6326280" cy="4668840"/>
          </a:xfrm>
          <a:prstGeom prst="ellipse">
            <a:avLst/>
          </a:prstGeom>
          <a:noFill/>
          <a:ln w="1908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1560" y="1160640"/>
            <a:ext cx="118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Harm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5840" y="369720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9920" y="3697200"/>
            <a:ext cx="54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L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22360" y="6195960"/>
            <a:ext cx="98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0800" y="548640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61240" y="1938240"/>
            <a:ext cx="131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ns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5840" y="1938240"/>
            <a:ext cx="103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7000" y="5486400"/>
            <a:ext cx="15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rang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4840" y="1441440"/>
            <a:ext cx="0" cy="478944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06800" y="5556240"/>
            <a:ext cx="1132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1120" y="4924440"/>
            <a:ext cx="94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Rich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8520" y="3313080"/>
            <a:ext cx="88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Life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3080" y="399240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Cultivated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8840" y="4637160"/>
            <a:ext cx="766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814920"/>
            <a:ext cx="6473880" cy="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4760" y="4533840"/>
            <a:ext cx="1932120" cy="930240"/>
          </a:xfrm>
          <a:custGeom>
            <a:avLst/>
            <a:gdLst/>
            <a:ahLst/>
            <a:rect l="l" t="t" r="r" b="b"/>
            <a:pathLst>
              <a:path w="1141" h="574">
                <a:moveTo>
                  <a:pt x="722" y="56"/>
                </a:moveTo>
                <a:cubicBezTo>
                  <a:pt x="810" y="65"/>
                  <a:pt x="849" y="53"/>
                  <a:pt x="914" y="56"/>
                </a:cubicBezTo>
                <a:cubicBezTo>
                  <a:pt x="979" y="59"/>
                  <a:pt x="1089" y="50"/>
                  <a:pt x="1115" y="74"/>
                </a:cubicBezTo>
                <a:cubicBezTo>
                  <a:pt x="1141" y="98"/>
                  <a:pt x="1086" y="159"/>
                  <a:pt x="1069" y="202"/>
                </a:cubicBezTo>
                <a:cubicBezTo>
                  <a:pt x="1052" y="245"/>
                  <a:pt x="1057" y="286"/>
                  <a:pt x="1015" y="330"/>
                </a:cubicBezTo>
                <a:cubicBezTo>
                  <a:pt x="973" y="374"/>
                  <a:pt x="914" y="444"/>
                  <a:pt x="813" y="467"/>
                </a:cubicBezTo>
                <a:cubicBezTo>
                  <a:pt x="712" y="490"/>
                  <a:pt x="533" y="456"/>
                  <a:pt x="411" y="467"/>
                </a:cubicBezTo>
                <a:cubicBezTo>
                  <a:pt x="289" y="478"/>
                  <a:pt x="149" y="574"/>
                  <a:pt x="82" y="531"/>
                </a:cubicBezTo>
                <a:cubicBezTo>
                  <a:pt x="15" y="488"/>
                  <a:pt x="0" y="292"/>
                  <a:pt x="9" y="211"/>
                </a:cubicBezTo>
                <a:cubicBezTo>
                  <a:pt x="18" y="130"/>
                  <a:pt x="74" y="82"/>
                  <a:pt x="137" y="47"/>
                </a:cubicBezTo>
                <a:cubicBezTo>
                  <a:pt x="200" y="12"/>
                  <a:pt x="287" y="0"/>
                  <a:pt x="384" y="1"/>
                </a:cubicBezTo>
                <a:cubicBezTo>
                  <a:pt x="481" y="2"/>
                  <a:pt x="634" y="47"/>
                  <a:pt x="722" y="56"/>
                </a:cubicBezTo>
                <a:close/>
              </a:path>
            </a:pathLst>
          </a:custGeom>
          <a:solidFill>
            <a:srgbClr val="b82a3d"/>
          </a:solidFill>
          <a:ln w="19080">
            <a:solidFill>
              <a:srgbClr val="b82a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0920" y="4656240"/>
            <a:ext cx="1454040" cy="536400"/>
          </a:xfrm>
          <a:prstGeom prst="rect">
            <a:avLst/>
          </a:prstGeom>
          <a:solidFill>
            <a:srgbClr val="b82a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</a:rPr>
              <a:t>Explore Pa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38200" y="1503360"/>
            <a:ext cx="5489640" cy="3660840"/>
          </a:xfrm>
          <a:custGeom>
            <a:avLst/>
            <a:gdLst/>
            <a:ahLst/>
            <a:rect l="l" t="t" r="r" b="b"/>
            <a:pathLst>
              <a:path w="3458" h="2306">
                <a:moveTo>
                  <a:pt x="340" y="2270"/>
                </a:moveTo>
                <a:cubicBezTo>
                  <a:pt x="378" y="2286"/>
                  <a:pt x="411" y="2306"/>
                  <a:pt x="478" y="2264"/>
                </a:cubicBezTo>
                <a:cubicBezTo>
                  <a:pt x="545" y="2222"/>
                  <a:pt x="665" y="2156"/>
                  <a:pt x="742" y="2018"/>
                </a:cubicBezTo>
                <a:cubicBezTo>
                  <a:pt x="819" y="1880"/>
                  <a:pt x="870" y="1581"/>
                  <a:pt x="940" y="1436"/>
                </a:cubicBezTo>
                <a:cubicBezTo>
                  <a:pt x="1010" y="1291"/>
                  <a:pt x="1006" y="1221"/>
                  <a:pt x="1162" y="1148"/>
                </a:cubicBezTo>
                <a:cubicBezTo>
                  <a:pt x="1318" y="1075"/>
                  <a:pt x="1708" y="1038"/>
                  <a:pt x="1876" y="998"/>
                </a:cubicBezTo>
                <a:cubicBezTo>
                  <a:pt x="2044" y="958"/>
                  <a:pt x="2090" y="947"/>
                  <a:pt x="2170" y="908"/>
                </a:cubicBezTo>
                <a:cubicBezTo>
                  <a:pt x="2250" y="869"/>
                  <a:pt x="2252" y="801"/>
                  <a:pt x="2356" y="764"/>
                </a:cubicBezTo>
                <a:cubicBezTo>
                  <a:pt x="2460" y="727"/>
                  <a:pt x="2668" y="698"/>
                  <a:pt x="2794" y="686"/>
                </a:cubicBezTo>
                <a:cubicBezTo>
                  <a:pt x="2920" y="674"/>
                  <a:pt x="3015" y="705"/>
                  <a:pt x="3112" y="692"/>
                </a:cubicBezTo>
                <a:cubicBezTo>
                  <a:pt x="3209" y="679"/>
                  <a:pt x="3324" y="645"/>
                  <a:pt x="3376" y="608"/>
                </a:cubicBezTo>
                <a:cubicBezTo>
                  <a:pt x="3428" y="571"/>
                  <a:pt x="3458" y="522"/>
                  <a:pt x="3424" y="470"/>
                </a:cubicBezTo>
                <a:cubicBezTo>
                  <a:pt x="3390" y="418"/>
                  <a:pt x="3276" y="352"/>
                  <a:pt x="3172" y="296"/>
                </a:cubicBezTo>
                <a:cubicBezTo>
                  <a:pt x="3068" y="240"/>
                  <a:pt x="2920" y="176"/>
                  <a:pt x="2800" y="134"/>
                </a:cubicBezTo>
                <a:cubicBezTo>
                  <a:pt x="2680" y="92"/>
                  <a:pt x="2578" y="66"/>
                  <a:pt x="2452" y="44"/>
                </a:cubicBezTo>
                <a:cubicBezTo>
                  <a:pt x="2326" y="22"/>
                  <a:pt x="2187" y="4"/>
                  <a:pt x="2044" y="2"/>
                </a:cubicBezTo>
                <a:cubicBezTo>
                  <a:pt x="1901" y="0"/>
                  <a:pt x="1737" y="10"/>
                  <a:pt x="1594" y="32"/>
                </a:cubicBezTo>
                <a:cubicBezTo>
                  <a:pt x="1451" y="54"/>
                  <a:pt x="1312" y="92"/>
                  <a:pt x="1186" y="134"/>
                </a:cubicBezTo>
                <a:cubicBezTo>
                  <a:pt x="1060" y="176"/>
                  <a:pt x="943" y="230"/>
                  <a:pt x="838" y="284"/>
                </a:cubicBezTo>
                <a:cubicBezTo>
                  <a:pt x="733" y="338"/>
                  <a:pt x="655" y="376"/>
                  <a:pt x="556" y="458"/>
                </a:cubicBezTo>
                <a:cubicBezTo>
                  <a:pt x="457" y="540"/>
                  <a:pt x="316" y="686"/>
                  <a:pt x="244" y="776"/>
                </a:cubicBezTo>
                <a:cubicBezTo>
                  <a:pt x="172" y="866"/>
                  <a:pt x="160" y="907"/>
                  <a:pt x="124" y="998"/>
                </a:cubicBezTo>
                <a:cubicBezTo>
                  <a:pt x="88" y="1089"/>
                  <a:pt x="47" y="1215"/>
                  <a:pt x="28" y="1322"/>
                </a:cubicBezTo>
                <a:cubicBezTo>
                  <a:pt x="9" y="1429"/>
                  <a:pt x="0" y="1541"/>
                  <a:pt x="10" y="1640"/>
                </a:cubicBezTo>
                <a:cubicBezTo>
                  <a:pt x="20" y="1739"/>
                  <a:pt x="48" y="1828"/>
                  <a:pt x="88" y="1916"/>
                </a:cubicBezTo>
                <a:cubicBezTo>
                  <a:pt x="128" y="2004"/>
                  <a:pt x="203" y="2107"/>
                  <a:pt x="250" y="2168"/>
                </a:cubicBezTo>
                <a:cubicBezTo>
                  <a:pt x="297" y="2229"/>
                  <a:pt x="302" y="2254"/>
                  <a:pt x="340" y="2270"/>
                </a:cubicBezTo>
                <a:close/>
              </a:path>
            </a:pathLst>
          </a:custGeom>
          <a:solidFill>
            <a:srgbClr val="94c43a"/>
          </a:solidFill>
          <a:ln w="19080">
            <a:solidFill>
              <a:srgbClr val="94c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400480"/>
            <a:ext cx="2921040" cy="1742760"/>
          </a:xfrm>
          <a:custGeom>
            <a:avLst/>
            <a:gdLst/>
            <a:ahLst/>
            <a:rect l="l" t="t" r="r" b="b"/>
            <a:pathLst>
              <a:path w="1840" h="1098">
                <a:moveTo>
                  <a:pt x="424" y="775"/>
                </a:moveTo>
                <a:cubicBezTo>
                  <a:pt x="302" y="762"/>
                  <a:pt x="227" y="778"/>
                  <a:pt x="166" y="745"/>
                </a:cubicBezTo>
                <a:cubicBezTo>
                  <a:pt x="105" y="712"/>
                  <a:pt x="84" y="624"/>
                  <a:pt x="58" y="577"/>
                </a:cubicBezTo>
                <a:cubicBezTo>
                  <a:pt x="32" y="530"/>
                  <a:pt x="15" y="509"/>
                  <a:pt x="10" y="463"/>
                </a:cubicBezTo>
                <a:cubicBezTo>
                  <a:pt x="5" y="417"/>
                  <a:pt x="0" y="356"/>
                  <a:pt x="28" y="301"/>
                </a:cubicBezTo>
                <a:cubicBezTo>
                  <a:pt x="56" y="246"/>
                  <a:pt x="65" y="172"/>
                  <a:pt x="178" y="133"/>
                </a:cubicBezTo>
                <a:cubicBezTo>
                  <a:pt x="291" y="94"/>
                  <a:pt x="586" y="85"/>
                  <a:pt x="706" y="67"/>
                </a:cubicBezTo>
                <a:cubicBezTo>
                  <a:pt x="826" y="49"/>
                  <a:pt x="832" y="36"/>
                  <a:pt x="898" y="25"/>
                </a:cubicBezTo>
                <a:cubicBezTo>
                  <a:pt x="964" y="14"/>
                  <a:pt x="1029" y="2"/>
                  <a:pt x="1102" y="1"/>
                </a:cubicBezTo>
                <a:cubicBezTo>
                  <a:pt x="1175" y="0"/>
                  <a:pt x="1269" y="2"/>
                  <a:pt x="1336" y="19"/>
                </a:cubicBezTo>
                <a:cubicBezTo>
                  <a:pt x="1403" y="36"/>
                  <a:pt x="1453" y="56"/>
                  <a:pt x="1504" y="103"/>
                </a:cubicBezTo>
                <a:cubicBezTo>
                  <a:pt x="1555" y="150"/>
                  <a:pt x="1603" y="237"/>
                  <a:pt x="1642" y="301"/>
                </a:cubicBezTo>
                <a:cubicBezTo>
                  <a:pt x="1681" y="365"/>
                  <a:pt x="1711" y="411"/>
                  <a:pt x="1738" y="487"/>
                </a:cubicBezTo>
                <a:cubicBezTo>
                  <a:pt x="1765" y="563"/>
                  <a:pt x="1792" y="673"/>
                  <a:pt x="1804" y="757"/>
                </a:cubicBezTo>
                <a:cubicBezTo>
                  <a:pt x="1816" y="841"/>
                  <a:pt x="1840" y="940"/>
                  <a:pt x="1810" y="991"/>
                </a:cubicBezTo>
                <a:cubicBezTo>
                  <a:pt x="1780" y="1042"/>
                  <a:pt x="1708" y="1049"/>
                  <a:pt x="1624" y="1063"/>
                </a:cubicBezTo>
                <a:cubicBezTo>
                  <a:pt x="1540" y="1077"/>
                  <a:pt x="1395" y="1098"/>
                  <a:pt x="1306" y="1075"/>
                </a:cubicBezTo>
                <a:cubicBezTo>
                  <a:pt x="1217" y="1052"/>
                  <a:pt x="1158" y="967"/>
                  <a:pt x="1090" y="925"/>
                </a:cubicBezTo>
                <a:cubicBezTo>
                  <a:pt x="1022" y="883"/>
                  <a:pt x="1008" y="847"/>
                  <a:pt x="898" y="823"/>
                </a:cubicBezTo>
                <a:cubicBezTo>
                  <a:pt x="788" y="799"/>
                  <a:pt x="546" y="788"/>
                  <a:pt x="424" y="775"/>
                </a:cubicBezTo>
                <a:close/>
              </a:path>
            </a:pathLst>
          </a:custGeom>
          <a:solidFill>
            <a:srgbClr val="d7d427"/>
          </a:solidFill>
          <a:ln w="19080">
            <a:solidFill>
              <a:srgbClr val="d7d4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1600" y="2776680"/>
            <a:ext cx="1454400" cy="536400"/>
          </a:xfrm>
          <a:prstGeom prst="rect">
            <a:avLst/>
          </a:prstGeom>
          <a:solidFill>
            <a:srgbClr val="d7d42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mage &amp;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7840" y="3578400"/>
            <a:ext cx="3348000" cy="2089080"/>
          </a:xfrm>
          <a:custGeom>
            <a:avLst/>
            <a:gdLst/>
            <a:ahLst/>
            <a:rect l="l" t="t" r="r" b="b"/>
            <a:pathLst>
              <a:path w="1997" h="1201">
                <a:moveTo>
                  <a:pt x="1482" y="110"/>
                </a:moveTo>
                <a:cubicBezTo>
                  <a:pt x="1583" y="130"/>
                  <a:pt x="1628" y="157"/>
                  <a:pt x="1692" y="192"/>
                </a:cubicBezTo>
                <a:cubicBezTo>
                  <a:pt x="1756" y="227"/>
                  <a:pt x="1816" y="279"/>
                  <a:pt x="1866" y="320"/>
                </a:cubicBezTo>
                <a:cubicBezTo>
                  <a:pt x="1916" y="361"/>
                  <a:pt x="1997" y="392"/>
                  <a:pt x="1994" y="439"/>
                </a:cubicBezTo>
                <a:cubicBezTo>
                  <a:pt x="1991" y="486"/>
                  <a:pt x="1893" y="584"/>
                  <a:pt x="1847" y="604"/>
                </a:cubicBezTo>
                <a:cubicBezTo>
                  <a:pt x="1801" y="624"/>
                  <a:pt x="1804" y="566"/>
                  <a:pt x="1719" y="558"/>
                </a:cubicBezTo>
                <a:cubicBezTo>
                  <a:pt x="1634" y="550"/>
                  <a:pt x="1442" y="564"/>
                  <a:pt x="1335" y="558"/>
                </a:cubicBezTo>
                <a:cubicBezTo>
                  <a:pt x="1228" y="552"/>
                  <a:pt x="1166" y="524"/>
                  <a:pt x="1079" y="521"/>
                </a:cubicBezTo>
                <a:cubicBezTo>
                  <a:pt x="992" y="518"/>
                  <a:pt x="884" y="519"/>
                  <a:pt x="814" y="540"/>
                </a:cubicBezTo>
                <a:cubicBezTo>
                  <a:pt x="744" y="561"/>
                  <a:pt x="691" y="600"/>
                  <a:pt x="659" y="649"/>
                </a:cubicBezTo>
                <a:cubicBezTo>
                  <a:pt x="627" y="698"/>
                  <a:pt x="636" y="763"/>
                  <a:pt x="622" y="832"/>
                </a:cubicBezTo>
                <a:cubicBezTo>
                  <a:pt x="608" y="901"/>
                  <a:pt x="611" y="1001"/>
                  <a:pt x="576" y="1061"/>
                </a:cubicBezTo>
                <a:cubicBezTo>
                  <a:pt x="541" y="1121"/>
                  <a:pt x="500" y="1201"/>
                  <a:pt x="412" y="1189"/>
                </a:cubicBezTo>
                <a:cubicBezTo>
                  <a:pt x="324" y="1177"/>
                  <a:pt x="92" y="1075"/>
                  <a:pt x="46" y="988"/>
                </a:cubicBezTo>
                <a:cubicBezTo>
                  <a:pt x="0" y="901"/>
                  <a:pt x="112" y="766"/>
                  <a:pt x="138" y="668"/>
                </a:cubicBezTo>
                <a:cubicBezTo>
                  <a:pt x="164" y="570"/>
                  <a:pt x="185" y="492"/>
                  <a:pt x="202" y="402"/>
                </a:cubicBezTo>
                <a:cubicBezTo>
                  <a:pt x="219" y="312"/>
                  <a:pt x="180" y="193"/>
                  <a:pt x="238" y="128"/>
                </a:cubicBezTo>
                <a:cubicBezTo>
                  <a:pt x="296" y="63"/>
                  <a:pt x="407" y="18"/>
                  <a:pt x="549" y="9"/>
                </a:cubicBezTo>
                <a:cubicBezTo>
                  <a:pt x="691" y="0"/>
                  <a:pt x="933" y="56"/>
                  <a:pt x="1088" y="73"/>
                </a:cubicBezTo>
                <a:cubicBezTo>
                  <a:pt x="1243" y="90"/>
                  <a:pt x="1403" y="64"/>
                  <a:pt x="1482" y="110"/>
                </a:cubicBezTo>
                <a:close/>
              </a:path>
            </a:pathLst>
          </a:custGeom>
          <a:solidFill>
            <a:srgbClr val="9cb0cc"/>
          </a:solidFill>
          <a:ln w="19080">
            <a:solidFill>
              <a:srgbClr val="9cb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4840" y="3860640"/>
            <a:ext cx="1454040" cy="536760"/>
          </a:xfrm>
          <a:prstGeom prst="rect">
            <a:avLst/>
          </a:prstGeom>
          <a:solidFill>
            <a:srgbClr val="9cb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2378160"/>
            <a:ext cx="1454040" cy="580680"/>
          </a:xfrm>
          <a:prstGeom prst="rect">
            <a:avLst/>
          </a:prstGeom>
          <a:solidFill>
            <a:srgbClr val="94c43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ffordabl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0600" y="254160"/>
            <a:ext cx="8367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hat substantiates our Brand Ident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"/>
          <p:cNvSpPr/>
          <p:nvPr/>
        </p:nvSpPr>
        <p:spPr>
          <a:xfrm>
            <a:off x="1871640" y="3170160"/>
            <a:ext cx="5457960" cy="156204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n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tant exploration of new ways and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ve of technology in the benefits it br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dication to customers and consu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ast, focused, no complex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4948200"/>
            <a:ext cx="5467320" cy="142416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urprising 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legant, smart &amp; simpl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1640" y="1076400"/>
            <a:ext cx="5467320" cy="188892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hallenging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fighting, breaking out of conven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Origina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unique, unexpect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Authentic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offering simplicity and reliabilit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ibran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youthful, vivi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Joyfu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  (optimistic, creating a smil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ten point master plan sets the cornerston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54240"/>
            <a:ext cx="830592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 will become a consum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BenQ's 3C 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PLORATION is the opportunity space that we will build our brand 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new organizational principles: Focus and Simplif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 new Category Management function will drive consumer ori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e product house will drive execution and secure time-to-mark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sufficient sites, in house core competencies, and a healthy high to low cost ratio will strengthen our R&amp;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cal companies will act as local entrepreneurs capturing value while ensuring cost effici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share common values: Passion &amp; Professionalism, Caring &amp; Contribution,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ce &amp; Exec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acknowledge cultural differences building on the best of both wor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point master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Juergen Schmitz</cp:lastModifiedBy>
  <dcterms:modified xsi:type="dcterms:W3CDTF">2006-03-24T14:58:32Z</dcterms:modified>
  <cp:revision>558</cp:revision>
  <dc:subject/>
  <dc:title>Managers' Communication</dc:title>
</cp:coreProperties>
</file>