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EEAA-A943-469C-AEAF-020FE1875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F57A-86D2-4325-96C7-5BB2D645B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9A2F-7FFE-4F1D-B39C-040C6643E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4FCD-8394-46E0-B5C4-36A9031AC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D577-8AB5-4459-B274-81E94FED1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20E1-A5F4-40AA-9454-50E2FD235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2BE8-F914-445A-AE0E-6B1181AD9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CB6E-DE2E-455B-853A-50A217F38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DEBB-E167-48A6-AA7A-D3B74FBED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F06D-D5E8-4CA2-868A-0C81A09E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13B5-0DB3-4AD8-A1D5-C0A8F3C4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F91D-47C3-4972-979C-824FA0DA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A5719-A5D5-4AA9-A123-3CD31984C643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dd/mm/yyyy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Presentation Title</a:t>
            </a:r>
            <a:endParaRPr b="1" lang="en-US" sz="4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4572000" cy="13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Presenter’s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Depar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Date (DD/MM/YYY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019920" y="425520"/>
            <a:ext cx="2565360" cy="25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Heading Level On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rst line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Second line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Third line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Fourth lin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8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a0e66"/>
                </a:solidFill>
                <a:latin typeface="Minion"/>
              </a:rPr>
              <a:t>New Section Title</a:t>
            </a:r>
            <a:endParaRPr b="1" lang="en-US" sz="4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Aaron.Johnson</cp:lastModifiedBy>
  <dcterms:modified xsi:type="dcterms:W3CDTF">2006-06-21T06:29:56Z</dcterms:modified>
  <cp:revision>50</cp:revision>
  <dc:subject/>
  <dc:title>PowerPoint 簡報</dc:title>
</cp:coreProperties>
</file>