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376AFB-7A7B-47B6-9AE1-1A82D439A81F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81FF4F-A854-4CF9-8D38-B07E2E0E089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44B422-8FBA-48AA-B174-1B1F982C7A9A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B34BF704-F196-43DD-A695-7FFF9A9937EE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Juergen Schmitz</cp:lastModifiedBy>
  <dcterms:modified xsi:type="dcterms:W3CDTF">2006-03-24T13:43:18Z</dcterms:modified>
  <cp:revision>526</cp:revision>
  <dc:subject/>
  <dc:title>All-hands meeting</dc:title>
</cp:coreProperties>
</file>