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25D15-F494-49F7-AE65-7BEFB7D170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5640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5411520"/>
            <a:ext cx="564048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914400" y="5929200"/>
            <a:ext cx="564048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CC833-FB96-47BF-A96C-C0FA42074B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5640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5411520"/>
            <a:ext cx="2752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04480" y="5411520"/>
            <a:ext cx="2752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914400" y="5929200"/>
            <a:ext cx="2752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804480" y="5929200"/>
            <a:ext cx="2752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3C0F0-2D02-47FC-917C-1FC1074109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5640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5411520"/>
            <a:ext cx="18158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821320" y="5411520"/>
            <a:ext cx="18158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728600" y="5411520"/>
            <a:ext cx="18158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914400" y="5929200"/>
            <a:ext cx="18158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2821320" y="5929200"/>
            <a:ext cx="18158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4728600" y="5929200"/>
            <a:ext cx="18158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68B66-EF63-4E4E-9D2E-033C36F8C4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5640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14400" y="5411520"/>
            <a:ext cx="564048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5640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5411520"/>
            <a:ext cx="564048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5640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5411520"/>
            <a:ext cx="27522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4480" y="5411520"/>
            <a:ext cx="27522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5640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56404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5640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5411520"/>
            <a:ext cx="2752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04480" y="5411520"/>
            <a:ext cx="27522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5929200"/>
            <a:ext cx="2752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5640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914400" y="5411520"/>
            <a:ext cx="564048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03944-474D-46D4-A9E6-63C3BBE450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5640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5411520"/>
            <a:ext cx="27522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04480" y="5411520"/>
            <a:ext cx="2752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804480" y="5929200"/>
            <a:ext cx="2752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5640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5411520"/>
            <a:ext cx="2752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04480" y="5411520"/>
            <a:ext cx="2752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400" y="5929200"/>
            <a:ext cx="564048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5640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5411520"/>
            <a:ext cx="564048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14400" y="5929200"/>
            <a:ext cx="564048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5640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5411520"/>
            <a:ext cx="2752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04480" y="5411520"/>
            <a:ext cx="2752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400" y="5929200"/>
            <a:ext cx="2752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804480" y="5929200"/>
            <a:ext cx="2752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5640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5411520"/>
            <a:ext cx="18158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821320" y="5411520"/>
            <a:ext cx="18158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28600" y="5411520"/>
            <a:ext cx="18158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14400" y="5929200"/>
            <a:ext cx="18158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2821320" y="5929200"/>
            <a:ext cx="18158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4728600" y="5929200"/>
            <a:ext cx="18158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5640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5411520"/>
            <a:ext cx="564048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D2882-E0E5-4B54-92CB-CA45022638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5640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5411520"/>
            <a:ext cx="27522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4480" y="5411520"/>
            <a:ext cx="27522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45AE3-9FF1-411B-8382-6C5472C625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5640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4A8E4-B7E2-4BCF-8AC9-A678C45EEA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56404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9ED82-04B9-46A9-AC14-834BB2C045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5640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5411520"/>
            <a:ext cx="2752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4480" y="5411520"/>
            <a:ext cx="27522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5929200"/>
            <a:ext cx="2752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36443-A8F6-409F-8ED3-55AE64D4DB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5640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5411520"/>
            <a:ext cx="27522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04480" y="5411520"/>
            <a:ext cx="2752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4480" y="5929200"/>
            <a:ext cx="2752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C1DE4-3211-4A26-816A-6D31268648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5640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5411520"/>
            <a:ext cx="2752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04480" y="5411520"/>
            <a:ext cx="2752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5929200"/>
            <a:ext cx="564048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DBBCA-6E81-421F-8078-3444E06D15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7392960" y="0"/>
            <a:ext cx="1752480" cy="99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992160"/>
            <a:ext cx="7392960" cy="5562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276120" indent="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6120" indent="-276120">
              <a:buClr>
                <a:srgbClr val="336699"/>
              </a:buClr>
              <a:buFont typeface="Wingdings" charset="2"/>
              <a:buChar char="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76120" indent="-276120">
              <a:buClr>
                <a:srgbClr val="336699"/>
              </a:buClr>
              <a:buSzPct val="70000"/>
              <a:buFont typeface="Wingdings" charset="2"/>
              <a:buChar char="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276120" indent="-27612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76120" indent="-276120">
              <a:buClr>
                <a:srgbClr val="002b5d"/>
              </a:buClr>
              <a:buFont typeface="Arial"/>
              <a:buChar char="»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76120" indent="-276120">
              <a:buClr>
                <a:srgbClr val="000000"/>
              </a:buClr>
              <a:buFont typeface="Arial"/>
              <a:buChar char="»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76120" indent="-276120">
              <a:buClr>
                <a:srgbClr val="000000"/>
              </a:buClr>
              <a:buFont typeface="Arial"/>
              <a:buChar char="»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7392960" cy="9921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5440" cy="685944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5440" cy="685944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0" y="6554880"/>
            <a:ext cx="7392960" cy="3045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4266720" y="6554880"/>
            <a:ext cx="83988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fld id="{DD36C717-7B27-4C8B-8D66-3D1780EFF288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173640" y="6554880"/>
            <a:ext cx="1219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44000" tIns="3600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© Siemens,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9145440" cy="685944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-479160" y="-276120"/>
            <a:ext cx="9728640" cy="6812640"/>
            <a:chOff x="-479160" y="-276120"/>
            <a:chExt cx="9728640" cy="6812640"/>
          </a:xfrm>
        </p:grpSpPr>
        <p:sp>
          <p:nvSpPr>
            <p:cNvPr id="10" name=""/>
            <p:cNvSpPr/>
            <p:nvPr/>
          </p:nvSpPr>
          <p:spPr>
            <a:xfrm>
              <a:off x="-124200" y="-271080"/>
              <a:ext cx="5677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2,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739680" y="-271080"/>
              <a:ext cx="2995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,3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959880" y="-271080"/>
              <a:ext cx="4824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7,4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368160" y="-271080"/>
              <a:ext cx="2995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,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681760" y="-276120"/>
              <a:ext cx="5677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2,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-479160" y="1176480"/>
              <a:ext cx="4824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5,9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-479160" y="3631320"/>
              <a:ext cx="4824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,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,2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-473040" y="6262200"/>
              <a:ext cx="4824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8,2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435440" y="-271080"/>
              <a:ext cx="2995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8,2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5640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5440" cy="685944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-479160" y="-276120"/>
            <a:ext cx="9728640" cy="6812640"/>
            <a:chOff x="-479160" y="-276120"/>
            <a:chExt cx="9728640" cy="6812640"/>
          </a:xfrm>
        </p:grpSpPr>
        <p:sp>
          <p:nvSpPr>
            <p:cNvPr id="58" name=""/>
            <p:cNvSpPr/>
            <p:nvPr/>
          </p:nvSpPr>
          <p:spPr>
            <a:xfrm>
              <a:off x="-124200" y="-271080"/>
              <a:ext cx="5677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2,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739680" y="-271080"/>
              <a:ext cx="2995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,3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959880" y="-271080"/>
              <a:ext cx="4824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7,4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68160" y="-271080"/>
              <a:ext cx="2995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,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681760" y="-276120"/>
              <a:ext cx="5677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2,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479160" y="1176480"/>
              <a:ext cx="4824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5,9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479160" y="3631320"/>
              <a:ext cx="4824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,06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,2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-473040" y="6262200"/>
              <a:ext cx="4824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8,2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35440" y="-271080"/>
              <a:ext cx="2995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8,2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659560" y="1143000"/>
            <a:ext cx="3198600" cy="990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0"/>
            <a:ext cx="9145440" cy="685944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87280" indent="258840" algn="ctr">
              <a:buClr>
                <a:srgbClr val="336699"/>
              </a:buClr>
              <a:buSzPct val="70000"/>
              <a:buFont typeface="Wingdings" charset="2"/>
              <a:buChar char="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73120" indent="241200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30240" indent="86040" algn="ctr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»"/>
              <a:tabLst>
                <a:tab algn="l" pos="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5" marL="1830240" indent="86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6" marL="1830240" indent="86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ython.org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56404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ATT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5411520"/>
            <a:ext cx="564048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tomatic test tool for AT cel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alf Weiden ICM MP PD ST1 K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914400" y="5411520"/>
            <a:ext cx="564048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TT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tomatic test tool for AT cel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alf Weiden ICM MP PD ST1 K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alf.weiden@klf.siemens.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612720" y="1486080"/>
            <a:ext cx="3327480" cy="3309840"/>
            <a:chOff x="612720" y="1486080"/>
            <a:chExt cx="3327480" cy="3309840"/>
          </a:xfrm>
        </p:grpSpPr>
        <p:sp>
          <p:nvSpPr>
            <p:cNvPr id="468" name=""/>
            <p:cNvSpPr/>
            <p:nvPr/>
          </p:nvSpPr>
          <p:spPr>
            <a:xfrm>
              <a:off x="612720" y="1486080"/>
              <a:ext cx="3327480" cy="3309840"/>
            </a:xfrm>
            <a:prstGeom prst="ellipse">
              <a:avLst/>
            </a:prstGeom>
            <a:solidFill>
              <a:srgbClr val="ffffd5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9" name="" descr=""/>
            <p:cNvPicPr/>
            <p:nvPr/>
          </p:nvPicPr>
          <p:blipFill>
            <a:blip r:embed="rId2"/>
            <a:stretch/>
          </p:blipFill>
          <p:spPr>
            <a:xfrm>
              <a:off x="1580040" y="1940760"/>
              <a:ext cx="961200" cy="261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 txBox="1"/>
            <p:nvPr/>
          </p:nvSpPr>
          <p:spPr>
            <a:xfrm rot="1275600">
              <a:off x="2671200" y="1652760"/>
              <a:ext cx="281520" cy="6433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336699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Avalon"/>
                </a:rPr>
                <a:t>!</a:t>
              </a:r>
              <a:endPara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6699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valon"/>
                <a:ea typeface="Avalo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2960" cy="9921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TT2.0 Over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992160"/>
            <a:ext cx="7392960" cy="5562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27612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irements &amp; featur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612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66760"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e with up to 6 connected mob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266760">
              <a:buClr>
                <a:srgbClr val="336699"/>
              </a:buClr>
              <a:buSzPct val="70000"/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s connected via serial devices (“COM ports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266760">
              <a:buClr>
                <a:srgbClr val="336699"/>
              </a:buClr>
              <a:buSzPct val="70000"/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ways ‘receive-ready’ on all used ports simultaneous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66760"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ripting with script language PYTHON (</a:t>
            </a:r>
            <a:r>
              <a:rPr b="0" lang="de-DE" sz="2000" spc="-1" strike="noStrike" u="sng">
                <a:solidFill>
                  <a:srgbClr val="ff8200"/>
                </a:solidFill>
                <a:uFillTx/>
                <a:latin typeface="Arial"/>
                <a:hlinkClick r:id="rId2"/>
              </a:rPr>
              <a:t>www.python.or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266760">
              <a:buClr>
                <a:srgbClr val="336699"/>
              </a:buClr>
              <a:buSzPct val="70000"/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ful, yet easy to learn &amp; u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266760">
              <a:buClr>
                <a:srgbClr val="336699"/>
              </a:buClr>
              <a:buSzPct val="70000"/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ready known from MT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66760"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commands directly usable in scripts without modifications -&gt; Precompiler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66760"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results summarized in HTML out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66760"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ily upgradeable, e.g. support more than serial devices (TCP/IP, IrDa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612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028880"/>
            <a:ext cx="7392960" cy="55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TT2.0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61DB9-881E-47F7-BEDD-DFDCE2F037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2960" cy="9921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TT2.0 Co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013440" y="911160"/>
          <a:ext cx="511200" cy="100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3440" y="911160"/>
                    <a:ext cx="5112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81080" y="1773360"/>
            <a:ext cx="1439640" cy="996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1028880"/>
            <a:ext cx="73929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1160" y="2494080"/>
            <a:ext cx="1238400" cy="552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73080" y="2565360"/>
            <a:ext cx="1123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01880" y="2490840"/>
            <a:ext cx="1238400" cy="552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54440" y="2459160"/>
            <a:ext cx="1214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ython Interpreter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16360" y="2517840"/>
            <a:ext cx="1238400" cy="552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16360" y="2494080"/>
            <a:ext cx="1123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S232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300720" y="1127160"/>
          <a:ext cx="511200" cy="10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0720" y="1127160"/>
                    <a:ext cx="5112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6516720" y="1343160"/>
          <a:ext cx="5112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16720" y="1343160"/>
                    <a:ext cx="5112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 rot="18505200">
            <a:off x="5810760" y="1975680"/>
            <a:ext cx="412560" cy="154080"/>
          </a:xfrm>
          <a:prstGeom prst="leftRightArrow">
            <a:avLst>
              <a:gd name="adj1" fmla="val 50000"/>
              <a:gd name="adj2" fmla="val 53303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6699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8995400">
            <a:off x="5956200" y="2118960"/>
            <a:ext cx="412920" cy="154080"/>
          </a:xfrm>
          <a:prstGeom prst="leftRightArrow">
            <a:avLst>
              <a:gd name="adj1" fmla="val 50000"/>
              <a:gd name="adj2" fmla="val 53350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6699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0067600">
            <a:off x="6156360" y="2278080"/>
            <a:ext cx="412560" cy="154080"/>
          </a:xfrm>
          <a:prstGeom prst="leftRightArrow">
            <a:avLst>
              <a:gd name="adj1" fmla="val 50000"/>
              <a:gd name="adj2" fmla="val 53303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6699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633920" y="4950000"/>
            <a:ext cx="1322280" cy="711000"/>
            <a:chOff x="4633920" y="4950000"/>
            <a:chExt cx="1322280" cy="711000"/>
          </a:xfrm>
        </p:grpSpPr>
        <p:sp>
          <p:nvSpPr>
            <p:cNvPr id="130" name=""/>
            <p:cNvSpPr/>
            <p:nvPr/>
          </p:nvSpPr>
          <p:spPr>
            <a:xfrm>
              <a:off x="4832280" y="4950000"/>
              <a:ext cx="11239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RS232 Modu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633920" y="5011560"/>
              <a:ext cx="1238400" cy="552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16360" y="5013360"/>
              <a:ext cx="11239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pp‘s 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TT2.0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E6888-4325-47CF-B67C-6C8D8560D5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6013440" y="911160"/>
          <a:ext cx="511200" cy="100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3440" y="911160"/>
                    <a:ext cx="5112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181080" y="1773360"/>
            <a:ext cx="1439640" cy="9968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2960" cy="9921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TT2.0 Co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028880"/>
            <a:ext cx="73929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160" y="2494080"/>
            <a:ext cx="1238400" cy="552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73080" y="2565360"/>
            <a:ext cx="1123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01880" y="2490840"/>
            <a:ext cx="1238400" cy="552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54440" y="2459160"/>
            <a:ext cx="1214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ython Interpreter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16360" y="2517840"/>
            <a:ext cx="1238400" cy="552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16360" y="2494080"/>
            <a:ext cx="1123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S232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300720" y="1127160"/>
          <a:ext cx="511200" cy="10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0720" y="1127160"/>
                    <a:ext cx="5112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6516720" y="1343160"/>
          <a:ext cx="5112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16720" y="1343160"/>
                    <a:ext cx="5112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 rot="18505200">
            <a:off x="5810760" y="1975680"/>
            <a:ext cx="412560" cy="154080"/>
          </a:xfrm>
          <a:prstGeom prst="leftRightArrow">
            <a:avLst>
              <a:gd name="adj1" fmla="val 50000"/>
              <a:gd name="adj2" fmla="val 53303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6699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8995400">
            <a:off x="5956200" y="2118960"/>
            <a:ext cx="412920" cy="154080"/>
          </a:xfrm>
          <a:prstGeom prst="leftRightArrow">
            <a:avLst>
              <a:gd name="adj1" fmla="val 50000"/>
              <a:gd name="adj2" fmla="val 53350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6699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20067600">
            <a:off x="6156360" y="2278080"/>
            <a:ext cx="412560" cy="154080"/>
          </a:xfrm>
          <a:prstGeom prst="leftRightArrow">
            <a:avLst>
              <a:gd name="adj1" fmla="val 50000"/>
              <a:gd name="adj2" fmla="val 53303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6699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47640" y="2997360"/>
            <a:ext cx="3673800" cy="588960"/>
          </a:xfrm>
          <a:custGeom>
            <a:avLst/>
            <a:gdLst/>
            <a:ahLst/>
            <a:rect l="l" t="t" r="r" b="b"/>
            <a:pathLst>
              <a:path w="2314" h="371">
                <a:moveTo>
                  <a:pt x="0" y="46"/>
                </a:moveTo>
                <a:cubicBezTo>
                  <a:pt x="83" y="159"/>
                  <a:pt x="166" y="273"/>
                  <a:pt x="499" y="318"/>
                </a:cubicBezTo>
                <a:cubicBezTo>
                  <a:pt x="832" y="363"/>
                  <a:pt x="1694" y="371"/>
                  <a:pt x="1996" y="318"/>
                </a:cubicBezTo>
                <a:cubicBezTo>
                  <a:pt x="2298" y="265"/>
                  <a:pt x="2261" y="53"/>
                  <a:pt x="2314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60360" y="3070080"/>
            <a:ext cx="2448000" cy="828720"/>
          </a:xfrm>
          <a:custGeom>
            <a:avLst/>
            <a:gdLst/>
            <a:ahLst/>
            <a:rect l="l" t="t" r="r" b="b"/>
            <a:pathLst>
              <a:path w="1542" h="522">
                <a:moveTo>
                  <a:pt x="0" y="0"/>
                </a:moveTo>
                <a:cubicBezTo>
                  <a:pt x="129" y="238"/>
                  <a:pt x="258" y="476"/>
                  <a:pt x="454" y="499"/>
                </a:cubicBezTo>
                <a:cubicBezTo>
                  <a:pt x="650" y="522"/>
                  <a:pt x="1013" y="212"/>
                  <a:pt x="1179" y="136"/>
                </a:cubicBezTo>
                <a:cubicBezTo>
                  <a:pt x="1345" y="60"/>
                  <a:pt x="1390" y="68"/>
                  <a:pt x="1451" y="45"/>
                </a:cubicBezTo>
                <a:cubicBezTo>
                  <a:pt x="1512" y="22"/>
                  <a:pt x="1527" y="11"/>
                  <a:pt x="1542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40360" y="2552760"/>
            <a:ext cx="576000" cy="156960"/>
          </a:xfrm>
          <a:custGeom>
            <a:avLst/>
            <a:gdLst/>
            <a:ahLst/>
            <a:rect l="l" t="t" r="r" b="b"/>
            <a:pathLst>
              <a:path w="363" h="99">
                <a:moveTo>
                  <a:pt x="0" y="99"/>
                </a:moveTo>
                <a:cubicBezTo>
                  <a:pt x="38" y="57"/>
                  <a:pt x="76" y="16"/>
                  <a:pt x="136" y="8"/>
                </a:cubicBezTo>
                <a:cubicBezTo>
                  <a:pt x="196" y="0"/>
                  <a:pt x="279" y="27"/>
                  <a:pt x="363" y="5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97440" y="2997360"/>
            <a:ext cx="792000" cy="228600"/>
          </a:xfrm>
          <a:custGeom>
            <a:avLst/>
            <a:gdLst/>
            <a:ahLst/>
            <a:rect l="l" t="t" r="r" b="b"/>
            <a:pathLst>
              <a:path w="499" h="144">
                <a:moveTo>
                  <a:pt x="499" y="0"/>
                </a:moveTo>
                <a:cubicBezTo>
                  <a:pt x="449" y="64"/>
                  <a:pt x="400" y="128"/>
                  <a:pt x="317" y="136"/>
                </a:cubicBezTo>
                <a:cubicBezTo>
                  <a:pt x="234" y="144"/>
                  <a:pt x="117" y="95"/>
                  <a:pt x="0" y="4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68360" y="2062080"/>
            <a:ext cx="2880000" cy="503280"/>
          </a:xfrm>
          <a:custGeom>
            <a:avLst/>
            <a:gdLst/>
            <a:ahLst/>
            <a:rect l="l" t="t" r="r" b="b"/>
            <a:pathLst>
              <a:path w="1814" h="317">
                <a:moveTo>
                  <a:pt x="1814" y="226"/>
                </a:moveTo>
                <a:cubicBezTo>
                  <a:pt x="1689" y="150"/>
                  <a:pt x="1565" y="75"/>
                  <a:pt x="1361" y="45"/>
                </a:cubicBezTo>
                <a:cubicBezTo>
                  <a:pt x="1157" y="15"/>
                  <a:pt x="817" y="0"/>
                  <a:pt x="590" y="45"/>
                </a:cubicBezTo>
                <a:cubicBezTo>
                  <a:pt x="363" y="90"/>
                  <a:pt x="98" y="272"/>
                  <a:pt x="0" y="31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633920" y="4950000"/>
            <a:ext cx="1322280" cy="711000"/>
            <a:chOff x="4633920" y="4950000"/>
            <a:chExt cx="1322280" cy="711000"/>
          </a:xfrm>
        </p:grpSpPr>
        <p:sp>
          <p:nvSpPr>
            <p:cNvPr id="157" name=""/>
            <p:cNvSpPr/>
            <p:nvPr/>
          </p:nvSpPr>
          <p:spPr>
            <a:xfrm>
              <a:off x="4832280" y="4950000"/>
              <a:ext cx="11239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RS232 Modu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33920" y="5011560"/>
              <a:ext cx="1238400" cy="552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16360" y="5013360"/>
              <a:ext cx="11239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pp‘s 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052720" y="3070080"/>
            <a:ext cx="2592360" cy="2254320"/>
          </a:xfrm>
          <a:custGeom>
            <a:avLst/>
            <a:gdLst/>
            <a:ahLst/>
            <a:rect l="l" t="t" r="r" b="b"/>
            <a:pathLst>
              <a:path w="1633" h="1420">
                <a:moveTo>
                  <a:pt x="1633" y="1406"/>
                </a:moveTo>
                <a:cubicBezTo>
                  <a:pt x="1474" y="1413"/>
                  <a:pt x="1315" y="1420"/>
                  <a:pt x="1134" y="1360"/>
                </a:cubicBezTo>
                <a:cubicBezTo>
                  <a:pt x="953" y="1300"/>
                  <a:pt x="733" y="1270"/>
                  <a:pt x="544" y="1043"/>
                </a:cubicBezTo>
                <a:cubicBezTo>
                  <a:pt x="355" y="816"/>
                  <a:pt x="177" y="408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997360"/>
            <a:ext cx="1584360" cy="1944360"/>
          </a:xfrm>
          <a:custGeom>
            <a:avLst/>
            <a:gdLst/>
            <a:ahLst/>
            <a:rect l="l" t="t" r="r" b="b"/>
            <a:pathLst>
              <a:path w="998" h="1225">
                <a:moveTo>
                  <a:pt x="998" y="1225"/>
                </a:moveTo>
                <a:cubicBezTo>
                  <a:pt x="763" y="1145"/>
                  <a:pt x="529" y="1066"/>
                  <a:pt x="363" y="862"/>
                </a:cubicBezTo>
                <a:cubicBezTo>
                  <a:pt x="197" y="658"/>
                  <a:pt x="98" y="329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97080" y="2925720"/>
            <a:ext cx="647640" cy="157320"/>
          </a:xfrm>
          <a:custGeom>
            <a:avLst/>
            <a:gdLst/>
            <a:ahLst/>
            <a:rect l="l" t="t" r="r" b="b"/>
            <a:pathLst>
              <a:path w="408" h="99">
                <a:moveTo>
                  <a:pt x="408" y="0"/>
                </a:moveTo>
                <a:cubicBezTo>
                  <a:pt x="374" y="41"/>
                  <a:pt x="340" y="83"/>
                  <a:pt x="272" y="91"/>
                </a:cubicBezTo>
                <a:cubicBezTo>
                  <a:pt x="204" y="99"/>
                  <a:pt x="102" y="72"/>
                  <a:pt x="0" y="4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81800" y="3070080"/>
            <a:ext cx="226800" cy="1800360"/>
          </a:xfrm>
          <a:custGeom>
            <a:avLst/>
            <a:gdLst/>
            <a:ahLst/>
            <a:rect l="l" t="t" r="r" b="b"/>
            <a:pathLst>
              <a:path w="143" h="1134">
                <a:moveTo>
                  <a:pt x="0" y="1134"/>
                </a:moveTo>
                <a:cubicBezTo>
                  <a:pt x="64" y="1069"/>
                  <a:pt x="129" y="1005"/>
                  <a:pt x="136" y="816"/>
                </a:cubicBezTo>
                <a:cubicBezTo>
                  <a:pt x="143" y="627"/>
                  <a:pt x="94" y="313"/>
                  <a:pt x="4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76720" y="2997360"/>
            <a:ext cx="432000" cy="1873080"/>
          </a:xfrm>
          <a:custGeom>
            <a:avLst/>
            <a:gdLst/>
            <a:ahLst/>
            <a:rect l="l" t="t" r="r" b="b"/>
            <a:pathLst>
              <a:path w="272" h="1180">
                <a:moveTo>
                  <a:pt x="272" y="0"/>
                </a:moveTo>
                <a:cubicBezTo>
                  <a:pt x="181" y="310"/>
                  <a:pt x="90" y="620"/>
                  <a:pt x="45" y="817"/>
                </a:cubicBezTo>
                <a:cubicBezTo>
                  <a:pt x="0" y="1014"/>
                  <a:pt x="0" y="1097"/>
                  <a:pt x="0" y="118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16000" y="3070080"/>
            <a:ext cx="3529080" cy="2016360"/>
          </a:xfrm>
          <a:custGeom>
            <a:avLst/>
            <a:gdLst/>
            <a:ahLst/>
            <a:rect l="l" t="t" r="r" b="b"/>
            <a:pathLst>
              <a:path w="2223" h="1270">
                <a:moveTo>
                  <a:pt x="2223" y="1270"/>
                </a:moveTo>
                <a:cubicBezTo>
                  <a:pt x="2022" y="1209"/>
                  <a:pt x="1822" y="1148"/>
                  <a:pt x="1542" y="1088"/>
                </a:cubicBezTo>
                <a:cubicBezTo>
                  <a:pt x="1262" y="1028"/>
                  <a:pt x="787" y="1005"/>
                  <a:pt x="545" y="907"/>
                </a:cubicBezTo>
                <a:cubicBezTo>
                  <a:pt x="303" y="809"/>
                  <a:pt x="182" y="650"/>
                  <a:pt x="91" y="499"/>
                </a:cubicBezTo>
                <a:cubicBezTo>
                  <a:pt x="0" y="348"/>
                  <a:pt x="0" y="174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1600" y="1270080"/>
            <a:ext cx="253116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st case integration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TT2.0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9A7FE-6A21-48E4-9C2C-3B2FEE2CBEAB}" type="slidenum">
              <a:t>4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6013440" y="911160"/>
          <a:ext cx="511200" cy="100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3440" y="911160"/>
                    <a:ext cx="5112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181080" y="1773360"/>
            <a:ext cx="1439640" cy="9968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2960" cy="9921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TT2.0 Co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028880"/>
            <a:ext cx="73929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1160" y="2494080"/>
            <a:ext cx="1238400" cy="552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73080" y="2565360"/>
            <a:ext cx="1123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01880" y="2490840"/>
            <a:ext cx="1238400" cy="552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54440" y="2459160"/>
            <a:ext cx="1214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ython Interpreter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16360" y="2517840"/>
            <a:ext cx="1238400" cy="552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16360" y="2494080"/>
            <a:ext cx="1123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S232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300720" y="1127160"/>
          <a:ext cx="511200" cy="10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0720" y="1127160"/>
                    <a:ext cx="5112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6516720" y="1343160"/>
          <a:ext cx="5112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16720" y="1343160"/>
                    <a:ext cx="5112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 rot="18505200">
            <a:off x="5810760" y="1975680"/>
            <a:ext cx="412560" cy="154080"/>
          </a:xfrm>
          <a:prstGeom prst="leftRightArrow">
            <a:avLst>
              <a:gd name="adj1" fmla="val 50000"/>
              <a:gd name="adj2" fmla="val 53303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6699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8995400">
            <a:off x="5956200" y="2118960"/>
            <a:ext cx="412920" cy="154080"/>
          </a:xfrm>
          <a:prstGeom prst="leftRightArrow">
            <a:avLst>
              <a:gd name="adj1" fmla="val 50000"/>
              <a:gd name="adj2" fmla="val 53350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6699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20067600">
            <a:off x="6156360" y="2278080"/>
            <a:ext cx="412560" cy="154080"/>
          </a:xfrm>
          <a:prstGeom prst="leftRightArrow">
            <a:avLst>
              <a:gd name="adj1" fmla="val 50000"/>
              <a:gd name="adj2" fmla="val 53303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6699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47640" y="2997360"/>
            <a:ext cx="3673800" cy="588960"/>
          </a:xfrm>
          <a:custGeom>
            <a:avLst/>
            <a:gdLst/>
            <a:ahLst/>
            <a:rect l="l" t="t" r="r" b="b"/>
            <a:pathLst>
              <a:path w="2314" h="371">
                <a:moveTo>
                  <a:pt x="0" y="46"/>
                </a:moveTo>
                <a:cubicBezTo>
                  <a:pt x="83" y="159"/>
                  <a:pt x="166" y="273"/>
                  <a:pt x="499" y="318"/>
                </a:cubicBezTo>
                <a:cubicBezTo>
                  <a:pt x="832" y="363"/>
                  <a:pt x="1694" y="371"/>
                  <a:pt x="1996" y="318"/>
                </a:cubicBezTo>
                <a:cubicBezTo>
                  <a:pt x="2298" y="265"/>
                  <a:pt x="2261" y="53"/>
                  <a:pt x="2314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60360" y="3070080"/>
            <a:ext cx="2448000" cy="828720"/>
          </a:xfrm>
          <a:custGeom>
            <a:avLst/>
            <a:gdLst/>
            <a:ahLst/>
            <a:rect l="l" t="t" r="r" b="b"/>
            <a:pathLst>
              <a:path w="1542" h="522">
                <a:moveTo>
                  <a:pt x="0" y="0"/>
                </a:moveTo>
                <a:cubicBezTo>
                  <a:pt x="129" y="238"/>
                  <a:pt x="258" y="476"/>
                  <a:pt x="454" y="499"/>
                </a:cubicBezTo>
                <a:cubicBezTo>
                  <a:pt x="650" y="522"/>
                  <a:pt x="1013" y="212"/>
                  <a:pt x="1179" y="136"/>
                </a:cubicBezTo>
                <a:cubicBezTo>
                  <a:pt x="1345" y="60"/>
                  <a:pt x="1390" y="68"/>
                  <a:pt x="1451" y="45"/>
                </a:cubicBezTo>
                <a:cubicBezTo>
                  <a:pt x="1512" y="22"/>
                  <a:pt x="1527" y="11"/>
                  <a:pt x="1542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40360" y="2552760"/>
            <a:ext cx="576000" cy="156960"/>
          </a:xfrm>
          <a:custGeom>
            <a:avLst/>
            <a:gdLst/>
            <a:ahLst/>
            <a:rect l="l" t="t" r="r" b="b"/>
            <a:pathLst>
              <a:path w="363" h="99">
                <a:moveTo>
                  <a:pt x="0" y="99"/>
                </a:moveTo>
                <a:cubicBezTo>
                  <a:pt x="38" y="57"/>
                  <a:pt x="76" y="16"/>
                  <a:pt x="136" y="8"/>
                </a:cubicBezTo>
                <a:cubicBezTo>
                  <a:pt x="196" y="0"/>
                  <a:pt x="279" y="27"/>
                  <a:pt x="363" y="5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97440" y="2997360"/>
            <a:ext cx="792000" cy="228600"/>
          </a:xfrm>
          <a:custGeom>
            <a:avLst/>
            <a:gdLst/>
            <a:ahLst/>
            <a:rect l="l" t="t" r="r" b="b"/>
            <a:pathLst>
              <a:path w="499" h="144">
                <a:moveTo>
                  <a:pt x="499" y="0"/>
                </a:moveTo>
                <a:cubicBezTo>
                  <a:pt x="449" y="64"/>
                  <a:pt x="400" y="128"/>
                  <a:pt x="317" y="136"/>
                </a:cubicBezTo>
                <a:cubicBezTo>
                  <a:pt x="234" y="144"/>
                  <a:pt x="117" y="95"/>
                  <a:pt x="0" y="4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68360" y="2062080"/>
            <a:ext cx="2880000" cy="503280"/>
          </a:xfrm>
          <a:custGeom>
            <a:avLst/>
            <a:gdLst/>
            <a:ahLst/>
            <a:rect l="l" t="t" r="r" b="b"/>
            <a:pathLst>
              <a:path w="1814" h="317">
                <a:moveTo>
                  <a:pt x="1814" y="226"/>
                </a:moveTo>
                <a:cubicBezTo>
                  <a:pt x="1689" y="150"/>
                  <a:pt x="1565" y="75"/>
                  <a:pt x="1361" y="45"/>
                </a:cubicBezTo>
                <a:cubicBezTo>
                  <a:pt x="1157" y="15"/>
                  <a:pt x="817" y="0"/>
                  <a:pt x="590" y="45"/>
                </a:cubicBezTo>
                <a:cubicBezTo>
                  <a:pt x="363" y="90"/>
                  <a:pt x="98" y="272"/>
                  <a:pt x="0" y="31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633920" y="4950000"/>
            <a:ext cx="1322280" cy="711000"/>
            <a:chOff x="4633920" y="4950000"/>
            <a:chExt cx="1322280" cy="711000"/>
          </a:xfrm>
        </p:grpSpPr>
        <p:sp>
          <p:nvSpPr>
            <p:cNvPr id="191" name=""/>
            <p:cNvSpPr/>
            <p:nvPr/>
          </p:nvSpPr>
          <p:spPr>
            <a:xfrm>
              <a:off x="4832280" y="4950000"/>
              <a:ext cx="11239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RS232 Modu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33920" y="5011560"/>
              <a:ext cx="1238400" cy="552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16360" y="5013360"/>
              <a:ext cx="11239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pp‘s 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052720" y="3070080"/>
            <a:ext cx="2592360" cy="2254320"/>
          </a:xfrm>
          <a:custGeom>
            <a:avLst/>
            <a:gdLst/>
            <a:ahLst/>
            <a:rect l="l" t="t" r="r" b="b"/>
            <a:pathLst>
              <a:path w="1633" h="1420">
                <a:moveTo>
                  <a:pt x="1633" y="1406"/>
                </a:moveTo>
                <a:cubicBezTo>
                  <a:pt x="1474" y="1413"/>
                  <a:pt x="1315" y="1420"/>
                  <a:pt x="1134" y="1360"/>
                </a:cubicBezTo>
                <a:cubicBezTo>
                  <a:pt x="953" y="1300"/>
                  <a:pt x="733" y="1270"/>
                  <a:pt x="544" y="1043"/>
                </a:cubicBezTo>
                <a:cubicBezTo>
                  <a:pt x="355" y="816"/>
                  <a:pt x="177" y="408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2997360"/>
            <a:ext cx="1584360" cy="1944360"/>
          </a:xfrm>
          <a:custGeom>
            <a:avLst/>
            <a:gdLst/>
            <a:ahLst/>
            <a:rect l="l" t="t" r="r" b="b"/>
            <a:pathLst>
              <a:path w="998" h="1225">
                <a:moveTo>
                  <a:pt x="998" y="1225"/>
                </a:moveTo>
                <a:cubicBezTo>
                  <a:pt x="763" y="1145"/>
                  <a:pt x="529" y="1066"/>
                  <a:pt x="363" y="862"/>
                </a:cubicBezTo>
                <a:cubicBezTo>
                  <a:pt x="197" y="658"/>
                  <a:pt x="98" y="329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97080" y="2925720"/>
            <a:ext cx="647640" cy="157320"/>
          </a:xfrm>
          <a:custGeom>
            <a:avLst/>
            <a:gdLst/>
            <a:ahLst/>
            <a:rect l="l" t="t" r="r" b="b"/>
            <a:pathLst>
              <a:path w="408" h="99">
                <a:moveTo>
                  <a:pt x="408" y="0"/>
                </a:moveTo>
                <a:cubicBezTo>
                  <a:pt x="374" y="41"/>
                  <a:pt x="340" y="83"/>
                  <a:pt x="272" y="91"/>
                </a:cubicBezTo>
                <a:cubicBezTo>
                  <a:pt x="204" y="99"/>
                  <a:pt x="102" y="72"/>
                  <a:pt x="0" y="4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81800" y="3070080"/>
            <a:ext cx="226800" cy="1800360"/>
          </a:xfrm>
          <a:custGeom>
            <a:avLst/>
            <a:gdLst/>
            <a:ahLst/>
            <a:rect l="l" t="t" r="r" b="b"/>
            <a:pathLst>
              <a:path w="143" h="1134">
                <a:moveTo>
                  <a:pt x="0" y="1134"/>
                </a:moveTo>
                <a:cubicBezTo>
                  <a:pt x="64" y="1069"/>
                  <a:pt x="129" y="1005"/>
                  <a:pt x="136" y="816"/>
                </a:cubicBezTo>
                <a:cubicBezTo>
                  <a:pt x="143" y="627"/>
                  <a:pt x="94" y="313"/>
                  <a:pt x="4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076720" y="2997360"/>
            <a:ext cx="432000" cy="1873080"/>
          </a:xfrm>
          <a:custGeom>
            <a:avLst/>
            <a:gdLst/>
            <a:ahLst/>
            <a:rect l="l" t="t" r="r" b="b"/>
            <a:pathLst>
              <a:path w="272" h="1180">
                <a:moveTo>
                  <a:pt x="272" y="0"/>
                </a:moveTo>
                <a:cubicBezTo>
                  <a:pt x="181" y="310"/>
                  <a:pt x="90" y="620"/>
                  <a:pt x="45" y="817"/>
                </a:cubicBezTo>
                <a:cubicBezTo>
                  <a:pt x="0" y="1014"/>
                  <a:pt x="0" y="1097"/>
                  <a:pt x="0" y="118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16000" y="3070080"/>
            <a:ext cx="3529080" cy="2016360"/>
          </a:xfrm>
          <a:custGeom>
            <a:avLst/>
            <a:gdLst/>
            <a:ahLst/>
            <a:rect l="l" t="t" r="r" b="b"/>
            <a:pathLst>
              <a:path w="2223" h="1270">
                <a:moveTo>
                  <a:pt x="2223" y="1270"/>
                </a:moveTo>
                <a:cubicBezTo>
                  <a:pt x="2022" y="1209"/>
                  <a:pt x="1822" y="1148"/>
                  <a:pt x="1542" y="1088"/>
                </a:cubicBezTo>
                <a:cubicBezTo>
                  <a:pt x="1262" y="1028"/>
                  <a:pt x="787" y="1005"/>
                  <a:pt x="545" y="907"/>
                </a:cubicBezTo>
                <a:cubicBezTo>
                  <a:pt x="303" y="809"/>
                  <a:pt x="182" y="650"/>
                  <a:pt x="91" y="499"/>
                </a:cubicBezTo>
                <a:cubicBezTo>
                  <a:pt x="0" y="348"/>
                  <a:pt x="0" y="174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1600" y="1270080"/>
            <a:ext cx="253116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st case integration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3646440"/>
            <a:ext cx="5905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66"/>
            </a:solidFill>
            <a:miter/>
          </a:ln>
          <a:effectLst>
            <a:outerShdw dist="107932" dir="2700000" blurRad="0" rotWithShape="0">
              <a:srgbClr val="6699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rmAutofit/>
          </a:bodyPr>
          <a:p>
            <a:pPr lvl="1" marL="7430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clearly defined component bor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33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to “internal” functions from out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33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tandardized interfac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depend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33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change-resista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33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in one component affect all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component encaps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33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ult to r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TT2.0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21408-030A-431D-9EC2-0B0A5AA782BE}" type="slidenum">
              <a:t>5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2960" cy="9921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X: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dular Application toolbo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6013440" y="911160"/>
          <a:ext cx="511200" cy="100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3440" y="911160"/>
                    <a:ext cx="5112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181080" y="1773360"/>
            <a:ext cx="1439640" cy="9968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028880"/>
            <a:ext cx="73929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11160" y="2494080"/>
            <a:ext cx="1238400" cy="552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73080" y="2565360"/>
            <a:ext cx="1123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01880" y="2490840"/>
            <a:ext cx="1238400" cy="552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54440" y="2459160"/>
            <a:ext cx="1214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ython Interpreter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16360" y="2494080"/>
            <a:ext cx="1238400" cy="552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16360" y="2494080"/>
            <a:ext cx="1123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S232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300720" y="1127160"/>
          <a:ext cx="511200" cy="10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0720" y="1127160"/>
                    <a:ext cx="5112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6516720" y="1343160"/>
          <a:ext cx="5112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16720" y="1343160"/>
                    <a:ext cx="5112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 rot="18505200">
            <a:off x="5810760" y="1975680"/>
            <a:ext cx="412560" cy="154080"/>
          </a:xfrm>
          <a:prstGeom prst="leftRightArrow">
            <a:avLst>
              <a:gd name="adj1" fmla="val 50000"/>
              <a:gd name="adj2" fmla="val 53303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6699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18995400">
            <a:off x="5956200" y="2118960"/>
            <a:ext cx="412920" cy="154080"/>
          </a:xfrm>
          <a:prstGeom prst="leftRightArrow">
            <a:avLst>
              <a:gd name="adj1" fmla="val 50000"/>
              <a:gd name="adj2" fmla="val 53350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6699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20067600">
            <a:off x="6156360" y="2278080"/>
            <a:ext cx="412560" cy="154080"/>
          </a:xfrm>
          <a:prstGeom prst="leftRightArrow">
            <a:avLst>
              <a:gd name="adj1" fmla="val 50000"/>
              <a:gd name="adj2" fmla="val 53303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6699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633920" y="4950000"/>
            <a:ext cx="1322280" cy="711000"/>
            <a:chOff x="4633920" y="4950000"/>
            <a:chExt cx="1322280" cy="711000"/>
          </a:xfrm>
        </p:grpSpPr>
        <p:sp>
          <p:nvSpPr>
            <p:cNvPr id="221" name=""/>
            <p:cNvSpPr/>
            <p:nvPr/>
          </p:nvSpPr>
          <p:spPr>
            <a:xfrm>
              <a:off x="4832280" y="4950000"/>
              <a:ext cx="11239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RS232 Modu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633920" y="5011560"/>
              <a:ext cx="1238400" cy="552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16360" y="5013360"/>
              <a:ext cx="11239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pp‘s 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828720" y="2930040"/>
            <a:ext cx="5784840" cy="1997280"/>
            <a:chOff x="828720" y="2930040"/>
            <a:chExt cx="5784840" cy="1997280"/>
          </a:xfrm>
        </p:grpSpPr>
        <p:sp>
          <p:nvSpPr>
            <p:cNvPr id="225" name=""/>
            <p:cNvSpPr/>
            <p:nvPr/>
          </p:nvSpPr>
          <p:spPr>
            <a:xfrm>
              <a:off x="828720" y="3141720"/>
              <a:ext cx="5305320" cy="16002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1411200" y="4506840"/>
              <a:ext cx="4076280" cy="238320"/>
              <a:chOff x="1411200" y="4506840"/>
              <a:chExt cx="4076280" cy="238320"/>
            </a:xfrm>
          </p:grpSpPr>
          <p:sp>
            <p:nvSpPr>
              <p:cNvPr id="227" name=""/>
              <p:cNvSpPr/>
              <p:nvPr/>
            </p:nvSpPr>
            <p:spPr>
              <a:xfrm>
                <a:off x="1411200" y="4506840"/>
                <a:ext cx="285480" cy="2383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306600" y="4506840"/>
                <a:ext cx="285480" cy="2383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202000" y="4506840"/>
                <a:ext cx="285480" cy="2383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1763640" y="3141720"/>
              <a:ext cx="181944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MAX Core  Frame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1390680" y="4503600"/>
              <a:ext cx="4076280" cy="238320"/>
              <a:chOff x="1390680" y="4503600"/>
              <a:chExt cx="4076280" cy="238320"/>
            </a:xfrm>
          </p:grpSpPr>
          <p:sp>
            <p:nvSpPr>
              <p:cNvPr id="232" name=""/>
              <p:cNvSpPr/>
              <p:nvPr/>
            </p:nvSpPr>
            <p:spPr>
              <a:xfrm>
                <a:off x="1390680" y="4503600"/>
                <a:ext cx="285480" cy="238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286080" y="4503600"/>
                <a:ext cx="285480" cy="238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181480" y="4503600"/>
                <a:ext cx="285480" cy="238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1396440" y="3020400"/>
              <a:ext cx="4144680" cy="377640"/>
              <a:chOff x="1396440" y="3020400"/>
              <a:chExt cx="4144680" cy="37764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1410120" y="3031200"/>
                <a:ext cx="4131000" cy="366840"/>
                <a:chOff x="1410120" y="3031200"/>
                <a:chExt cx="4131000" cy="366840"/>
              </a:xfrm>
            </p:grpSpPr>
            <p:sp>
              <p:nvSpPr>
                <p:cNvPr id="237" name=""/>
                <p:cNvSpPr/>
                <p:nvPr/>
              </p:nvSpPr>
              <p:spPr>
                <a:xfrm rot="3591600">
                  <a:off x="1441800" y="3095640"/>
                  <a:ext cx="286200" cy="237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rot="3591600">
                  <a:off x="3327840" y="3095640"/>
                  <a:ext cx="286200" cy="237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rot="3591600">
                  <a:off x="5223240" y="3095640"/>
                  <a:ext cx="286200" cy="237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1396440" y="3020400"/>
                <a:ext cx="4131000" cy="366840"/>
                <a:chOff x="1396440" y="3020400"/>
                <a:chExt cx="4131000" cy="366840"/>
              </a:xfrm>
            </p:grpSpPr>
            <p:sp>
              <p:nvSpPr>
                <p:cNvPr id="241" name=""/>
                <p:cNvSpPr/>
                <p:nvPr/>
              </p:nvSpPr>
              <p:spPr>
                <a:xfrm rot="3591600">
                  <a:off x="1428120" y="3084840"/>
                  <a:ext cx="286200" cy="237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rot="3591600">
                  <a:off x="3314160" y="3084840"/>
                  <a:ext cx="286200" cy="237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rot="3591600">
                  <a:off x="5209560" y="3084840"/>
                  <a:ext cx="286200" cy="237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4" name=""/>
            <p:cNvSpPr/>
            <p:nvPr/>
          </p:nvSpPr>
          <p:spPr>
            <a:xfrm rot="5400000">
              <a:off x="3290760" y="1641240"/>
              <a:ext cx="438120" cy="4619520"/>
            </a:xfrm>
            <a:prstGeom prst="can">
              <a:avLst>
                <a:gd name="adj" fmla="val 563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189080" y="3789360"/>
              <a:ext cx="54244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nternal publish/subscribe messaging mechanis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5451600">
              <a:off x="1374480" y="4221000"/>
              <a:ext cx="328680" cy="147600"/>
            </a:xfrm>
            <a:prstGeom prst="leftRightArrow">
              <a:avLst>
                <a:gd name="adj1" fmla="val 50000"/>
                <a:gd name="adj2" fmla="val 4433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5451600">
              <a:off x="3276360" y="4225680"/>
              <a:ext cx="328680" cy="147600"/>
            </a:xfrm>
            <a:prstGeom prst="leftRightArrow">
              <a:avLst>
                <a:gd name="adj1" fmla="val 50000"/>
                <a:gd name="adj2" fmla="val 4433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5451600">
              <a:off x="1374480" y="3516120"/>
              <a:ext cx="328680" cy="147600"/>
            </a:xfrm>
            <a:prstGeom prst="leftRightArrow">
              <a:avLst>
                <a:gd name="adj1" fmla="val 50000"/>
                <a:gd name="adj2" fmla="val 4433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5451600">
              <a:off x="3276360" y="3520800"/>
              <a:ext cx="328680" cy="147600"/>
            </a:xfrm>
            <a:prstGeom prst="leftRightArrow">
              <a:avLst>
                <a:gd name="adj1" fmla="val 50000"/>
                <a:gd name="adj2" fmla="val 4433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5451600">
              <a:off x="5165640" y="3511440"/>
              <a:ext cx="328680" cy="147600"/>
            </a:xfrm>
            <a:prstGeom prst="leftRightArrow">
              <a:avLst>
                <a:gd name="adj1" fmla="val 50000"/>
                <a:gd name="adj2" fmla="val 4433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37080" y="4438800"/>
              <a:ext cx="11257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omman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213080" y="4294080"/>
              <a:ext cx="12207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ess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5186520" y="4668840"/>
              <a:ext cx="295200" cy="256680"/>
              <a:chOff x="5186520" y="4668840"/>
              <a:chExt cx="295200" cy="256680"/>
            </a:xfrm>
          </p:grpSpPr>
          <p:sp>
            <p:nvSpPr>
              <p:cNvPr id="254" name=""/>
              <p:cNvSpPr/>
              <p:nvPr/>
            </p:nvSpPr>
            <p:spPr>
              <a:xfrm>
                <a:off x="5195880" y="4668840"/>
                <a:ext cx="285840" cy="237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186520" y="4687560"/>
                <a:ext cx="285840" cy="237960"/>
              </a:xfrm>
              <a:prstGeom prst="triangle">
                <a:avLst>
                  <a:gd name="adj" fmla="val 50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1380600" y="2933280"/>
              <a:ext cx="372600" cy="369360"/>
              <a:chOff x="1380600" y="2933280"/>
              <a:chExt cx="372600" cy="369360"/>
            </a:xfrm>
          </p:grpSpPr>
          <p:sp>
            <p:nvSpPr>
              <p:cNvPr id="257" name=""/>
              <p:cNvSpPr/>
              <p:nvPr/>
            </p:nvSpPr>
            <p:spPr>
              <a:xfrm rot="3529200">
                <a:off x="1434240" y="2998080"/>
                <a:ext cx="285840" cy="2383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3529200">
                <a:off x="1413360" y="2999520"/>
                <a:ext cx="285840" cy="238320"/>
              </a:xfrm>
              <a:prstGeom prst="triangle">
                <a:avLst>
                  <a:gd name="adj" fmla="val 50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3273120" y="2930040"/>
              <a:ext cx="372600" cy="369360"/>
              <a:chOff x="3273120" y="2930040"/>
              <a:chExt cx="372600" cy="369360"/>
            </a:xfrm>
          </p:grpSpPr>
          <p:sp>
            <p:nvSpPr>
              <p:cNvPr id="260" name=""/>
              <p:cNvSpPr/>
              <p:nvPr/>
            </p:nvSpPr>
            <p:spPr>
              <a:xfrm rot="3529200">
                <a:off x="3326760" y="2994840"/>
                <a:ext cx="285840" cy="237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3529200">
                <a:off x="3305880" y="2996280"/>
                <a:ext cx="285840" cy="237960"/>
              </a:xfrm>
              <a:prstGeom prst="triangle">
                <a:avLst>
                  <a:gd name="adj" fmla="val 50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5164200" y="2931120"/>
              <a:ext cx="371880" cy="368280"/>
              <a:chOff x="5164200" y="2931120"/>
              <a:chExt cx="371880" cy="368280"/>
            </a:xfrm>
          </p:grpSpPr>
          <p:sp>
            <p:nvSpPr>
              <p:cNvPr id="263" name=""/>
              <p:cNvSpPr/>
              <p:nvPr/>
            </p:nvSpPr>
            <p:spPr>
              <a:xfrm rot="3529200">
                <a:off x="5218200" y="2995200"/>
                <a:ext cx="284400" cy="237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3529200">
                <a:off x="5197320" y="2997000"/>
                <a:ext cx="284400" cy="237960"/>
              </a:xfrm>
              <a:prstGeom prst="triangle">
                <a:avLst>
                  <a:gd name="adj" fmla="val 50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5105520" y="4141440"/>
              <a:ext cx="428400" cy="785880"/>
              <a:chOff x="5105520" y="4141440"/>
              <a:chExt cx="428400" cy="785880"/>
            </a:xfrm>
          </p:grpSpPr>
          <p:sp>
            <p:nvSpPr>
              <p:cNvPr id="266" name=""/>
              <p:cNvSpPr/>
              <p:nvPr/>
            </p:nvSpPr>
            <p:spPr>
              <a:xfrm rot="10800000">
                <a:off x="5105520" y="4141440"/>
                <a:ext cx="275040" cy="574560"/>
              </a:xfrm>
              <a:prstGeom prst="downArrow">
                <a:avLst>
                  <a:gd name="adj1" fmla="val 50000"/>
                  <a:gd name="adj2" fmla="val 52225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258880" y="4352760"/>
                <a:ext cx="275040" cy="574560"/>
              </a:xfrm>
              <a:prstGeom prst="downArrow">
                <a:avLst>
                  <a:gd name="adj1" fmla="val 50000"/>
                  <a:gd name="adj2" fmla="val 52225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TT2.0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AC652-0CAD-4F7A-ADA4-7481BDB30D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2960" cy="9921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6013440" y="911160"/>
          <a:ext cx="511200" cy="100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3440" y="911160"/>
                    <a:ext cx="5112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181080" y="1773360"/>
            <a:ext cx="1439640" cy="9968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0" y="1028880"/>
            <a:ext cx="73929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11160" y="2494080"/>
            <a:ext cx="1238400" cy="552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73080" y="2565360"/>
            <a:ext cx="1123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01880" y="2490840"/>
            <a:ext cx="1238400" cy="552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54440" y="2459160"/>
            <a:ext cx="1214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ython Interpreter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716360" y="2494080"/>
            <a:ext cx="1238400" cy="552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716360" y="2494080"/>
            <a:ext cx="1123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S232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6300720" y="1127160"/>
          <a:ext cx="511200" cy="10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0720" y="1127160"/>
                    <a:ext cx="5112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6516720" y="1343160"/>
          <a:ext cx="5112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16720" y="1343160"/>
                    <a:ext cx="5112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 rot="18505200">
            <a:off x="5810760" y="1975680"/>
            <a:ext cx="412560" cy="154080"/>
          </a:xfrm>
          <a:prstGeom prst="leftRightArrow">
            <a:avLst>
              <a:gd name="adj1" fmla="val 50000"/>
              <a:gd name="adj2" fmla="val 53303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6699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18995400">
            <a:off x="5956200" y="2118960"/>
            <a:ext cx="412920" cy="154080"/>
          </a:xfrm>
          <a:prstGeom prst="leftRightArrow">
            <a:avLst>
              <a:gd name="adj1" fmla="val 50000"/>
              <a:gd name="adj2" fmla="val 53350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6699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rot="20067600">
            <a:off x="6156360" y="2278080"/>
            <a:ext cx="412560" cy="154080"/>
          </a:xfrm>
          <a:prstGeom prst="leftRightArrow">
            <a:avLst>
              <a:gd name="adj1" fmla="val 50000"/>
              <a:gd name="adj2" fmla="val 53303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6699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4633920" y="4950000"/>
            <a:ext cx="1322280" cy="711000"/>
            <a:chOff x="4633920" y="4950000"/>
            <a:chExt cx="1322280" cy="711000"/>
          </a:xfrm>
        </p:grpSpPr>
        <p:sp>
          <p:nvSpPr>
            <p:cNvPr id="287" name=""/>
            <p:cNvSpPr/>
            <p:nvPr/>
          </p:nvSpPr>
          <p:spPr>
            <a:xfrm>
              <a:off x="4832280" y="4950000"/>
              <a:ext cx="11239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RS232 Modu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633920" y="5011560"/>
              <a:ext cx="1238400" cy="552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716360" y="5013360"/>
              <a:ext cx="11239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pp‘s 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828720" y="2930040"/>
            <a:ext cx="5784840" cy="1997280"/>
            <a:chOff x="828720" y="2930040"/>
            <a:chExt cx="5784840" cy="1997280"/>
          </a:xfrm>
        </p:grpSpPr>
        <p:sp>
          <p:nvSpPr>
            <p:cNvPr id="291" name=""/>
            <p:cNvSpPr/>
            <p:nvPr/>
          </p:nvSpPr>
          <p:spPr>
            <a:xfrm>
              <a:off x="828720" y="3141720"/>
              <a:ext cx="5305320" cy="16002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1411200" y="4506840"/>
              <a:ext cx="4076280" cy="238320"/>
              <a:chOff x="1411200" y="4506840"/>
              <a:chExt cx="4076280" cy="238320"/>
            </a:xfrm>
          </p:grpSpPr>
          <p:sp>
            <p:nvSpPr>
              <p:cNvPr id="293" name=""/>
              <p:cNvSpPr/>
              <p:nvPr/>
            </p:nvSpPr>
            <p:spPr>
              <a:xfrm>
                <a:off x="1411200" y="4506840"/>
                <a:ext cx="285480" cy="2383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306600" y="4506840"/>
                <a:ext cx="285480" cy="2383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202000" y="4506840"/>
                <a:ext cx="285480" cy="2383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1763640" y="3141720"/>
              <a:ext cx="181944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MAX Core  Frame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1390680" y="4503600"/>
              <a:ext cx="4076280" cy="238320"/>
              <a:chOff x="1390680" y="4503600"/>
              <a:chExt cx="4076280" cy="238320"/>
            </a:xfrm>
          </p:grpSpPr>
          <p:sp>
            <p:nvSpPr>
              <p:cNvPr id="298" name=""/>
              <p:cNvSpPr/>
              <p:nvPr/>
            </p:nvSpPr>
            <p:spPr>
              <a:xfrm>
                <a:off x="1390680" y="4503600"/>
                <a:ext cx="285480" cy="238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286080" y="4503600"/>
                <a:ext cx="285480" cy="238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181480" y="4503600"/>
                <a:ext cx="285480" cy="238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1396440" y="3020400"/>
              <a:ext cx="4144680" cy="377640"/>
              <a:chOff x="1396440" y="3020400"/>
              <a:chExt cx="4144680" cy="37764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1410120" y="3031200"/>
                <a:ext cx="4131000" cy="366840"/>
                <a:chOff x="1410120" y="3031200"/>
                <a:chExt cx="4131000" cy="366840"/>
              </a:xfrm>
            </p:grpSpPr>
            <p:sp>
              <p:nvSpPr>
                <p:cNvPr id="303" name=""/>
                <p:cNvSpPr/>
                <p:nvPr/>
              </p:nvSpPr>
              <p:spPr>
                <a:xfrm rot="3591600">
                  <a:off x="1441800" y="3095640"/>
                  <a:ext cx="286200" cy="237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rot="3591600">
                  <a:off x="3327840" y="3095640"/>
                  <a:ext cx="286200" cy="237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3591600">
                  <a:off x="5223240" y="3095640"/>
                  <a:ext cx="286200" cy="237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1396440" y="3020400"/>
                <a:ext cx="4131000" cy="366840"/>
                <a:chOff x="1396440" y="3020400"/>
                <a:chExt cx="4131000" cy="366840"/>
              </a:xfrm>
            </p:grpSpPr>
            <p:sp>
              <p:nvSpPr>
                <p:cNvPr id="307" name=""/>
                <p:cNvSpPr/>
                <p:nvPr/>
              </p:nvSpPr>
              <p:spPr>
                <a:xfrm rot="3591600">
                  <a:off x="1428120" y="3084840"/>
                  <a:ext cx="286200" cy="237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rot="3591600">
                  <a:off x="3314160" y="3084840"/>
                  <a:ext cx="286200" cy="237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rot="3591600">
                  <a:off x="5209560" y="3084840"/>
                  <a:ext cx="286200" cy="237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0" name=""/>
            <p:cNvSpPr/>
            <p:nvPr/>
          </p:nvSpPr>
          <p:spPr>
            <a:xfrm rot="5400000">
              <a:off x="3290760" y="1641240"/>
              <a:ext cx="438120" cy="4619520"/>
            </a:xfrm>
            <a:prstGeom prst="can">
              <a:avLst>
                <a:gd name="adj" fmla="val 563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189080" y="3789360"/>
              <a:ext cx="54244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nternal publish/subscribe messaging mechanis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5451600">
              <a:off x="1374480" y="4221000"/>
              <a:ext cx="328680" cy="147600"/>
            </a:xfrm>
            <a:prstGeom prst="leftRightArrow">
              <a:avLst>
                <a:gd name="adj1" fmla="val 50000"/>
                <a:gd name="adj2" fmla="val 4433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5451600">
              <a:off x="3276360" y="4225680"/>
              <a:ext cx="328680" cy="147600"/>
            </a:xfrm>
            <a:prstGeom prst="leftRightArrow">
              <a:avLst>
                <a:gd name="adj1" fmla="val 50000"/>
                <a:gd name="adj2" fmla="val 4433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5451600">
              <a:off x="1374480" y="3516120"/>
              <a:ext cx="328680" cy="147600"/>
            </a:xfrm>
            <a:prstGeom prst="leftRightArrow">
              <a:avLst>
                <a:gd name="adj1" fmla="val 50000"/>
                <a:gd name="adj2" fmla="val 4433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5451600">
              <a:off x="3276360" y="3520800"/>
              <a:ext cx="328680" cy="147600"/>
            </a:xfrm>
            <a:prstGeom prst="leftRightArrow">
              <a:avLst>
                <a:gd name="adj1" fmla="val 50000"/>
                <a:gd name="adj2" fmla="val 4433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5451600">
              <a:off x="5165640" y="3511440"/>
              <a:ext cx="328680" cy="147600"/>
            </a:xfrm>
            <a:prstGeom prst="leftRightArrow">
              <a:avLst>
                <a:gd name="adj1" fmla="val 50000"/>
                <a:gd name="adj2" fmla="val 4433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437080" y="4438800"/>
              <a:ext cx="11257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omman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13080" y="4294080"/>
              <a:ext cx="12207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ess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5186520" y="4668840"/>
              <a:ext cx="295200" cy="256680"/>
              <a:chOff x="5186520" y="4668840"/>
              <a:chExt cx="295200" cy="256680"/>
            </a:xfrm>
          </p:grpSpPr>
          <p:sp>
            <p:nvSpPr>
              <p:cNvPr id="320" name=""/>
              <p:cNvSpPr/>
              <p:nvPr/>
            </p:nvSpPr>
            <p:spPr>
              <a:xfrm>
                <a:off x="5195880" y="4668840"/>
                <a:ext cx="285840" cy="237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186520" y="4687560"/>
                <a:ext cx="285840" cy="237960"/>
              </a:xfrm>
              <a:prstGeom prst="triangle">
                <a:avLst>
                  <a:gd name="adj" fmla="val 50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1380600" y="2933280"/>
              <a:ext cx="372600" cy="369360"/>
              <a:chOff x="1380600" y="2933280"/>
              <a:chExt cx="372600" cy="369360"/>
            </a:xfrm>
          </p:grpSpPr>
          <p:sp>
            <p:nvSpPr>
              <p:cNvPr id="323" name=""/>
              <p:cNvSpPr/>
              <p:nvPr/>
            </p:nvSpPr>
            <p:spPr>
              <a:xfrm rot="3529200">
                <a:off x="1434240" y="2998080"/>
                <a:ext cx="285840" cy="2383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3529200">
                <a:off x="1413360" y="2999520"/>
                <a:ext cx="285840" cy="238320"/>
              </a:xfrm>
              <a:prstGeom prst="triangle">
                <a:avLst>
                  <a:gd name="adj" fmla="val 50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3273120" y="2930040"/>
              <a:ext cx="372600" cy="369360"/>
              <a:chOff x="3273120" y="2930040"/>
              <a:chExt cx="372600" cy="369360"/>
            </a:xfrm>
          </p:grpSpPr>
          <p:sp>
            <p:nvSpPr>
              <p:cNvPr id="326" name=""/>
              <p:cNvSpPr/>
              <p:nvPr/>
            </p:nvSpPr>
            <p:spPr>
              <a:xfrm rot="3529200">
                <a:off x="3326760" y="2994840"/>
                <a:ext cx="285840" cy="237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3529200">
                <a:off x="3305880" y="2996280"/>
                <a:ext cx="285840" cy="237960"/>
              </a:xfrm>
              <a:prstGeom prst="triangle">
                <a:avLst>
                  <a:gd name="adj" fmla="val 50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5164200" y="2931120"/>
              <a:ext cx="371880" cy="368280"/>
              <a:chOff x="5164200" y="2931120"/>
              <a:chExt cx="371880" cy="368280"/>
            </a:xfrm>
          </p:grpSpPr>
          <p:sp>
            <p:nvSpPr>
              <p:cNvPr id="329" name=""/>
              <p:cNvSpPr/>
              <p:nvPr/>
            </p:nvSpPr>
            <p:spPr>
              <a:xfrm rot="3529200">
                <a:off x="5218200" y="2995200"/>
                <a:ext cx="284400" cy="237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3529200">
                <a:off x="5197320" y="2997000"/>
                <a:ext cx="284400" cy="237960"/>
              </a:xfrm>
              <a:prstGeom prst="triangle">
                <a:avLst>
                  <a:gd name="adj" fmla="val 50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5105520" y="4141440"/>
              <a:ext cx="428400" cy="785880"/>
              <a:chOff x="5105520" y="4141440"/>
              <a:chExt cx="428400" cy="785880"/>
            </a:xfrm>
          </p:grpSpPr>
          <p:sp>
            <p:nvSpPr>
              <p:cNvPr id="332" name=""/>
              <p:cNvSpPr/>
              <p:nvPr/>
            </p:nvSpPr>
            <p:spPr>
              <a:xfrm rot="10800000">
                <a:off x="5105520" y="4141440"/>
                <a:ext cx="275040" cy="574560"/>
              </a:xfrm>
              <a:prstGeom prst="downArrow">
                <a:avLst>
                  <a:gd name="adj1" fmla="val 50000"/>
                  <a:gd name="adj2" fmla="val 52225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258880" y="4352760"/>
                <a:ext cx="275040" cy="574560"/>
              </a:xfrm>
              <a:prstGeom prst="downArrow">
                <a:avLst>
                  <a:gd name="adj1" fmla="val 50000"/>
                  <a:gd name="adj2" fmla="val 52225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4" name=""/>
          <p:cNvSpPr/>
          <p:nvPr/>
        </p:nvSpPr>
        <p:spPr>
          <a:xfrm>
            <a:off x="4500720" y="2854440"/>
            <a:ext cx="43210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4000" y="1773360"/>
            <a:ext cx="6769080" cy="43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66"/>
            </a:solidFill>
            <a:miter/>
          </a:ln>
          <a:effectLst>
            <a:outerShdw dist="107932" dir="2700000" blurRad="0" rotWithShape="0">
              <a:srgbClr val="6699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haracteristic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ar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33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module encapsulated in its own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33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us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ized internal interfa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33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/subscribe messaging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33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odule interdepend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modules derived from common SW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33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basic structure and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33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wn thread per modu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no application deadlock if one module b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33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apsulation of Windows messaging and asynchronous I/O A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TT2.0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124C3-29C2-44C7-92B7-78C8453B2DA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2960" cy="9921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6013440" y="911160"/>
          <a:ext cx="511200" cy="100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3440" y="911160"/>
                    <a:ext cx="5112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181080" y="1773360"/>
            <a:ext cx="1439640" cy="99684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0" y="1028880"/>
            <a:ext cx="73929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1160" y="2494080"/>
            <a:ext cx="1238400" cy="552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973080" y="2565360"/>
            <a:ext cx="1123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801880" y="2490840"/>
            <a:ext cx="1238400" cy="552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854440" y="2459160"/>
            <a:ext cx="1214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ython Interpreter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16360" y="2494080"/>
            <a:ext cx="1238400" cy="552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716360" y="2494080"/>
            <a:ext cx="1123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S232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6300720" y="1127160"/>
          <a:ext cx="511200" cy="10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0720" y="1127160"/>
                    <a:ext cx="5112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6516720" y="1343160"/>
          <a:ext cx="5112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16720" y="1343160"/>
                    <a:ext cx="5112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 rot="18505200">
            <a:off x="5810760" y="1975680"/>
            <a:ext cx="412560" cy="154080"/>
          </a:xfrm>
          <a:prstGeom prst="leftRightArrow">
            <a:avLst>
              <a:gd name="adj1" fmla="val 50000"/>
              <a:gd name="adj2" fmla="val 53303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6699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18995400">
            <a:off x="5956200" y="2118960"/>
            <a:ext cx="412920" cy="154080"/>
          </a:xfrm>
          <a:prstGeom prst="leftRightArrow">
            <a:avLst>
              <a:gd name="adj1" fmla="val 50000"/>
              <a:gd name="adj2" fmla="val 53350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6699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rot="20067600">
            <a:off x="6156360" y="2278080"/>
            <a:ext cx="412560" cy="154080"/>
          </a:xfrm>
          <a:prstGeom prst="leftRightArrow">
            <a:avLst>
              <a:gd name="adj1" fmla="val 50000"/>
              <a:gd name="adj2" fmla="val 53303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6699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4633920" y="4950000"/>
            <a:ext cx="1322280" cy="711000"/>
            <a:chOff x="4633920" y="4950000"/>
            <a:chExt cx="1322280" cy="711000"/>
          </a:xfrm>
        </p:grpSpPr>
        <p:sp>
          <p:nvSpPr>
            <p:cNvPr id="355" name=""/>
            <p:cNvSpPr/>
            <p:nvPr/>
          </p:nvSpPr>
          <p:spPr>
            <a:xfrm>
              <a:off x="4832280" y="4950000"/>
              <a:ext cx="11239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RS232 Modu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633920" y="5011560"/>
              <a:ext cx="1238400" cy="552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716360" y="5013360"/>
              <a:ext cx="11239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pp‘s 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828720" y="3141720"/>
            <a:ext cx="5305320" cy="1600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411200" y="4506840"/>
            <a:ext cx="4076280" cy="238320"/>
            <a:chOff x="1411200" y="4506840"/>
            <a:chExt cx="4076280" cy="238320"/>
          </a:xfrm>
        </p:grpSpPr>
        <p:sp>
          <p:nvSpPr>
            <p:cNvPr id="360" name=""/>
            <p:cNvSpPr/>
            <p:nvPr/>
          </p:nvSpPr>
          <p:spPr>
            <a:xfrm>
              <a:off x="1411200" y="4506840"/>
              <a:ext cx="285480" cy="238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306600" y="4506840"/>
              <a:ext cx="285480" cy="238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202000" y="4506840"/>
              <a:ext cx="285480" cy="238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1763640" y="3141720"/>
            <a:ext cx="1819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X Core 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390680" y="4503600"/>
            <a:ext cx="4076280" cy="238320"/>
            <a:chOff x="1390680" y="4503600"/>
            <a:chExt cx="4076280" cy="238320"/>
          </a:xfrm>
        </p:grpSpPr>
        <p:sp>
          <p:nvSpPr>
            <p:cNvPr id="365" name=""/>
            <p:cNvSpPr/>
            <p:nvPr/>
          </p:nvSpPr>
          <p:spPr>
            <a:xfrm>
              <a:off x="1390680" y="4503600"/>
              <a:ext cx="285480" cy="238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286080" y="4503600"/>
              <a:ext cx="285480" cy="238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503600"/>
              <a:ext cx="285480" cy="238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1396440" y="3020400"/>
            <a:ext cx="4144680" cy="377640"/>
            <a:chOff x="1396440" y="3020400"/>
            <a:chExt cx="4144680" cy="377640"/>
          </a:xfrm>
        </p:grpSpPr>
        <p:grpSp>
          <p:nvGrpSpPr>
            <p:cNvPr id="369" name=""/>
            <p:cNvGrpSpPr/>
            <p:nvPr/>
          </p:nvGrpSpPr>
          <p:grpSpPr>
            <a:xfrm>
              <a:off x="1410120" y="3031200"/>
              <a:ext cx="4131000" cy="366840"/>
              <a:chOff x="1410120" y="3031200"/>
              <a:chExt cx="4131000" cy="366840"/>
            </a:xfrm>
          </p:grpSpPr>
          <p:sp>
            <p:nvSpPr>
              <p:cNvPr id="370" name=""/>
              <p:cNvSpPr/>
              <p:nvPr/>
            </p:nvSpPr>
            <p:spPr>
              <a:xfrm rot="3591600">
                <a:off x="1441800" y="3095640"/>
                <a:ext cx="286200" cy="237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3591600">
                <a:off x="3327840" y="3095640"/>
                <a:ext cx="286200" cy="237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3591600">
                <a:off x="5223240" y="3095640"/>
                <a:ext cx="286200" cy="237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1396440" y="3020400"/>
              <a:ext cx="4131000" cy="366840"/>
              <a:chOff x="1396440" y="3020400"/>
              <a:chExt cx="4131000" cy="366840"/>
            </a:xfrm>
          </p:grpSpPr>
          <p:sp>
            <p:nvSpPr>
              <p:cNvPr id="374" name=""/>
              <p:cNvSpPr/>
              <p:nvPr/>
            </p:nvSpPr>
            <p:spPr>
              <a:xfrm rot="3591600">
                <a:off x="1428120" y="3084840"/>
                <a:ext cx="286200" cy="237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3591600">
                <a:off x="3314160" y="3084840"/>
                <a:ext cx="286200" cy="237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3591600">
                <a:off x="5209560" y="3084840"/>
                <a:ext cx="286200" cy="237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7" name=""/>
          <p:cNvSpPr/>
          <p:nvPr/>
        </p:nvSpPr>
        <p:spPr>
          <a:xfrm rot="5400000">
            <a:off x="3290760" y="1641240"/>
            <a:ext cx="438120" cy="4619520"/>
          </a:xfrm>
          <a:prstGeom prst="can">
            <a:avLst>
              <a:gd name="adj" fmla="val 563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189080" y="3789360"/>
            <a:ext cx="54244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rnal publish/subscribe messaging mechani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5451600">
            <a:off x="1374480" y="4221000"/>
            <a:ext cx="328680" cy="147600"/>
          </a:xfrm>
          <a:prstGeom prst="leftRightArrow">
            <a:avLst>
              <a:gd name="adj1" fmla="val 50000"/>
              <a:gd name="adj2" fmla="val 4433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5451600">
            <a:off x="3276360" y="4225680"/>
            <a:ext cx="328680" cy="147600"/>
          </a:xfrm>
          <a:prstGeom prst="leftRightArrow">
            <a:avLst>
              <a:gd name="adj1" fmla="val 50000"/>
              <a:gd name="adj2" fmla="val 4433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rot="5451600">
            <a:off x="1374480" y="3516120"/>
            <a:ext cx="328680" cy="147600"/>
          </a:xfrm>
          <a:prstGeom prst="leftRightArrow">
            <a:avLst>
              <a:gd name="adj1" fmla="val 50000"/>
              <a:gd name="adj2" fmla="val 4433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rot="5451600">
            <a:off x="3276360" y="3520800"/>
            <a:ext cx="328680" cy="147600"/>
          </a:xfrm>
          <a:prstGeom prst="leftRightArrow">
            <a:avLst>
              <a:gd name="adj1" fmla="val 50000"/>
              <a:gd name="adj2" fmla="val 4433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5451600">
            <a:off x="5165640" y="3511440"/>
            <a:ext cx="328680" cy="147600"/>
          </a:xfrm>
          <a:prstGeom prst="leftRightArrow">
            <a:avLst>
              <a:gd name="adj1" fmla="val 50000"/>
              <a:gd name="adj2" fmla="val 4433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437080" y="4438800"/>
            <a:ext cx="11257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13080" y="4294080"/>
            <a:ext cx="1220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380600" y="2933280"/>
            <a:ext cx="372600" cy="369360"/>
            <a:chOff x="1380600" y="2933280"/>
            <a:chExt cx="372600" cy="369360"/>
          </a:xfrm>
        </p:grpSpPr>
        <p:sp>
          <p:nvSpPr>
            <p:cNvPr id="387" name=""/>
            <p:cNvSpPr/>
            <p:nvPr/>
          </p:nvSpPr>
          <p:spPr>
            <a:xfrm rot="3529200">
              <a:off x="1434240" y="2998080"/>
              <a:ext cx="285840" cy="238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3529200">
              <a:off x="1413360" y="2999520"/>
              <a:ext cx="285840" cy="23832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3273120" y="2930040"/>
            <a:ext cx="372600" cy="369360"/>
            <a:chOff x="3273120" y="2930040"/>
            <a:chExt cx="372600" cy="369360"/>
          </a:xfrm>
        </p:grpSpPr>
        <p:sp>
          <p:nvSpPr>
            <p:cNvPr id="390" name=""/>
            <p:cNvSpPr/>
            <p:nvPr/>
          </p:nvSpPr>
          <p:spPr>
            <a:xfrm rot="3529200">
              <a:off x="3326760" y="2994840"/>
              <a:ext cx="285840" cy="237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3529200">
              <a:off x="3305880" y="2996280"/>
              <a:ext cx="285840" cy="23796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5164200" y="2931120"/>
            <a:ext cx="371880" cy="368280"/>
            <a:chOff x="5164200" y="2931120"/>
            <a:chExt cx="371880" cy="368280"/>
          </a:xfrm>
        </p:grpSpPr>
        <p:sp>
          <p:nvSpPr>
            <p:cNvPr id="393" name=""/>
            <p:cNvSpPr/>
            <p:nvPr/>
          </p:nvSpPr>
          <p:spPr>
            <a:xfrm rot="3529200">
              <a:off x="5218200" y="2995200"/>
              <a:ext cx="284400" cy="237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rot="3529200">
              <a:off x="5197320" y="2997000"/>
              <a:ext cx="284400" cy="23796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5105520" y="4141440"/>
            <a:ext cx="428400" cy="785880"/>
            <a:chOff x="5105520" y="4141440"/>
            <a:chExt cx="428400" cy="785880"/>
          </a:xfrm>
        </p:grpSpPr>
        <p:sp>
          <p:nvSpPr>
            <p:cNvPr id="396" name=""/>
            <p:cNvSpPr/>
            <p:nvPr/>
          </p:nvSpPr>
          <p:spPr>
            <a:xfrm rot="10800000">
              <a:off x="5105520" y="4141440"/>
              <a:ext cx="275040" cy="574560"/>
            </a:xfrm>
            <a:prstGeom prst="downArrow">
              <a:avLst>
                <a:gd name="adj1" fmla="val 50000"/>
                <a:gd name="adj2" fmla="val 5222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258880" y="4352760"/>
              <a:ext cx="275040" cy="574560"/>
            </a:xfrm>
            <a:prstGeom prst="downArrow">
              <a:avLst>
                <a:gd name="adj1" fmla="val 50000"/>
                <a:gd name="adj2" fmla="val 5222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992160"/>
            <a:ext cx="7392960" cy="5562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as for future modules &amp;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874800" y="4941720"/>
            <a:ext cx="1322280" cy="711000"/>
            <a:chOff x="874800" y="4941720"/>
            <a:chExt cx="1322280" cy="711000"/>
          </a:xfrm>
        </p:grpSpPr>
        <p:sp>
          <p:nvSpPr>
            <p:cNvPr id="400" name=""/>
            <p:cNvSpPr/>
            <p:nvPr/>
          </p:nvSpPr>
          <p:spPr>
            <a:xfrm>
              <a:off x="1073160" y="4941720"/>
              <a:ext cx="11239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RS232 Modu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74800" y="5003280"/>
              <a:ext cx="1238400" cy="552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57240" y="5005080"/>
              <a:ext cx="11239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TCP/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378080" y="4654440"/>
            <a:ext cx="295200" cy="257040"/>
            <a:chOff x="1378080" y="4654440"/>
            <a:chExt cx="295200" cy="257040"/>
          </a:xfrm>
        </p:grpSpPr>
        <p:sp>
          <p:nvSpPr>
            <p:cNvPr id="404" name=""/>
            <p:cNvSpPr/>
            <p:nvPr/>
          </p:nvSpPr>
          <p:spPr>
            <a:xfrm>
              <a:off x="1387440" y="4654440"/>
              <a:ext cx="285840" cy="238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378080" y="4673160"/>
              <a:ext cx="285840" cy="23832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1405080" y="551808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706320" y="6138720"/>
            <a:ext cx="1500480" cy="74880"/>
            <a:chOff x="706320" y="6138720"/>
            <a:chExt cx="1500480" cy="74880"/>
          </a:xfrm>
        </p:grpSpPr>
        <p:sp>
          <p:nvSpPr>
            <p:cNvPr id="408" name=""/>
            <p:cNvSpPr/>
            <p:nvPr/>
          </p:nvSpPr>
          <p:spPr>
            <a:xfrm>
              <a:off x="755640" y="6184800"/>
              <a:ext cx="144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2000" bIns="-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133720" y="6141960"/>
              <a:ext cx="7308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06320" y="6138720"/>
              <a:ext cx="7308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554400" y="5824440"/>
            <a:ext cx="8488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twor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TT2.0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64B8B-B272-4F27-BAF8-74F7722CEB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2960" cy="9921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MAX Ide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1028880"/>
            <a:ext cx="73929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16360" y="2494080"/>
            <a:ext cx="1238400" cy="552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16360" y="2494080"/>
            <a:ext cx="1123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PP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4633920" y="4950000"/>
            <a:ext cx="1322280" cy="711000"/>
            <a:chOff x="4633920" y="4950000"/>
            <a:chExt cx="1322280" cy="711000"/>
          </a:xfrm>
        </p:grpSpPr>
        <p:sp>
          <p:nvSpPr>
            <p:cNvPr id="417" name=""/>
            <p:cNvSpPr/>
            <p:nvPr/>
          </p:nvSpPr>
          <p:spPr>
            <a:xfrm>
              <a:off x="4832280" y="4950000"/>
              <a:ext cx="11239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RS232 Modu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633920" y="5011560"/>
              <a:ext cx="1238400" cy="552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716360" y="5013360"/>
              <a:ext cx="11239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pp‘s 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828720" y="3141720"/>
            <a:ext cx="5305320" cy="1600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411200" y="4506840"/>
            <a:ext cx="4076280" cy="238320"/>
            <a:chOff x="1411200" y="4506840"/>
            <a:chExt cx="4076280" cy="238320"/>
          </a:xfrm>
        </p:grpSpPr>
        <p:sp>
          <p:nvSpPr>
            <p:cNvPr id="422" name=""/>
            <p:cNvSpPr/>
            <p:nvPr/>
          </p:nvSpPr>
          <p:spPr>
            <a:xfrm>
              <a:off x="1411200" y="4506840"/>
              <a:ext cx="285480" cy="238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306600" y="4506840"/>
              <a:ext cx="285480" cy="238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202000" y="4506840"/>
              <a:ext cx="285480" cy="238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1763640" y="3141720"/>
            <a:ext cx="1819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X Core 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1390680" y="4503600"/>
            <a:ext cx="4076280" cy="238320"/>
            <a:chOff x="1390680" y="4503600"/>
            <a:chExt cx="4076280" cy="238320"/>
          </a:xfrm>
        </p:grpSpPr>
        <p:sp>
          <p:nvSpPr>
            <p:cNvPr id="427" name=""/>
            <p:cNvSpPr/>
            <p:nvPr/>
          </p:nvSpPr>
          <p:spPr>
            <a:xfrm>
              <a:off x="1390680" y="4503600"/>
              <a:ext cx="285480" cy="238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286080" y="4503600"/>
              <a:ext cx="285480" cy="238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181480" y="4503600"/>
              <a:ext cx="285480" cy="238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1396440" y="3020400"/>
            <a:ext cx="4144680" cy="377640"/>
            <a:chOff x="1396440" y="3020400"/>
            <a:chExt cx="4144680" cy="377640"/>
          </a:xfrm>
        </p:grpSpPr>
        <p:grpSp>
          <p:nvGrpSpPr>
            <p:cNvPr id="431" name=""/>
            <p:cNvGrpSpPr/>
            <p:nvPr/>
          </p:nvGrpSpPr>
          <p:grpSpPr>
            <a:xfrm>
              <a:off x="1410120" y="3031200"/>
              <a:ext cx="4131000" cy="366840"/>
              <a:chOff x="1410120" y="3031200"/>
              <a:chExt cx="4131000" cy="366840"/>
            </a:xfrm>
          </p:grpSpPr>
          <p:sp>
            <p:nvSpPr>
              <p:cNvPr id="432" name=""/>
              <p:cNvSpPr/>
              <p:nvPr/>
            </p:nvSpPr>
            <p:spPr>
              <a:xfrm rot="3591600">
                <a:off x="1441800" y="3095640"/>
                <a:ext cx="286200" cy="237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rot="3591600">
                <a:off x="3327840" y="3095640"/>
                <a:ext cx="286200" cy="237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3591600">
                <a:off x="5223240" y="3095640"/>
                <a:ext cx="286200" cy="237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1396440" y="3020400"/>
              <a:ext cx="4131000" cy="366840"/>
              <a:chOff x="1396440" y="3020400"/>
              <a:chExt cx="4131000" cy="366840"/>
            </a:xfrm>
          </p:grpSpPr>
          <p:sp>
            <p:nvSpPr>
              <p:cNvPr id="436" name=""/>
              <p:cNvSpPr/>
              <p:nvPr/>
            </p:nvSpPr>
            <p:spPr>
              <a:xfrm rot="3591600">
                <a:off x="1428120" y="3084840"/>
                <a:ext cx="286200" cy="237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3591600">
                <a:off x="3314160" y="3084840"/>
                <a:ext cx="286200" cy="237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3591600">
                <a:off x="5209560" y="3084840"/>
                <a:ext cx="286200" cy="237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9" name=""/>
          <p:cNvSpPr/>
          <p:nvPr/>
        </p:nvSpPr>
        <p:spPr>
          <a:xfrm rot="5400000">
            <a:off x="3290760" y="1641240"/>
            <a:ext cx="438120" cy="4619520"/>
          </a:xfrm>
          <a:prstGeom prst="can">
            <a:avLst>
              <a:gd name="adj" fmla="val 563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189080" y="3789360"/>
            <a:ext cx="54244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rnal publish/subscribe messaging mechani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rot="5451600">
            <a:off x="1374480" y="4221000"/>
            <a:ext cx="328680" cy="147600"/>
          </a:xfrm>
          <a:prstGeom prst="leftRightArrow">
            <a:avLst>
              <a:gd name="adj1" fmla="val 50000"/>
              <a:gd name="adj2" fmla="val 4433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rot="5451600">
            <a:off x="3276360" y="4225680"/>
            <a:ext cx="328680" cy="147600"/>
          </a:xfrm>
          <a:prstGeom prst="leftRightArrow">
            <a:avLst>
              <a:gd name="adj1" fmla="val 50000"/>
              <a:gd name="adj2" fmla="val 4433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rot="5451600">
            <a:off x="1374480" y="3516120"/>
            <a:ext cx="328680" cy="147600"/>
          </a:xfrm>
          <a:prstGeom prst="leftRightArrow">
            <a:avLst>
              <a:gd name="adj1" fmla="val 50000"/>
              <a:gd name="adj2" fmla="val 4433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rot="5451600">
            <a:off x="3276360" y="3520800"/>
            <a:ext cx="328680" cy="147600"/>
          </a:xfrm>
          <a:prstGeom prst="leftRightArrow">
            <a:avLst>
              <a:gd name="adj1" fmla="val 50000"/>
              <a:gd name="adj2" fmla="val 4433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rot="5451600">
            <a:off x="5165640" y="3511440"/>
            <a:ext cx="328680" cy="147600"/>
          </a:xfrm>
          <a:prstGeom prst="leftRightArrow">
            <a:avLst>
              <a:gd name="adj1" fmla="val 50000"/>
              <a:gd name="adj2" fmla="val 4433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437080" y="4438800"/>
            <a:ext cx="11257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213080" y="4294080"/>
            <a:ext cx="1220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5164200" y="2931120"/>
            <a:ext cx="371880" cy="368280"/>
            <a:chOff x="5164200" y="2931120"/>
            <a:chExt cx="371880" cy="368280"/>
          </a:xfrm>
        </p:grpSpPr>
        <p:sp>
          <p:nvSpPr>
            <p:cNvPr id="449" name=""/>
            <p:cNvSpPr/>
            <p:nvPr/>
          </p:nvSpPr>
          <p:spPr>
            <a:xfrm rot="3529200">
              <a:off x="5218200" y="2995200"/>
              <a:ext cx="284400" cy="237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3529200">
              <a:off x="5197320" y="2997000"/>
              <a:ext cx="284400" cy="23796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5105520" y="4141440"/>
            <a:ext cx="428400" cy="785880"/>
            <a:chOff x="5105520" y="4141440"/>
            <a:chExt cx="428400" cy="785880"/>
          </a:xfrm>
        </p:grpSpPr>
        <p:sp>
          <p:nvSpPr>
            <p:cNvPr id="452" name=""/>
            <p:cNvSpPr/>
            <p:nvPr/>
          </p:nvSpPr>
          <p:spPr>
            <a:xfrm rot="10800000">
              <a:off x="5105520" y="4141440"/>
              <a:ext cx="275040" cy="574560"/>
            </a:xfrm>
            <a:prstGeom prst="downArrow">
              <a:avLst>
                <a:gd name="adj1" fmla="val 50000"/>
                <a:gd name="adj2" fmla="val 5222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258880" y="4352760"/>
              <a:ext cx="275040" cy="574560"/>
            </a:xfrm>
            <a:prstGeom prst="downArrow">
              <a:avLst>
                <a:gd name="adj1" fmla="val 50000"/>
                <a:gd name="adj2" fmla="val 5222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2773440" y="4941720"/>
            <a:ext cx="1322280" cy="711000"/>
            <a:chOff x="2773440" y="4941720"/>
            <a:chExt cx="1322280" cy="711000"/>
          </a:xfrm>
        </p:grpSpPr>
        <p:sp>
          <p:nvSpPr>
            <p:cNvPr id="455" name=""/>
            <p:cNvSpPr/>
            <p:nvPr/>
          </p:nvSpPr>
          <p:spPr>
            <a:xfrm>
              <a:off x="2971800" y="4941720"/>
              <a:ext cx="11239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RS232 Modu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773440" y="5003280"/>
              <a:ext cx="1238400" cy="552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855880" y="5005080"/>
              <a:ext cx="11239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Database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3276720" y="4654440"/>
            <a:ext cx="295200" cy="257040"/>
            <a:chOff x="3276720" y="4654440"/>
            <a:chExt cx="295200" cy="257040"/>
          </a:xfrm>
        </p:grpSpPr>
        <p:sp>
          <p:nvSpPr>
            <p:cNvPr id="459" name=""/>
            <p:cNvSpPr/>
            <p:nvPr/>
          </p:nvSpPr>
          <p:spPr>
            <a:xfrm>
              <a:off x="3286080" y="4654440"/>
              <a:ext cx="285840" cy="238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276720" y="4673160"/>
              <a:ext cx="285840" cy="23832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2989440" y="5877000"/>
            <a:ext cx="792000" cy="5032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QL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rot="5400000">
            <a:off x="3223080" y="5571360"/>
            <a:ext cx="358920" cy="252360"/>
          </a:xfrm>
          <a:prstGeom prst="leftRightArrow">
            <a:avLst>
              <a:gd name="adj1" fmla="val 50000"/>
              <a:gd name="adj2" fmla="val 28313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54360" bIns="54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132000" y="1197000"/>
            <a:ext cx="1130400" cy="865080"/>
          </a:xfrm>
          <a:prstGeom prst="foldedCorner">
            <a:avLst>
              <a:gd name="adj" fmla="val 12500"/>
            </a:avLst>
          </a:prstGeom>
          <a:solidFill>
            <a:srgbClr val="99ccf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rot="2743800">
            <a:off x="4169160" y="2104200"/>
            <a:ext cx="625320" cy="252360"/>
          </a:xfrm>
          <a:prstGeom prst="leftRightArrow">
            <a:avLst>
              <a:gd name="adj1" fmla="val 50000"/>
              <a:gd name="adj2" fmla="val 49328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54360" bIns="54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05120" y="1341360"/>
            <a:ext cx="113976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xternal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TT2.0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F512A-1114-4B71-BD12-310CE1A644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1:17:16Z</dcterms:created>
  <dc:creator>Ralf Weiden</dc:creator>
  <dc:description/>
  <dc:language>en-US</dc:language>
  <cp:lastModifiedBy>itcweide</cp:lastModifiedBy>
  <cp:lastPrinted>2001-11-15T10:48:33Z</cp:lastPrinted>
  <dcterms:modified xsi:type="dcterms:W3CDTF">2004-08-20T05:46:48Z</dcterms:modified>
  <cp:revision>75</cp:revision>
  <dc:subject>ATT2.0</dc:subject>
  <dc:title>Folie 1</dc:title>
</cp:coreProperties>
</file>