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179BA-0BC6-4C10-A073-CA6754606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5640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14400" y="5929200"/>
            <a:ext cx="5640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CC73-02BC-42F0-9DD5-47316DBDF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0448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14400" y="592920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4480" y="592920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69E1F-8058-4BCD-BF16-FBC2D34EE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821320" y="541152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728600" y="541152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914400" y="592920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821320" y="592920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4728600" y="592920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B2407-153A-49DA-88BA-190A450DF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400" y="5411520"/>
            <a:ext cx="5640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5640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27522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4480" y="5411520"/>
            <a:ext cx="27522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5640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04480" y="5411520"/>
            <a:ext cx="27522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592920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914400" y="5411520"/>
            <a:ext cx="5640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3A113-673F-485D-8427-0E0517897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27522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0448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804480" y="592920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0448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5929200"/>
            <a:ext cx="5640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5640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400" y="5929200"/>
            <a:ext cx="5640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0448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592920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804480" y="592920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821320" y="541152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28600" y="541152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400" y="592920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821320" y="592920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4728600" y="5929200"/>
            <a:ext cx="1815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5640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D813-5EB7-41BD-BDD1-9F64F9CC1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27522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4480" y="5411520"/>
            <a:ext cx="27522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132F-3E24-4D7A-9158-47FDCFFD8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8B691-39FA-464E-A9B8-CFE579FD5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5640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A8F1F-ECD6-4CC3-B6D6-AC5002E9E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4480" y="5411520"/>
            <a:ext cx="27522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592920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808A9-6E94-4887-AD0E-BECD39005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27522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448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4480" y="592920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0A85-7110-427B-81D0-0A2282A78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4480" y="5411520"/>
            <a:ext cx="2752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5929200"/>
            <a:ext cx="5640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1B95-C18B-424A-AFF2-8D8B3CD8B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2960" y="0"/>
            <a:ext cx="1752480" cy="99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2160"/>
            <a:ext cx="7392960" cy="5562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76120" indent="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6120" indent="-276120">
              <a:buClr>
                <a:srgbClr val="336699"/>
              </a:buClr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76120" indent="-276120"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76120" indent="-27612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76120" indent="-276120">
              <a:buClr>
                <a:srgbClr val="002b5d"/>
              </a:buClr>
              <a:buFont typeface="Arial"/>
              <a:buChar char="»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76120" indent="-276120">
              <a:buClr>
                <a:srgbClr val="000000"/>
              </a:buClr>
              <a:buFont typeface="Arial"/>
              <a:buChar char="»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76120" indent="-276120">
              <a:buClr>
                <a:srgbClr val="000000"/>
              </a:buClr>
              <a:buFont typeface="Arial"/>
              <a:buChar char="»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2960" cy="9921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5440" cy="685944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5440" cy="685944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554880"/>
            <a:ext cx="7392960" cy="3045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4266720" y="6554880"/>
            <a:ext cx="8398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9BABF559-B9E2-48E6-B14E-047343C08F9F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173640" y="6554880"/>
            <a:ext cx="1219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36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© Siemens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5440" cy="685944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-479160" y="-276120"/>
            <a:ext cx="9728640" cy="6812640"/>
            <a:chOff x="-479160" y="-276120"/>
            <a:chExt cx="9728640" cy="6812640"/>
          </a:xfrm>
        </p:grpSpPr>
        <p:sp>
          <p:nvSpPr>
            <p:cNvPr id="10" name=""/>
            <p:cNvSpPr/>
            <p:nvPr/>
          </p:nvSpPr>
          <p:spPr>
            <a:xfrm>
              <a:off x="-124200" y="-271080"/>
              <a:ext cx="5677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2,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739680" y="-271080"/>
              <a:ext cx="299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,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959880" y="-271080"/>
              <a:ext cx="482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,4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368160" y="-271080"/>
              <a:ext cx="299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,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681760" y="-276120"/>
              <a:ext cx="5677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2,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-479160" y="1176480"/>
              <a:ext cx="482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,9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-479160" y="3631320"/>
              <a:ext cx="4824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,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,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-473040" y="6262200"/>
              <a:ext cx="482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,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35440" y="-271080"/>
              <a:ext cx="299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,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5440" cy="685944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-479160" y="-276120"/>
            <a:ext cx="9728640" cy="6812640"/>
            <a:chOff x="-479160" y="-276120"/>
            <a:chExt cx="9728640" cy="6812640"/>
          </a:xfrm>
        </p:grpSpPr>
        <p:sp>
          <p:nvSpPr>
            <p:cNvPr id="58" name=""/>
            <p:cNvSpPr/>
            <p:nvPr/>
          </p:nvSpPr>
          <p:spPr>
            <a:xfrm>
              <a:off x="-124200" y="-271080"/>
              <a:ext cx="5677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2,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39680" y="-271080"/>
              <a:ext cx="299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,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959880" y="-271080"/>
              <a:ext cx="482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,4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68160" y="-271080"/>
              <a:ext cx="299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,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681760" y="-276120"/>
              <a:ext cx="5677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2,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479160" y="1176480"/>
              <a:ext cx="482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,9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479160" y="3631320"/>
              <a:ext cx="4824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,06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,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-473040" y="6262200"/>
              <a:ext cx="482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,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35440" y="-271080"/>
              <a:ext cx="299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,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659560" y="1143000"/>
            <a:ext cx="3198600" cy="990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9145440" cy="685944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258840" algn="ctr"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3120" indent="24120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30240" indent="8604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1830240" indent="86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1830240" indent="86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ython.org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5640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ATT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5411520"/>
            <a:ext cx="5640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c test tool for AT 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lf Weiden ICM MP PD ST1 K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914400" y="5411520"/>
            <a:ext cx="5640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T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c test tool for AT 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lf Weiden ICM MP PD ST1 K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lf.weiden@klf.siemens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12720" y="1486080"/>
            <a:ext cx="3327480" cy="3309840"/>
            <a:chOff x="612720" y="1486080"/>
            <a:chExt cx="3327480" cy="3309840"/>
          </a:xfrm>
        </p:grpSpPr>
        <p:sp>
          <p:nvSpPr>
            <p:cNvPr id="468" name=""/>
            <p:cNvSpPr/>
            <p:nvPr/>
          </p:nvSpPr>
          <p:spPr>
            <a:xfrm>
              <a:off x="612720" y="1486080"/>
              <a:ext cx="3327480" cy="3309840"/>
            </a:xfrm>
            <a:prstGeom prst="ellipse">
              <a:avLst/>
            </a:prstGeom>
            <a:solidFill>
              <a:srgbClr val="ffffd5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9" name="" descr=""/>
            <p:cNvPicPr/>
            <p:nvPr/>
          </p:nvPicPr>
          <p:blipFill>
            <a:blip r:embed="rId2"/>
            <a:stretch/>
          </p:blipFill>
          <p:spPr>
            <a:xfrm>
              <a:off x="1580040" y="1940760"/>
              <a:ext cx="96120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 txBox="1"/>
            <p:nvPr/>
          </p:nvSpPr>
          <p:spPr>
            <a:xfrm rot="1275600">
              <a:off x="2671200" y="1652760"/>
              <a:ext cx="281520" cy="6433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valon"/>
                </a:rPr>
                <a:t>!</a:t>
              </a:r>
              <a:endPara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valon"/>
                <a:ea typeface="Avalo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2960" cy="9921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TT2.0 Ov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92160"/>
            <a:ext cx="7392960" cy="5562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7612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ments &amp; featur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66760"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with up to 6 connected mob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266760"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s connected via serial devices (“COM ports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266760"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‘receive-ready’ on all used ports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66760"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ripting with script language PYTHON (</a:t>
            </a:r>
            <a:r>
              <a:rPr b="0" lang="de-DE" sz="2000" spc="-1" strike="noStrike" u="sng">
                <a:solidFill>
                  <a:srgbClr val="ff8200"/>
                </a:solidFill>
                <a:uFillTx/>
                <a:latin typeface="Arial"/>
                <a:hlinkClick r:id="rId2"/>
              </a:rPr>
              <a:t>www.python.or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266760"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, yet easy to learn &amp;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266760"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known from M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66760"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commands directly usable in scripts without modifications -&gt; Precompiler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66760"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results summarized in HTML out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66760"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ly upgradeable, e.g. support more than serial devices (TCP/IP, IrDa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028880"/>
            <a:ext cx="7392960" cy="55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TT2.0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B2498-5B9F-436F-8121-F9C925ACF9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2960" cy="9921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TT2.0 Co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013440" y="911160"/>
          <a:ext cx="51120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3440" y="911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81080" y="1773360"/>
            <a:ext cx="1439640" cy="996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028880"/>
            <a:ext cx="7392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1160" y="249408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73080" y="2565360"/>
            <a:ext cx="1123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01880" y="249084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54440" y="2459160"/>
            <a:ext cx="1214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ython Interpret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251784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2494080"/>
            <a:ext cx="112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S232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300720" y="1127160"/>
          <a:ext cx="51120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1127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516720" y="1343160"/>
          <a:ext cx="5112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1343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rot="18505200">
            <a:off x="5810760" y="19756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8995400">
            <a:off x="5956200" y="2118960"/>
            <a:ext cx="412920" cy="154080"/>
          </a:xfrm>
          <a:prstGeom prst="leftRightArrow">
            <a:avLst>
              <a:gd name="adj1" fmla="val 50000"/>
              <a:gd name="adj2" fmla="val 5335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0067600">
            <a:off x="6156360" y="22780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633920" y="4950000"/>
            <a:ext cx="1322280" cy="711000"/>
            <a:chOff x="4633920" y="4950000"/>
            <a:chExt cx="1322280" cy="711000"/>
          </a:xfrm>
        </p:grpSpPr>
        <p:sp>
          <p:nvSpPr>
            <p:cNvPr id="130" name=""/>
            <p:cNvSpPr/>
            <p:nvPr/>
          </p:nvSpPr>
          <p:spPr>
            <a:xfrm>
              <a:off x="4832280" y="4950000"/>
              <a:ext cx="1123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S232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33920" y="5011560"/>
              <a:ext cx="1238400" cy="55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16360" y="5013360"/>
              <a:ext cx="1123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‘s 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TT2.0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69C20-8B5B-4477-B4D1-5708495840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013440" y="911160"/>
          <a:ext cx="51120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3440" y="911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81080" y="1773360"/>
            <a:ext cx="1439640" cy="996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2960" cy="9921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TT2.0 Co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028880"/>
            <a:ext cx="7392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160" y="249408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3080" y="2565360"/>
            <a:ext cx="1123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1880" y="249084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54440" y="2459160"/>
            <a:ext cx="1214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ython Interpret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251784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2494080"/>
            <a:ext cx="112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S232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300720" y="1127160"/>
          <a:ext cx="51120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1127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516720" y="1343160"/>
          <a:ext cx="5112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1343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 rot="18505200">
            <a:off x="5810760" y="19756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8995400">
            <a:off x="5956200" y="2118960"/>
            <a:ext cx="412920" cy="154080"/>
          </a:xfrm>
          <a:prstGeom prst="leftRightArrow">
            <a:avLst>
              <a:gd name="adj1" fmla="val 50000"/>
              <a:gd name="adj2" fmla="val 5335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0067600">
            <a:off x="6156360" y="22780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997360"/>
            <a:ext cx="3673800" cy="588960"/>
          </a:xfrm>
          <a:custGeom>
            <a:avLst/>
            <a:gdLst/>
            <a:ahLst/>
            <a:rect l="l" t="t" r="r" b="b"/>
            <a:pathLst>
              <a:path w="2314" h="371">
                <a:moveTo>
                  <a:pt x="0" y="46"/>
                </a:moveTo>
                <a:cubicBezTo>
                  <a:pt x="83" y="159"/>
                  <a:pt x="166" y="273"/>
                  <a:pt x="499" y="318"/>
                </a:cubicBezTo>
                <a:cubicBezTo>
                  <a:pt x="832" y="363"/>
                  <a:pt x="1694" y="371"/>
                  <a:pt x="1996" y="318"/>
                </a:cubicBezTo>
                <a:cubicBezTo>
                  <a:pt x="2298" y="265"/>
                  <a:pt x="2261" y="53"/>
                  <a:pt x="2314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60360" y="3070080"/>
            <a:ext cx="2448000" cy="828720"/>
          </a:xfrm>
          <a:custGeom>
            <a:avLst/>
            <a:gdLst/>
            <a:ahLst/>
            <a:rect l="l" t="t" r="r" b="b"/>
            <a:pathLst>
              <a:path w="1542" h="522">
                <a:moveTo>
                  <a:pt x="0" y="0"/>
                </a:moveTo>
                <a:cubicBezTo>
                  <a:pt x="129" y="238"/>
                  <a:pt x="258" y="476"/>
                  <a:pt x="454" y="499"/>
                </a:cubicBezTo>
                <a:cubicBezTo>
                  <a:pt x="650" y="522"/>
                  <a:pt x="1013" y="212"/>
                  <a:pt x="1179" y="136"/>
                </a:cubicBezTo>
                <a:cubicBezTo>
                  <a:pt x="1345" y="60"/>
                  <a:pt x="1390" y="68"/>
                  <a:pt x="1451" y="45"/>
                </a:cubicBezTo>
                <a:cubicBezTo>
                  <a:pt x="1512" y="22"/>
                  <a:pt x="1527" y="11"/>
                  <a:pt x="154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40360" y="2552760"/>
            <a:ext cx="576000" cy="156960"/>
          </a:xfrm>
          <a:custGeom>
            <a:avLst/>
            <a:gdLst/>
            <a:ahLst/>
            <a:rect l="l" t="t" r="r" b="b"/>
            <a:pathLst>
              <a:path w="363" h="99">
                <a:moveTo>
                  <a:pt x="0" y="99"/>
                </a:moveTo>
                <a:cubicBezTo>
                  <a:pt x="38" y="57"/>
                  <a:pt x="76" y="16"/>
                  <a:pt x="136" y="8"/>
                </a:cubicBezTo>
                <a:cubicBezTo>
                  <a:pt x="196" y="0"/>
                  <a:pt x="279" y="27"/>
                  <a:pt x="363" y="5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7440" y="2997360"/>
            <a:ext cx="792000" cy="228600"/>
          </a:xfrm>
          <a:custGeom>
            <a:avLst/>
            <a:gdLst/>
            <a:ahLst/>
            <a:rect l="l" t="t" r="r" b="b"/>
            <a:pathLst>
              <a:path w="499" h="144">
                <a:moveTo>
                  <a:pt x="499" y="0"/>
                </a:moveTo>
                <a:cubicBezTo>
                  <a:pt x="449" y="64"/>
                  <a:pt x="400" y="128"/>
                  <a:pt x="317" y="136"/>
                </a:cubicBezTo>
                <a:cubicBezTo>
                  <a:pt x="234" y="144"/>
                  <a:pt x="117" y="95"/>
                  <a:pt x="0" y="4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68360" y="2062080"/>
            <a:ext cx="2880000" cy="503280"/>
          </a:xfrm>
          <a:custGeom>
            <a:avLst/>
            <a:gdLst/>
            <a:ahLst/>
            <a:rect l="l" t="t" r="r" b="b"/>
            <a:pathLst>
              <a:path w="1814" h="317">
                <a:moveTo>
                  <a:pt x="1814" y="226"/>
                </a:moveTo>
                <a:cubicBezTo>
                  <a:pt x="1689" y="150"/>
                  <a:pt x="1565" y="75"/>
                  <a:pt x="1361" y="45"/>
                </a:cubicBezTo>
                <a:cubicBezTo>
                  <a:pt x="1157" y="15"/>
                  <a:pt x="817" y="0"/>
                  <a:pt x="590" y="45"/>
                </a:cubicBezTo>
                <a:cubicBezTo>
                  <a:pt x="363" y="90"/>
                  <a:pt x="98" y="272"/>
                  <a:pt x="0" y="31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633920" y="4950000"/>
            <a:ext cx="1322280" cy="711000"/>
            <a:chOff x="4633920" y="4950000"/>
            <a:chExt cx="1322280" cy="711000"/>
          </a:xfrm>
        </p:grpSpPr>
        <p:sp>
          <p:nvSpPr>
            <p:cNvPr id="157" name=""/>
            <p:cNvSpPr/>
            <p:nvPr/>
          </p:nvSpPr>
          <p:spPr>
            <a:xfrm>
              <a:off x="4832280" y="4950000"/>
              <a:ext cx="1123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S232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33920" y="5011560"/>
              <a:ext cx="1238400" cy="55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6360" y="5013360"/>
              <a:ext cx="1123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‘s 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052720" y="3070080"/>
            <a:ext cx="2592360" cy="2254320"/>
          </a:xfrm>
          <a:custGeom>
            <a:avLst/>
            <a:gdLst/>
            <a:ahLst/>
            <a:rect l="l" t="t" r="r" b="b"/>
            <a:pathLst>
              <a:path w="1633" h="1420">
                <a:moveTo>
                  <a:pt x="1633" y="1406"/>
                </a:moveTo>
                <a:cubicBezTo>
                  <a:pt x="1474" y="1413"/>
                  <a:pt x="1315" y="1420"/>
                  <a:pt x="1134" y="1360"/>
                </a:cubicBezTo>
                <a:cubicBezTo>
                  <a:pt x="953" y="1300"/>
                  <a:pt x="733" y="1270"/>
                  <a:pt x="544" y="1043"/>
                </a:cubicBezTo>
                <a:cubicBezTo>
                  <a:pt x="355" y="816"/>
                  <a:pt x="177" y="408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997360"/>
            <a:ext cx="1584360" cy="1944360"/>
          </a:xfrm>
          <a:custGeom>
            <a:avLst/>
            <a:gdLst/>
            <a:ahLst/>
            <a:rect l="l" t="t" r="r" b="b"/>
            <a:pathLst>
              <a:path w="998" h="1225">
                <a:moveTo>
                  <a:pt x="998" y="1225"/>
                </a:moveTo>
                <a:cubicBezTo>
                  <a:pt x="763" y="1145"/>
                  <a:pt x="529" y="1066"/>
                  <a:pt x="363" y="862"/>
                </a:cubicBezTo>
                <a:cubicBezTo>
                  <a:pt x="197" y="658"/>
                  <a:pt x="98" y="329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97080" y="2925720"/>
            <a:ext cx="647640" cy="157320"/>
          </a:xfrm>
          <a:custGeom>
            <a:avLst/>
            <a:gdLst/>
            <a:ahLst/>
            <a:rect l="l" t="t" r="r" b="b"/>
            <a:pathLst>
              <a:path w="408" h="99">
                <a:moveTo>
                  <a:pt x="408" y="0"/>
                </a:moveTo>
                <a:cubicBezTo>
                  <a:pt x="374" y="41"/>
                  <a:pt x="340" y="83"/>
                  <a:pt x="272" y="91"/>
                </a:cubicBezTo>
                <a:cubicBezTo>
                  <a:pt x="204" y="99"/>
                  <a:pt x="102" y="72"/>
                  <a:pt x="0" y="4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81800" y="3070080"/>
            <a:ext cx="226800" cy="1800360"/>
          </a:xfrm>
          <a:custGeom>
            <a:avLst/>
            <a:gdLst/>
            <a:ahLst/>
            <a:rect l="l" t="t" r="r" b="b"/>
            <a:pathLst>
              <a:path w="143" h="1134">
                <a:moveTo>
                  <a:pt x="0" y="1134"/>
                </a:moveTo>
                <a:cubicBezTo>
                  <a:pt x="64" y="1069"/>
                  <a:pt x="129" y="1005"/>
                  <a:pt x="136" y="816"/>
                </a:cubicBezTo>
                <a:cubicBezTo>
                  <a:pt x="143" y="627"/>
                  <a:pt x="94" y="313"/>
                  <a:pt x="4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997360"/>
            <a:ext cx="432000" cy="1873080"/>
          </a:xfrm>
          <a:custGeom>
            <a:avLst/>
            <a:gdLst/>
            <a:ahLst/>
            <a:rect l="l" t="t" r="r" b="b"/>
            <a:pathLst>
              <a:path w="272" h="1180">
                <a:moveTo>
                  <a:pt x="272" y="0"/>
                </a:moveTo>
                <a:cubicBezTo>
                  <a:pt x="181" y="310"/>
                  <a:pt x="90" y="620"/>
                  <a:pt x="45" y="817"/>
                </a:cubicBezTo>
                <a:cubicBezTo>
                  <a:pt x="0" y="1014"/>
                  <a:pt x="0" y="1097"/>
                  <a:pt x="0" y="118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3070080"/>
            <a:ext cx="3529080" cy="2016360"/>
          </a:xfrm>
          <a:custGeom>
            <a:avLst/>
            <a:gdLst/>
            <a:ahLst/>
            <a:rect l="l" t="t" r="r" b="b"/>
            <a:pathLst>
              <a:path w="2223" h="1270">
                <a:moveTo>
                  <a:pt x="2223" y="1270"/>
                </a:moveTo>
                <a:cubicBezTo>
                  <a:pt x="2022" y="1209"/>
                  <a:pt x="1822" y="1148"/>
                  <a:pt x="1542" y="1088"/>
                </a:cubicBezTo>
                <a:cubicBezTo>
                  <a:pt x="1262" y="1028"/>
                  <a:pt x="787" y="1005"/>
                  <a:pt x="545" y="907"/>
                </a:cubicBezTo>
                <a:cubicBezTo>
                  <a:pt x="303" y="809"/>
                  <a:pt x="182" y="650"/>
                  <a:pt x="91" y="499"/>
                </a:cubicBezTo>
                <a:cubicBezTo>
                  <a:pt x="0" y="348"/>
                  <a:pt x="0" y="174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" y="1270080"/>
            <a:ext cx="25311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st case integration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TT2.0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D492F-F9F8-4F00-A7EA-179B61404D8B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6013440" y="911160"/>
          <a:ext cx="51120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3440" y="911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81080" y="1773360"/>
            <a:ext cx="1439640" cy="996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2960" cy="9921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TT2.0 Co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028880"/>
            <a:ext cx="7392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1160" y="249408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73080" y="2565360"/>
            <a:ext cx="1123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01880" y="249084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54440" y="2459160"/>
            <a:ext cx="1214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ython Interpret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251784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16360" y="2494080"/>
            <a:ext cx="112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S232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300720" y="1127160"/>
          <a:ext cx="51120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1127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516720" y="1343160"/>
          <a:ext cx="5112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1343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 rot="18505200">
            <a:off x="5810760" y="19756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8995400">
            <a:off x="5956200" y="2118960"/>
            <a:ext cx="412920" cy="154080"/>
          </a:xfrm>
          <a:prstGeom prst="leftRightArrow">
            <a:avLst>
              <a:gd name="adj1" fmla="val 50000"/>
              <a:gd name="adj2" fmla="val 5335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20067600">
            <a:off x="6156360" y="22780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47640" y="2997360"/>
            <a:ext cx="3673800" cy="588960"/>
          </a:xfrm>
          <a:custGeom>
            <a:avLst/>
            <a:gdLst/>
            <a:ahLst/>
            <a:rect l="l" t="t" r="r" b="b"/>
            <a:pathLst>
              <a:path w="2314" h="371">
                <a:moveTo>
                  <a:pt x="0" y="46"/>
                </a:moveTo>
                <a:cubicBezTo>
                  <a:pt x="83" y="159"/>
                  <a:pt x="166" y="273"/>
                  <a:pt x="499" y="318"/>
                </a:cubicBezTo>
                <a:cubicBezTo>
                  <a:pt x="832" y="363"/>
                  <a:pt x="1694" y="371"/>
                  <a:pt x="1996" y="318"/>
                </a:cubicBezTo>
                <a:cubicBezTo>
                  <a:pt x="2298" y="265"/>
                  <a:pt x="2261" y="53"/>
                  <a:pt x="2314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60360" y="3070080"/>
            <a:ext cx="2448000" cy="828720"/>
          </a:xfrm>
          <a:custGeom>
            <a:avLst/>
            <a:gdLst/>
            <a:ahLst/>
            <a:rect l="l" t="t" r="r" b="b"/>
            <a:pathLst>
              <a:path w="1542" h="522">
                <a:moveTo>
                  <a:pt x="0" y="0"/>
                </a:moveTo>
                <a:cubicBezTo>
                  <a:pt x="129" y="238"/>
                  <a:pt x="258" y="476"/>
                  <a:pt x="454" y="499"/>
                </a:cubicBezTo>
                <a:cubicBezTo>
                  <a:pt x="650" y="522"/>
                  <a:pt x="1013" y="212"/>
                  <a:pt x="1179" y="136"/>
                </a:cubicBezTo>
                <a:cubicBezTo>
                  <a:pt x="1345" y="60"/>
                  <a:pt x="1390" y="68"/>
                  <a:pt x="1451" y="45"/>
                </a:cubicBezTo>
                <a:cubicBezTo>
                  <a:pt x="1512" y="22"/>
                  <a:pt x="1527" y="11"/>
                  <a:pt x="154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40360" y="2552760"/>
            <a:ext cx="576000" cy="156960"/>
          </a:xfrm>
          <a:custGeom>
            <a:avLst/>
            <a:gdLst/>
            <a:ahLst/>
            <a:rect l="l" t="t" r="r" b="b"/>
            <a:pathLst>
              <a:path w="363" h="99">
                <a:moveTo>
                  <a:pt x="0" y="99"/>
                </a:moveTo>
                <a:cubicBezTo>
                  <a:pt x="38" y="57"/>
                  <a:pt x="76" y="16"/>
                  <a:pt x="136" y="8"/>
                </a:cubicBezTo>
                <a:cubicBezTo>
                  <a:pt x="196" y="0"/>
                  <a:pt x="279" y="27"/>
                  <a:pt x="363" y="5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97440" y="2997360"/>
            <a:ext cx="792000" cy="228600"/>
          </a:xfrm>
          <a:custGeom>
            <a:avLst/>
            <a:gdLst/>
            <a:ahLst/>
            <a:rect l="l" t="t" r="r" b="b"/>
            <a:pathLst>
              <a:path w="499" h="144">
                <a:moveTo>
                  <a:pt x="499" y="0"/>
                </a:moveTo>
                <a:cubicBezTo>
                  <a:pt x="449" y="64"/>
                  <a:pt x="400" y="128"/>
                  <a:pt x="317" y="136"/>
                </a:cubicBezTo>
                <a:cubicBezTo>
                  <a:pt x="234" y="144"/>
                  <a:pt x="117" y="95"/>
                  <a:pt x="0" y="4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68360" y="2062080"/>
            <a:ext cx="2880000" cy="503280"/>
          </a:xfrm>
          <a:custGeom>
            <a:avLst/>
            <a:gdLst/>
            <a:ahLst/>
            <a:rect l="l" t="t" r="r" b="b"/>
            <a:pathLst>
              <a:path w="1814" h="317">
                <a:moveTo>
                  <a:pt x="1814" y="226"/>
                </a:moveTo>
                <a:cubicBezTo>
                  <a:pt x="1689" y="150"/>
                  <a:pt x="1565" y="75"/>
                  <a:pt x="1361" y="45"/>
                </a:cubicBezTo>
                <a:cubicBezTo>
                  <a:pt x="1157" y="15"/>
                  <a:pt x="817" y="0"/>
                  <a:pt x="590" y="45"/>
                </a:cubicBezTo>
                <a:cubicBezTo>
                  <a:pt x="363" y="90"/>
                  <a:pt x="98" y="272"/>
                  <a:pt x="0" y="31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633920" y="4950000"/>
            <a:ext cx="1322280" cy="711000"/>
            <a:chOff x="4633920" y="4950000"/>
            <a:chExt cx="1322280" cy="711000"/>
          </a:xfrm>
        </p:grpSpPr>
        <p:sp>
          <p:nvSpPr>
            <p:cNvPr id="191" name=""/>
            <p:cNvSpPr/>
            <p:nvPr/>
          </p:nvSpPr>
          <p:spPr>
            <a:xfrm>
              <a:off x="4832280" y="4950000"/>
              <a:ext cx="1123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S232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33920" y="5011560"/>
              <a:ext cx="1238400" cy="55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16360" y="5013360"/>
              <a:ext cx="1123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‘s 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052720" y="3070080"/>
            <a:ext cx="2592360" cy="2254320"/>
          </a:xfrm>
          <a:custGeom>
            <a:avLst/>
            <a:gdLst/>
            <a:ahLst/>
            <a:rect l="l" t="t" r="r" b="b"/>
            <a:pathLst>
              <a:path w="1633" h="1420">
                <a:moveTo>
                  <a:pt x="1633" y="1406"/>
                </a:moveTo>
                <a:cubicBezTo>
                  <a:pt x="1474" y="1413"/>
                  <a:pt x="1315" y="1420"/>
                  <a:pt x="1134" y="1360"/>
                </a:cubicBezTo>
                <a:cubicBezTo>
                  <a:pt x="953" y="1300"/>
                  <a:pt x="733" y="1270"/>
                  <a:pt x="544" y="1043"/>
                </a:cubicBezTo>
                <a:cubicBezTo>
                  <a:pt x="355" y="816"/>
                  <a:pt x="177" y="408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2997360"/>
            <a:ext cx="1584360" cy="1944360"/>
          </a:xfrm>
          <a:custGeom>
            <a:avLst/>
            <a:gdLst/>
            <a:ahLst/>
            <a:rect l="l" t="t" r="r" b="b"/>
            <a:pathLst>
              <a:path w="998" h="1225">
                <a:moveTo>
                  <a:pt x="998" y="1225"/>
                </a:moveTo>
                <a:cubicBezTo>
                  <a:pt x="763" y="1145"/>
                  <a:pt x="529" y="1066"/>
                  <a:pt x="363" y="862"/>
                </a:cubicBezTo>
                <a:cubicBezTo>
                  <a:pt x="197" y="658"/>
                  <a:pt x="98" y="329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97080" y="2925720"/>
            <a:ext cx="647640" cy="157320"/>
          </a:xfrm>
          <a:custGeom>
            <a:avLst/>
            <a:gdLst/>
            <a:ahLst/>
            <a:rect l="l" t="t" r="r" b="b"/>
            <a:pathLst>
              <a:path w="408" h="99">
                <a:moveTo>
                  <a:pt x="408" y="0"/>
                </a:moveTo>
                <a:cubicBezTo>
                  <a:pt x="374" y="41"/>
                  <a:pt x="340" y="83"/>
                  <a:pt x="272" y="91"/>
                </a:cubicBezTo>
                <a:cubicBezTo>
                  <a:pt x="204" y="99"/>
                  <a:pt x="102" y="72"/>
                  <a:pt x="0" y="4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81800" y="3070080"/>
            <a:ext cx="226800" cy="1800360"/>
          </a:xfrm>
          <a:custGeom>
            <a:avLst/>
            <a:gdLst/>
            <a:ahLst/>
            <a:rect l="l" t="t" r="r" b="b"/>
            <a:pathLst>
              <a:path w="143" h="1134">
                <a:moveTo>
                  <a:pt x="0" y="1134"/>
                </a:moveTo>
                <a:cubicBezTo>
                  <a:pt x="64" y="1069"/>
                  <a:pt x="129" y="1005"/>
                  <a:pt x="136" y="816"/>
                </a:cubicBezTo>
                <a:cubicBezTo>
                  <a:pt x="143" y="627"/>
                  <a:pt x="94" y="313"/>
                  <a:pt x="4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76720" y="2997360"/>
            <a:ext cx="432000" cy="1873080"/>
          </a:xfrm>
          <a:custGeom>
            <a:avLst/>
            <a:gdLst/>
            <a:ahLst/>
            <a:rect l="l" t="t" r="r" b="b"/>
            <a:pathLst>
              <a:path w="272" h="1180">
                <a:moveTo>
                  <a:pt x="272" y="0"/>
                </a:moveTo>
                <a:cubicBezTo>
                  <a:pt x="181" y="310"/>
                  <a:pt x="90" y="620"/>
                  <a:pt x="45" y="817"/>
                </a:cubicBezTo>
                <a:cubicBezTo>
                  <a:pt x="0" y="1014"/>
                  <a:pt x="0" y="1097"/>
                  <a:pt x="0" y="118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3070080"/>
            <a:ext cx="3529080" cy="2016360"/>
          </a:xfrm>
          <a:custGeom>
            <a:avLst/>
            <a:gdLst/>
            <a:ahLst/>
            <a:rect l="l" t="t" r="r" b="b"/>
            <a:pathLst>
              <a:path w="2223" h="1270">
                <a:moveTo>
                  <a:pt x="2223" y="1270"/>
                </a:moveTo>
                <a:cubicBezTo>
                  <a:pt x="2022" y="1209"/>
                  <a:pt x="1822" y="1148"/>
                  <a:pt x="1542" y="1088"/>
                </a:cubicBezTo>
                <a:cubicBezTo>
                  <a:pt x="1262" y="1028"/>
                  <a:pt x="787" y="1005"/>
                  <a:pt x="545" y="907"/>
                </a:cubicBezTo>
                <a:cubicBezTo>
                  <a:pt x="303" y="809"/>
                  <a:pt x="182" y="650"/>
                  <a:pt x="91" y="499"/>
                </a:cubicBezTo>
                <a:cubicBezTo>
                  <a:pt x="0" y="348"/>
                  <a:pt x="0" y="174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1600" y="1270080"/>
            <a:ext cx="25311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st case integration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3646440"/>
            <a:ext cx="5905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66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lvl="1" marL="7430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learly defined component b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o “internal” functions from out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tandardized interfa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change-resist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one component affect all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mponent encaps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TT2.0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8149-19A9-4FDA-B399-F3DC412CE36A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2960" cy="9921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: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dular Application toolbo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013440" y="911160"/>
          <a:ext cx="51120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3440" y="911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81080" y="1773360"/>
            <a:ext cx="1439640" cy="996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028880"/>
            <a:ext cx="7392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1160" y="249408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3080" y="2565360"/>
            <a:ext cx="1123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01880" y="249084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54440" y="2459160"/>
            <a:ext cx="1214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ython Interpret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16360" y="249408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2494080"/>
            <a:ext cx="112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S232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300720" y="1127160"/>
          <a:ext cx="51120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1127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516720" y="1343160"/>
          <a:ext cx="5112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1343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 rot="18505200">
            <a:off x="5810760" y="19756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8995400">
            <a:off x="5956200" y="2118960"/>
            <a:ext cx="412920" cy="154080"/>
          </a:xfrm>
          <a:prstGeom prst="leftRightArrow">
            <a:avLst>
              <a:gd name="adj1" fmla="val 50000"/>
              <a:gd name="adj2" fmla="val 5335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20067600">
            <a:off x="6156360" y="22780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633920" y="4950000"/>
            <a:ext cx="1322280" cy="711000"/>
            <a:chOff x="4633920" y="4950000"/>
            <a:chExt cx="1322280" cy="711000"/>
          </a:xfrm>
        </p:grpSpPr>
        <p:sp>
          <p:nvSpPr>
            <p:cNvPr id="221" name=""/>
            <p:cNvSpPr/>
            <p:nvPr/>
          </p:nvSpPr>
          <p:spPr>
            <a:xfrm>
              <a:off x="4832280" y="4950000"/>
              <a:ext cx="1123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S232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33920" y="5011560"/>
              <a:ext cx="1238400" cy="55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16360" y="5013360"/>
              <a:ext cx="1123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‘s 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828720" y="2930040"/>
            <a:ext cx="5784840" cy="1997280"/>
            <a:chOff x="828720" y="2930040"/>
            <a:chExt cx="5784840" cy="1997280"/>
          </a:xfrm>
        </p:grpSpPr>
        <p:sp>
          <p:nvSpPr>
            <p:cNvPr id="225" name=""/>
            <p:cNvSpPr/>
            <p:nvPr/>
          </p:nvSpPr>
          <p:spPr>
            <a:xfrm>
              <a:off x="828720" y="3141720"/>
              <a:ext cx="5305320" cy="1600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411200" y="4506840"/>
              <a:ext cx="4076280" cy="238320"/>
              <a:chOff x="1411200" y="4506840"/>
              <a:chExt cx="4076280" cy="238320"/>
            </a:xfrm>
          </p:grpSpPr>
          <p:sp>
            <p:nvSpPr>
              <p:cNvPr id="227" name=""/>
              <p:cNvSpPr/>
              <p:nvPr/>
            </p:nvSpPr>
            <p:spPr>
              <a:xfrm>
                <a:off x="1411200" y="450684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306600" y="450684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202000" y="450684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1763640" y="3141720"/>
              <a:ext cx="18194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MAX Core  Frame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390680" y="4503600"/>
              <a:ext cx="4076280" cy="238320"/>
              <a:chOff x="1390680" y="4503600"/>
              <a:chExt cx="4076280" cy="238320"/>
            </a:xfrm>
          </p:grpSpPr>
          <p:sp>
            <p:nvSpPr>
              <p:cNvPr id="232" name=""/>
              <p:cNvSpPr/>
              <p:nvPr/>
            </p:nvSpPr>
            <p:spPr>
              <a:xfrm>
                <a:off x="1390680" y="450360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286080" y="450360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181480" y="450360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396440" y="3020400"/>
              <a:ext cx="4144680" cy="377640"/>
              <a:chOff x="1396440" y="3020400"/>
              <a:chExt cx="4144680" cy="37764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410120" y="3031200"/>
                <a:ext cx="4131000" cy="366840"/>
                <a:chOff x="1410120" y="3031200"/>
                <a:chExt cx="4131000" cy="366840"/>
              </a:xfrm>
            </p:grpSpPr>
            <p:sp>
              <p:nvSpPr>
                <p:cNvPr id="237" name=""/>
                <p:cNvSpPr/>
                <p:nvPr/>
              </p:nvSpPr>
              <p:spPr>
                <a:xfrm rot="3591600">
                  <a:off x="1441800" y="30956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3591600">
                  <a:off x="3327840" y="30956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3591600">
                  <a:off x="5223240" y="30956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396440" y="3020400"/>
                <a:ext cx="4131000" cy="366840"/>
                <a:chOff x="1396440" y="3020400"/>
                <a:chExt cx="4131000" cy="366840"/>
              </a:xfrm>
            </p:grpSpPr>
            <p:sp>
              <p:nvSpPr>
                <p:cNvPr id="241" name=""/>
                <p:cNvSpPr/>
                <p:nvPr/>
              </p:nvSpPr>
              <p:spPr>
                <a:xfrm rot="3591600">
                  <a:off x="1428120" y="30848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3591600">
                  <a:off x="3314160" y="30848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3591600">
                  <a:off x="5209560" y="30848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" name=""/>
            <p:cNvSpPr/>
            <p:nvPr/>
          </p:nvSpPr>
          <p:spPr>
            <a:xfrm rot="5400000">
              <a:off x="3290760" y="1641240"/>
              <a:ext cx="438120" cy="4619520"/>
            </a:xfrm>
            <a:prstGeom prst="can">
              <a:avLst>
                <a:gd name="adj" fmla="val 563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89080" y="3789360"/>
              <a:ext cx="5424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ternal publish/subscribe messaging mechanis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51600">
              <a:off x="1374480" y="4221000"/>
              <a:ext cx="328680" cy="147600"/>
            </a:xfrm>
            <a:prstGeom prst="leftRightArrow">
              <a:avLst>
                <a:gd name="adj1" fmla="val 50000"/>
                <a:gd name="adj2" fmla="val 4433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51600">
              <a:off x="3276360" y="4225680"/>
              <a:ext cx="328680" cy="147600"/>
            </a:xfrm>
            <a:prstGeom prst="leftRightArrow">
              <a:avLst>
                <a:gd name="adj1" fmla="val 50000"/>
                <a:gd name="adj2" fmla="val 4433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5451600">
              <a:off x="1374480" y="3516120"/>
              <a:ext cx="328680" cy="147600"/>
            </a:xfrm>
            <a:prstGeom prst="leftRightArrow">
              <a:avLst>
                <a:gd name="adj1" fmla="val 50000"/>
                <a:gd name="adj2" fmla="val 4433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451600">
              <a:off x="3276360" y="3520800"/>
              <a:ext cx="328680" cy="147600"/>
            </a:xfrm>
            <a:prstGeom prst="leftRightArrow">
              <a:avLst>
                <a:gd name="adj1" fmla="val 50000"/>
                <a:gd name="adj2" fmla="val 4433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51600">
              <a:off x="5165640" y="3511440"/>
              <a:ext cx="328680" cy="147600"/>
            </a:xfrm>
            <a:prstGeom prst="leftRightArrow">
              <a:avLst>
                <a:gd name="adj1" fmla="val 50000"/>
                <a:gd name="adj2" fmla="val 4433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37080" y="4438800"/>
              <a:ext cx="11257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13080" y="4294080"/>
              <a:ext cx="1220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ess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186520" y="4668840"/>
              <a:ext cx="295200" cy="256680"/>
              <a:chOff x="5186520" y="4668840"/>
              <a:chExt cx="295200" cy="256680"/>
            </a:xfrm>
          </p:grpSpPr>
          <p:sp>
            <p:nvSpPr>
              <p:cNvPr id="254" name=""/>
              <p:cNvSpPr/>
              <p:nvPr/>
            </p:nvSpPr>
            <p:spPr>
              <a:xfrm>
                <a:off x="5195880" y="4668840"/>
                <a:ext cx="28584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86520" y="4687560"/>
                <a:ext cx="28584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380600" y="2933280"/>
              <a:ext cx="372600" cy="369360"/>
              <a:chOff x="1380600" y="2933280"/>
              <a:chExt cx="372600" cy="369360"/>
            </a:xfrm>
          </p:grpSpPr>
          <p:sp>
            <p:nvSpPr>
              <p:cNvPr id="257" name=""/>
              <p:cNvSpPr/>
              <p:nvPr/>
            </p:nvSpPr>
            <p:spPr>
              <a:xfrm rot="3529200">
                <a:off x="1434240" y="2998080"/>
                <a:ext cx="285840" cy="238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3529200">
                <a:off x="1413360" y="2999520"/>
                <a:ext cx="285840" cy="23832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273120" y="2930040"/>
              <a:ext cx="372600" cy="369360"/>
              <a:chOff x="3273120" y="2930040"/>
              <a:chExt cx="372600" cy="369360"/>
            </a:xfrm>
          </p:grpSpPr>
          <p:sp>
            <p:nvSpPr>
              <p:cNvPr id="260" name=""/>
              <p:cNvSpPr/>
              <p:nvPr/>
            </p:nvSpPr>
            <p:spPr>
              <a:xfrm rot="3529200">
                <a:off x="3326760" y="2994840"/>
                <a:ext cx="28584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3529200">
                <a:off x="3305880" y="2996280"/>
                <a:ext cx="28584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164200" y="2931120"/>
              <a:ext cx="371880" cy="368280"/>
              <a:chOff x="5164200" y="2931120"/>
              <a:chExt cx="371880" cy="368280"/>
            </a:xfrm>
          </p:grpSpPr>
          <p:sp>
            <p:nvSpPr>
              <p:cNvPr id="263" name=""/>
              <p:cNvSpPr/>
              <p:nvPr/>
            </p:nvSpPr>
            <p:spPr>
              <a:xfrm rot="3529200">
                <a:off x="5218200" y="2995200"/>
                <a:ext cx="2844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529200">
                <a:off x="5197320" y="2997000"/>
                <a:ext cx="2844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105520" y="4141440"/>
              <a:ext cx="428400" cy="785880"/>
              <a:chOff x="5105520" y="4141440"/>
              <a:chExt cx="428400" cy="785880"/>
            </a:xfrm>
          </p:grpSpPr>
          <p:sp>
            <p:nvSpPr>
              <p:cNvPr id="266" name=""/>
              <p:cNvSpPr/>
              <p:nvPr/>
            </p:nvSpPr>
            <p:spPr>
              <a:xfrm rot="10800000">
                <a:off x="5105520" y="4141440"/>
                <a:ext cx="275040" cy="574560"/>
              </a:xfrm>
              <a:prstGeom prst="downArrow">
                <a:avLst>
                  <a:gd name="adj1" fmla="val 50000"/>
                  <a:gd name="adj2" fmla="val 5222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258880" y="4352760"/>
                <a:ext cx="275040" cy="574560"/>
              </a:xfrm>
              <a:prstGeom prst="downArrow">
                <a:avLst>
                  <a:gd name="adj1" fmla="val 50000"/>
                  <a:gd name="adj2" fmla="val 5222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TT2.0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48E02-BC95-46A6-AAE3-CC6EEFCBF9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2960" cy="9921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6013440" y="911160"/>
          <a:ext cx="51120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3440" y="911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181080" y="1773360"/>
            <a:ext cx="1439640" cy="9968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1028880"/>
            <a:ext cx="7392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11160" y="249408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73080" y="2565360"/>
            <a:ext cx="1123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01880" y="249084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54440" y="2459160"/>
            <a:ext cx="1214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ython Interpret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16360" y="249408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16360" y="2494080"/>
            <a:ext cx="112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S232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300720" y="1127160"/>
          <a:ext cx="51120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1127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6516720" y="1343160"/>
          <a:ext cx="5112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1343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 rot="18505200">
            <a:off x="5810760" y="19756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8995400">
            <a:off x="5956200" y="2118960"/>
            <a:ext cx="412920" cy="154080"/>
          </a:xfrm>
          <a:prstGeom prst="leftRightArrow">
            <a:avLst>
              <a:gd name="adj1" fmla="val 50000"/>
              <a:gd name="adj2" fmla="val 5335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20067600">
            <a:off x="6156360" y="22780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633920" y="4950000"/>
            <a:ext cx="1322280" cy="711000"/>
            <a:chOff x="4633920" y="4950000"/>
            <a:chExt cx="1322280" cy="711000"/>
          </a:xfrm>
        </p:grpSpPr>
        <p:sp>
          <p:nvSpPr>
            <p:cNvPr id="287" name=""/>
            <p:cNvSpPr/>
            <p:nvPr/>
          </p:nvSpPr>
          <p:spPr>
            <a:xfrm>
              <a:off x="4832280" y="4950000"/>
              <a:ext cx="1123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S232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33920" y="5011560"/>
              <a:ext cx="1238400" cy="55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16360" y="5013360"/>
              <a:ext cx="1123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‘s 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828720" y="2930040"/>
            <a:ext cx="5784840" cy="1997280"/>
            <a:chOff x="828720" y="2930040"/>
            <a:chExt cx="5784840" cy="1997280"/>
          </a:xfrm>
        </p:grpSpPr>
        <p:sp>
          <p:nvSpPr>
            <p:cNvPr id="291" name=""/>
            <p:cNvSpPr/>
            <p:nvPr/>
          </p:nvSpPr>
          <p:spPr>
            <a:xfrm>
              <a:off x="828720" y="3141720"/>
              <a:ext cx="5305320" cy="1600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1411200" y="4506840"/>
              <a:ext cx="4076280" cy="238320"/>
              <a:chOff x="1411200" y="4506840"/>
              <a:chExt cx="4076280" cy="238320"/>
            </a:xfrm>
          </p:grpSpPr>
          <p:sp>
            <p:nvSpPr>
              <p:cNvPr id="293" name=""/>
              <p:cNvSpPr/>
              <p:nvPr/>
            </p:nvSpPr>
            <p:spPr>
              <a:xfrm>
                <a:off x="1411200" y="450684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06600" y="450684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02000" y="450684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1763640" y="3141720"/>
              <a:ext cx="18194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MAX Core  Frame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1390680" y="4503600"/>
              <a:ext cx="4076280" cy="238320"/>
              <a:chOff x="1390680" y="4503600"/>
              <a:chExt cx="4076280" cy="238320"/>
            </a:xfrm>
          </p:grpSpPr>
          <p:sp>
            <p:nvSpPr>
              <p:cNvPr id="298" name=""/>
              <p:cNvSpPr/>
              <p:nvPr/>
            </p:nvSpPr>
            <p:spPr>
              <a:xfrm>
                <a:off x="1390680" y="450360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86080" y="450360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81480" y="4503600"/>
                <a:ext cx="285480" cy="23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1396440" y="3020400"/>
              <a:ext cx="4144680" cy="377640"/>
              <a:chOff x="1396440" y="3020400"/>
              <a:chExt cx="4144680" cy="37764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1410120" y="3031200"/>
                <a:ext cx="4131000" cy="366840"/>
                <a:chOff x="1410120" y="3031200"/>
                <a:chExt cx="4131000" cy="366840"/>
              </a:xfrm>
            </p:grpSpPr>
            <p:sp>
              <p:nvSpPr>
                <p:cNvPr id="303" name=""/>
                <p:cNvSpPr/>
                <p:nvPr/>
              </p:nvSpPr>
              <p:spPr>
                <a:xfrm rot="3591600">
                  <a:off x="1441800" y="30956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3591600">
                  <a:off x="3327840" y="30956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3591600">
                  <a:off x="5223240" y="30956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1396440" y="3020400"/>
                <a:ext cx="4131000" cy="366840"/>
                <a:chOff x="1396440" y="3020400"/>
                <a:chExt cx="4131000" cy="366840"/>
              </a:xfrm>
            </p:grpSpPr>
            <p:sp>
              <p:nvSpPr>
                <p:cNvPr id="307" name=""/>
                <p:cNvSpPr/>
                <p:nvPr/>
              </p:nvSpPr>
              <p:spPr>
                <a:xfrm rot="3591600">
                  <a:off x="1428120" y="30848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3591600">
                  <a:off x="3314160" y="30848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3591600">
                  <a:off x="5209560" y="3084840"/>
                  <a:ext cx="286200" cy="23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0" name=""/>
            <p:cNvSpPr/>
            <p:nvPr/>
          </p:nvSpPr>
          <p:spPr>
            <a:xfrm rot="5400000">
              <a:off x="3290760" y="1641240"/>
              <a:ext cx="438120" cy="4619520"/>
            </a:xfrm>
            <a:prstGeom prst="can">
              <a:avLst>
                <a:gd name="adj" fmla="val 563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89080" y="3789360"/>
              <a:ext cx="5424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ternal publish/subscribe messaging mechanis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5451600">
              <a:off x="1374480" y="4221000"/>
              <a:ext cx="328680" cy="147600"/>
            </a:xfrm>
            <a:prstGeom prst="leftRightArrow">
              <a:avLst>
                <a:gd name="adj1" fmla="val 50000"/>
                <a:gd name="adj2" fmla="val 4433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5451600">
              <a:off x="3276360" y="4225680"/>
              <a:ext cx="328680" cy="147600"/>
            </a:xfrm>
            <a:prstGeom prst="leftRightArrow">
              <a:avLst>
                <a:gd name="adj1" fmla="val 50000"/>
                <a:gd name="adj2" fmla="val 4433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5451600">
              <a:off x="1374480" y="3516120"/>
              <a:ext cx="328680" cy="147600"/>
            </a:xfrm>
            <a:prstGeom prst="leftRightArrow">
              <a:avLst>
                <a:gd name="adj1" fmla="val 50000"/>
                <a:gd name="adj2" fmla="val 4433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5451600">
              <a:off x="3276360" y="3520800"/>
              <a:ext cx="328680" cy="147600"/>
            </a:xfrm>
            <a:prstGeom prst="leftRightArrow">
              <a:avLst>
                <a:gd name="adj1" fmla="val 50000"/>
                <a:gd name="adj2" fmla="val 4433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51600">
              <a:off x="5165640" y="3511440"/>
              <a:ext cx="328680" cy="147600"/>
            </a:xfrm>
            <a:prstGeom prst="leftRightArrow">
              <a:avLst>
                <a:gd name="adj1" fmla="val 50000"/>
                <a:gd name="adj2" fmla="val 4433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37080" y="4438800"/>
              <a:ext cx="11257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13080" y="4294080"/>
              <a:ext cx="1220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ess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5186520" y="4668840"/>
              <a:ext cx="295200" cy="256680"/>
              <a:chOff x="5186520" y="4668840"/>
              <a:chExt cx="295200" cy="256680"/>
            </a:xfrm>
          </p:grpSpPr>
          <p:sp>
            <p:nvSpPr>
              <p:cNvPr id="320" name=""/>
              <p:cNvSpPr/>
              <p:nvPr/>
            </p:nvSpPr>
            <p:spPr>
              <a:xfrm>
                <a:off x="5195880" y="4668840"/>
                <a:ext cx="28584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86520" y="4687560"/>
                <a:ext cx="28584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380600" y="2933280"/>
              <a:ext cx="372600" cy="369360"/>
              <a:chOff x="1380600" y="2933280"/>
              <a:chExt cx="372600" cy="369360"/>
            </a:xfrm>
          </p:grpSpPr>
          <p:sp>
            <p:nvSpPr>
              <p:cNvPr id="323" name=""/>
              <p:cNvSpPr/>
              <p:nvPr/>
            </p:nvSpPr>
            <p:spPr>
              <a:xfrm rot="3529200">
                <a:off x="1434240" y="2998080"/>
                <a:ext cx="285840" cy="238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3529200">
                <a:off x="1413360" y="2999520"/>
                <a:ext cx="285840" cy="23832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273120" y="2930040"/>
              <a:ext cx="372600" cy="369360"/>
              <a:chOff x="3273120" y="2930040"/>
              <a:chExt cx="372600" cy="369360"/>
            </a:xfrm>
          </p:grpSpPr>
          <p:sp>
            <p:nvSpPr>
              <p:cNvPr id="326" name=""/>
              <p:cNvSpPr/>
              <p:nvPr/>
            </p:nvSpPr>
            <p:spPr>
              <a:xfrm rot="3529200">
                <a:off x="3326760" y="2994840"/>
                <a:ext cx="28584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3529200">
                <a:off x="3305880" y="2996280"/>
                <a:ext cx="28584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164200" y="2931120"/>
              <a:ext cx="371880" cy="368280"/>
              <a:chOff x="5164200" y="2931120"/>
              <a:chExt cx="371880" cy="368280"/>
            </a:xfrm>
          </p:grpSpPr>
          <p:sp>
            <p:nvSpPr>
              <p:cNvPr id="329" name=""/>
              <p:cNvSpPr/>
              <p:nvPr/>
            </p:nvSpPr>
            <p:spPr>
              <a:xfrm rot="3529200">
                <a:off x="5218200" y="2995200"/>
                <a:ext cx="2844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3529200">
                <a:off x="5197320" y="2997000"/>
                <a:ext cx="2844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105520" y="4141440"/>
              <a:ext cx="428400" cy="785880"/>
              <a:chOff x="5105520" y="4141440"/>
              <a:chExt cx="428400" cy="785880"/>
            </a:xfrm>
          </p:grpSpPr>
          <p:sp>
            <p:nvSpPr>
              <p:cNvPr id="332" name=""/>
              <p:cNvSpPr/>
              <p:nvPr/>
            </p:nvSpPr>
            <p:spPr>
              <a:xfrm rot="10800000">
                <a:off x="5105520" y="4141440"/>
                <a:ext cx="275040" cy="574560"/>
              </a:xfrm>
              <a:prstGeom prst="downArrow">
                <a:avLst>
                  <a:gd name="adj1" fmla="val 50000"/>
                  <a:gd name="adj2" fmla="val 5222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58880" y="4352760"/>
                <a:ext cx="275040" cy="574560"/>
              </a:xfrm>
              <a:prstGeom prst="downArrow">
                <a:avLst>
                  <a:gd name="adj1" fmla="val 50000"/>
                  <a:gd name="adj2" fmla="val 5222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>
            <a:off x="4500720" y="2854440"/>
            <a:ext cx="43210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4000" y="1773360"/>
            <a:ext cx="6769080" cy="43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66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aracteristic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r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odule encapsulated in its own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ed internal interf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/subscribe messaging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dule inter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odules derived from common SW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basic structure and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 thread per modu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no application deadlock if one module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apsulation of Windows messaging and asynchronous I/O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TT2.0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3042-A1F8-434B-B971-8A39FD59DB4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2960" cy="9921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013440" y="911160"/>
          <a:ext cx="51120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3440" y="911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181080" y="1773360"/>
            <a:ext cx="1439640" cy="9968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1028880"/>
            <a:ext cx="7392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1160" y="249408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73080" y="2565360"/>
            <a:ext cx="1123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01880" y="249084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54440" y="2459160"/>
            <a:ext cx="1214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ython Interpret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16360" y="249408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16360" y="2494080"/>
            <a:ext cx="112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S232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6300720" y="1127160"/>
          <a:ext cx="51120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1127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6516720" y="1343160"/>
          <a:ext cx="5112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1343160"/>
                    <a:ext cx="511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 rot="18505200">
            <a:off x="5810760" y="19756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8995400">
            <a:off x="5956200" y="2118960"/>
            <a:ext cx="412920" cy="154080"/>
          </a:xfrm>
          <a:prstGeom prst="leftRightArrow">
            <a:avLst>
              <a:gd name="adj1" fmla="val 50000"/>
              <a:gd name="adj2" fmla="val 5335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20067600">
            <a:off x="6156360" y="2278080"/>
            <a:ext cx="412560" cy="154080"/>
          </a:xfrm>
          <a:prstGeom prst="leftRightArrow">
            <a:avLst>
              <a:gd name="adj1" fmla="val 50000"/>
              <a:gd name="adj2" fmla="val 5330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633920" y="4950000"/>
            <a:ext cx="1322280" cy="711000"/>
            <a:chOff x="4633920" y="4950000"/>
            <a:chExt cx="1322280" cy="711000"/>
          </a:xfrm>
        </p:grpSpPr>
        <p:sp>
          <p:nvSpPr>
            <p:cNvPr id="355" name=""/>
            <p:cNvSpPr/>
            <p:nvPr/>
          </p:nvSpPr>
          <p:spPr>
            <a:xfrm>
              <a:off x="4832280" y="4950000"/>
              <a:ext cx="1123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S232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33920" y="5011560"/>
              <a:ext cx="1238400" cy="55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16360" y="5013360"/>
              <a:ext cx="1123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‘s 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828720" y="3141720"/>
            <a:ext cx="5305320" cy="1600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411200" y="4506840"/>
            <a:ext cx="4076280" cy="238320"/>
            <a:chOff x="1411200" y="4506840"/>
            <a:chExt cx="4076280" cy="238320"/>
          </a:xfrm>
        </p:grpSpPr>
        <p:sp>
          <p:nvSpPr>
            <p:cNvPr id="360" name=""/>
            <p:cNvSpPr/>
            <p:nvPr/>
          </p:nvSpPr>
          <p:spPr>
            <a:xfrm>
              <a:off x="1411200" y="450684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06600" y="450684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02000" y="450684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763640" y="3141720"/>
            <a:ext cx="1819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X Core 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390680" y="4503600"/>
            <a:ext cx="4076280" cy="238320"/>
            <a:chOff x="1390680" y="4503600"/>
            <a:chExt cx="4076280" cy="238320"/>
          </a:xfrm>
        </p:grpSpPr>
        <p:sp>
          <p:nvSpPr>
            <p:cNvPr id="365" name=""/>
            <p:cNvSpPr/>
            <p:nvPr/>
          </p:nvSpPr>
          <p:spPr>
            <a:xfrm>
              <a:off x="1390680" y="450360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86080" y="450360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50360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396440" y="3020400"/>
            <a:ext cx="4144680" cy="377640"/>
            <a:chOff x="1396440" y="3020400"/>
            <a:chExt cx="4144680" cy="377640"/>
          </a:xfrm>
        </p:grpSpPr>
        <p:grpSp>
          <p:nvGrpSpPr>
            <p:cNvPr id="369" name=""/>
            <p:cNvGrpSpPr/>
            <p:nvPr/>
          </p:nvGrpSpPr>
          <p:grpSpPr>
            <a:xfrm>
              <a:off x="1410120" y="3031200"/>
              <a:ext cx="4131000" cy="366840"/>
              <a:chOff x="1410120" y="3031200"/>
              <a:chExt cx="4131000" cy="366840"/>
            </a:xfrm>
          </p:grpSpPr>
          <p:sp>
            <p:nvSpPr>
              <p:cNvPr id="370" name=""/>
              <p:cNvSpPr/>
              <p:nvPr/>
            </p:nvSpPr>
            <p:spPr>
              <a:xfrm rot="3591600">
                <a:off x="1441800" y="30956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3591600">
                <a:off x="3327840" y="30956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3591600">
                <a:off x="5223240" y="30956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1396440" y="3020400"/>
              <a:ext cx="4131000" cy="366840"/>
              <a:chOff x="1396440" y="3020400"/>
              <a:chExt cx="4131000" cy="366840"/>
            </a:xfrm>
          </p:grpSpPr>
          <p:sp>
            <p:nvSpPr>
              <p:cNvPr id="374" name=""/>
              <p:cNvSpPr/>
              <p:nvPr/>
            </p:nvSpPr>
            <p:spPr>
              <a:xfrm rot="3591600">
                <a:off x="1428120" y="30848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3591600">
                <a:off x="3314160" y="30848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3591600">
                <a:off x="5209560" y="30848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"/>
          <p:cNvSpPr/>
          <p:nvPr/>
        </p:nvSpPr>
        <p:spPr>
          <a:xfrm rot="5400000">
            <a:off x="3290760" y="1641240"/>
            <a:ext cx="438120" cy="4619520"/>
          </a:xfrm>
          <a:prstGeom prst="can">
            <a:avLst>
              <a:gd name="adj" fmla="val 563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89080" y="3789360"/>
            <a:ext cx="54244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al publish/subscribe messaging mechan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51600">
            <a:off x="1374480" y="4221000"/>
            <a:ext cx="328680" cy="147600"/>
          </a:xfrm>
          <a:prstGeom prst="leftRightArrow">
            <a:avLst>
              <a:gd name="adj1" fmla="val 50000"/>
              <a:gd name="adj2" fmla="val 443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51600">
            <a:off x="3276360" y="4225680"/>
            <a:ext cx="328680" cy="147600"/>
          </a:xfrm>
          <a:prstGeom prst="leftRightArrow">
            <a:avLst>
              <a:gd name="adj1" fmla="val 50000"/>
              <a:gd name="adj2" fmla="val 443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5451600">
            <a:off x="1374480" y="3516120"/>
            <a:ext cx="328680" cy="147600"/>
          </a:xfrm>
          <a:prstGeom prst="leftRightArrow">
            <a:avLst>
              <a:gd name="adj1" fmla="val 50000"/>
              <a:gd name="adj2" fmla="val 443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5451600">
            <a:off x="3276360" y="3520800"/>
            <a:ext cx="328680" cy="147600"/>
          </a:xfrm>
          <a:prstGeom prst="leftRightArrow">
            <a:avLst>
              <a:gd name="adj1" fmla="val 50000"/>
              <a:gd name="adj2" fmla="val 443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5451600">
            <a:off x="5165640" y="3511440"/>
            <a:ext cx="328680" cy="147600"/>
          </a:xfrm>
          <a:prstGeom prst="leftRightArrow">
            <a:avLst>
              <a:gd name="adj1" fmla="val 50000"/>
              <a:gd name="adj2" fmla="val 443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37080" y="4438800"/>
            <a:ext cx="1125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13080" y="4294080"/>
            <a:ext cx="1220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380600" y="2933280"/>
            <a:ext cx="372600" cy="369360"/>
            <a:chOff x="1380600" y="2933280"/>
            <a:chExt cx="372600" cy="369360"/>
          </a:xfrm>
        </p:grpSpPr>
        <p:sp>
          <p:nvSpPr>
            <p:cNvPr id="387" name=""/>
            <p:cNvSpPr/>
            <p:nvPr/>
          </p:nvSpPr>
          <p:spPr>
            <a:xfrm rot="3529200">
              <a:off x="1434240" y="2998080"/>
              <a:ext cx="285840" cy="238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3529200">
              <a:off x="1413360" y="2999520"/>
              <a:ext cx="285840" cy="2383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273120" y="2930040"/>
            <a:ext cx="372600" cy="369360"/>
            <a:chOff x="3273120" y="2930040"/>
            <a:chExt cx="372600" cy="369360"/>
          </a:xfrm>
        </p:grpSpPr>
        <p:sp>
          <p:nvSpPr>
            <p:cNvPr id="390" name=""/>
            <p:cNvSpPr/>
            <p:nvPr/>
          </p:nvSpPr>
          <p:spPr>
            <a:xfrm rot="3529200">
              <a:off x="3326760" y="2994840"/>
              <a:ext cx="285840" cy="237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3529200">
              <a:off x="3305880" y="2996280"/>
              <a:ext cx="285840" cy="2379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164200" y="2931120"/>
            <a:ext cx="371880" cy="368280"/>
            <a:chOff x="5164200" y="2931120"/>
            <a:chExt cx="371880" cy="368280"/>
          </a:xfrm>
        </p:grpSpPr>
        <p:sp>
          <p:nvSpPr>
            <p:cNvPr id="393" name=""/>
            <p:cNvSpPr/>
            <p:nvPr/>
          </p:nvSpPr>
          <p:spPr>
            <a:xfrm rot="3529200">
              <a:off x="5218200" y="2995200"/>
              <a:ext cx="284400" cy="237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3529200">
              <a:off x="5197320" y="2997000"/>
              <a:ext cx="284400" cy="2379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105520" y="4141440"/>
            <a:ext cx="428400" cy="785880"/>
            <a:chOff x="5105520" y="4141440"/>
            <a:chExt cx="428400" cy="785880"/>
          </a:xfrm>
        </p:grpSpPr>
        <p:sp>
          <p:nvSpPr>
            <p:cNvPr id="396" name=""/>
            <p:cNvSpPr/>
            <p:nvPr/>
          </p:nvSpPr>
          <p:spPr>
            <a:xfrm rot="10800000">
              <a:off x="5105520" y="4141440"/>
              <a:ext cx="275040" cy="574560"/>
            </a:xfrm>
            <a:prstGeom prst="downArrow">
              <a:avLst>
                <a:gd name="adj1" fmla="val 50000"/>
                <a:gd name="adj2" fmla="val 5222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58880" y="4352760"/>
              <a:ext cx="275040" cy="574560"/>
            </a:xfrm>
            <a:prstGeom prst="downArrow">
              <a:avLst>
                <a:gd name="adj1" fmla="val 50000"/>
                <a:gd name="adj2" fmla="val 5222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992160"/>
            <a:ext cx="7392960" cy="5562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as for future modules &amp;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874800" y="4941720"/>
            <a:ext cx="1322280" cy="711000"/>
            <a:chOff x="874800" y="4941720"/>
            <a:chExt cx="1322280" cy="711000"/>
          </a:xfrm>
        </p:grpSpPr>
        <p:sp>
          <p:nvSpPr>
            <p:cNvPr id="400" name=""/>
            <p:cNvSpPr/>
            <p:nvPr/>
          </p:nvSpPr>
          <p:spPr>
            <a:xfrm>
              <a:off x="1073160" y="4941720"/>
              <a:ext cx="1123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S232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4800" y="5003280"/>
              <a:ext cx="1238400" cy="55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57240" y="5005080"/>
              <a:ext cx="1123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378080" y="4654440"/>
            <a:ext cx="295200" cy="257040"/>
            <a:chOff x="1378080" y="4654440"/>
            <a:chExt cx="295200" cy="257040"/>
          </a:xfrm>
        </p:grpSpPr>
        <p:sp>
          <p:nvSpPr>
            <p:cNvPr id="404" name=""/>
            <p:cNvSpPr/>
            <p:nvPr/>
          </p:nvSpPr>
          <p:spPr>
            <a:xfrm>
              <a:off x="1387440" y="4654440"/>
              <a:ext cx="285840" cy="238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78080" y="4673160"/>
              <a:ext cx="285840" cy="2383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405080" y="551808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706320" y="6138720"/>
            <a:ext cx="1500480" cy="74880"/>
            <a:chOff x="706320" y="6138720"/>
            <a:chExt cx="1500480" cy="74880"/>
          </a:xfrm>
        </p:grpSpPr>
        <p:sp>
          <p:nvSpPr>
            <p:cNvPr id="408" name=""/>
            <p:cNvSpPr/>
            <p:nvPr/>
          </p:nvSpPr>
          <p:spPr>
            <a:xfrm>
              <a:off x="755640" y="6184800"/>
              <a:ext cx="144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33720" y="6141960"/>
              <a:ext cx="7308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6320" y="6138720"/>
              <a:ext cx="7308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554400" y="5824440"/>
            <a:ext cx="848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TT2.0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DAED1-2A7F-4D36-ACDD-CCA6BAAD52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2960" cy="9921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AX Ide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1028880"/>
            <a:ext cx="7392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16360" y="2494080"/>
            <a:ext cx="123840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16360" y="2494080"/>
            <a:ext cx="112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PP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633920" y="4950000"/>
            <a:ext cx="1322280" cy="711000"/>
            <a:chOff x="4633920" y="4950000"/>
            <a:chExt cx="1322280" cy="711000"/>
          </a:xfrm>
        </p:grpSpPr>
        <p:sp>
          <p:nvSpPr>
            <p:cNvPr id="417" name=""/>
            <p:cNvSpPr/>
            <p:nvPr/>
          </p:nvSpPr>
          <p:spPr>
            <a:xfrm>
              <a:off x="4832280" y="4950000"/>
              <a:ext cx="1123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S232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33920" y="5011560"/>
              <a:ext cx="1238400" cy="55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16360" y="5013360"/>
              <a:ext cx="1123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‘s 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828720" y="3141720"/>
            <a:ext cx="5305320" cy="1600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411200" y="4506840"/>
            <a:ext cx="4076280" cy="238320"/>
            <a:chOff x="1411200" y="4506840"/>
            <a:chExt cx="4076280" cy="238320"/>
          </a:xfrm>
        </p:grpSpPr>
        <p:sp>
          <p:nvSpPr>
            <p:cNvPr id="422" name=""/>
            <p:cNvSpPr/>
            <p:nvPr/>
          </p:nvSpPr>
          <p:spPr>
            <a:xfrm>
              <a:off x="1411200" y="450684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06600" y="450684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02000" y="450684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1763640" y="3141720"/>
            <a:ext cx="1819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X Core 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390680" y="4503600"/>
            <a:ext cx="4076280" cy="238320"/>
            <a:chOff x="1390680" y="4503600"/>
            <a:chExt cx="4076280" cy="238320"/>
          </a:xfrm>
        </p:grpSpPr>
        <p:sp>
          <p:nvSpPr>
            <p:cNvPr id="427" name=""/>
            <p:cNvSpPr/>
            <p:nvPr/>
          </p:nvSpPr>
          <p:spPr>
            <a:xfrm>
              <a:off x="1390680" y="450360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86080" y="450360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81480" y="4503600"/>
              <a:ext cx="285480" cy="238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396440" y="3020400"/>
            <a:ext cx="4144680" cy="377640"/>
            <a:chOff x="1396440" y="3020400"/>
            <a:chExt cx="4144680" cy="377640"/>
          </a:xfrm>
        </p:grpSpPr>
        <p:grpSp>
          <p:nvGrpSpPr>
            <p:cNvPr id="431" name=""/>
            <p:cNvGrpSpPr/>
            <p:nvPr/>
          </p:nvGrpSpPr>
          <p:grpSpPr>
            <a:xfrm>
              <a:off x="1410120" y="3031200"/>
              <a:ext cx="4131000" cy="366840"/>
              <a:chOff x="1410120" y="3031200"/>
              <a:chExt cx="4131000" cy="366840"/>
            </a:xfrm>
          </p:grpSpPr>
          <p:sp>
            <p:nvSpPr>
              <p:cNvPr id="432" name=""/>
              <p:cNvSpPr/>
              <p:nvPr/>
            </p:nvSpPr>
            <p:spPr>
              <a:xfrm rot="3591600">
                <a:off x="1441800" y="30956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3591600">
                <a:off x="3327840" y="30956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3591600">
                <a:off x="5223240" y="30956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1396440" y="3020400"/>
              <a:ext cx="4131000" cy="366840"/>
              <a:chOff x="1396440" y="3020400"/>
              <a:chExt cx="4131000" cy="366840"/>
            </a:xfrm>
          </p:grpSpPr>
          <p:sp>
            <p:nvSpPr>
              <p:cNvPr id="436" name=""/>
              <p:cNvSpPr/>
              <p:nvPr/>
            </p:nvSpPr>
            <p:spPr>
              <a:xfrm rot="3591600">
                <a:off x="1428120" y="30848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3591600">
                <a:off x="3314160" y="30848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591600">
                <a:off x="5209560" y="3084840"/>
                <a:ext cx="286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9" name=""/>
          <p:cNvSpPr/>
          <p:nvPr/>
        </p:nvSpPr>
        <p:spPr>
          <a:xfrm rot="5400000">
            <a:off x="3290760" y="1641240"/>
            <a:ext cx="438120" cy="4619520"/>
          </a:xfrm>
          <a:prstGeom prst="can">
            <a:avLst>
              <a:gd name="adj" fmla="val 563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89080" y="3789360"/>
            <a:ext cx="54244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al publish/subscribe messaging mechan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5451600">
            <a:off x="1374480" y="4221000"/>
            <a:ext cx="328680" cy="147600"/>
          </a:xfrm>
          <a:prstGeom prst="leftRightArrow">
            <a:avLst>
              <a:gd name="adj1" fmla="val 50000"/>
              <a:gd name="adj2" fmla="val 443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5451600">
            <a:off x="3276360" y="4225680"/>
            <a:ext cx="328680" cy="147600"/>
          </a:xfrm>
          <a:prstGeom prst="leftRightArrow">
            <a:avLst>
              <a:gd name="adj1" fmla="val 50000"/>
              <a:gd name="adj2" fmla="val 443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5451600">
            <a:off x="1374480" y="3516120"/>
            <a:ext cx="328680" cy="147600"/>
          </a:xfrm>
          <a:prstGeom prst="leftRightArrow">
            <a:avLst>
              <a:gd name="adj1" fmla="val 50000"/>
              <a:gd name="adj2" fmla="val 443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5451600">
            <a:off x="3276360" y="3520800"/>
            <a:ext cx="328680" cy="147600"/>
          </a:xfrm>
          <a:prstGeom prst="leftRightArrow">
            <a:avLst>
              <a:gd name="adj1" fmla="val 50000"/>
              <a:gd name="adj2" fmla="val 443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5451600">
            <a:off x="5165640" y="3511440"/>
            <a:ext cx="328680" cy="147600"/>
          </a:xfrm>
          <a:prstGeom prst="leftRightArrow">
            <a:avLst>
              <a:gd name="adj1" fmla="val 50000"/>
              <a:gd name="adj2" fmla="val 443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437080" y="4438800"/>
            <a:ext cx="1125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213080" y="4294080"/>
            <a:ext cx="1220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5164200" y="2931120"/>
            <a:ext cx="371880" cy="368280"/>
            <a:chOff x="5164200" y="2931120"/>
            <a:chExt cx="371880" cy="368280"/>
          </a:xfrm>
        </p:grpSpPr>
        <p:sp>
          <p:nvSpPr>
            <p:cNvPr id="449" name=""/>
            <p:cNvSpPr/>
            <p:nvPr/>
          </p:nvSpPr>
          <p:spPr>
            <a:xfrm rot="3529200">
              <a:off x="5218200" y="2995200"/>
              <a:ext cx="284400" cy="237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3529200">
              <a:off x="5197320" y="2997000"/>
              <a:ext cx="284400" cy="2379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105520" y="4141440"/>
            <a:ext cx="428400" cy="785880"/>
            <a:chOff x="5105520" y="4141440"/>
            <a:chExt cx="428400" cy="785880"/>
          </a:xfrm>
        </p:grpSpPr>
        <p:sp>
          <p:nvSpPr>
            <p:cNvPr id="452" name=""/>
            <p:cNvSpPr/>
            <p:nvPr/>
          </p:nvSpPr>
          <p:spPr>
            <a:xfrm rot="10800000">
              <a:off x="5105520" y="4141440"/>
              <a:ext cx="275040" cy="574560"/>
            </a:xfrm>
            <a:prstGeom prst="downArrow">
              <a:avLst>
                <a:gd name="adj1" fmla="val 50000"/>
                <a:gd name="adj2" fmla="val 5222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58880" y="4352760"/>
              <a:ext cx="275040" cy="574560"/>
            </a:xfrm>
            <a:prstGeom prst="downArrow">
              <a:avLst>
                <a:gd name="adj1" fmla="val 50000"/>
                <a:gd name="adj2" fmla="val 5222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773440" y="4941720"/>
            <a:ext cx="1322280" cy="711000"/>
            <a:chOff x="2773440" y="4941720"/>
            <a:chExt cx="1322280" cy="711000"/>
          </a:xfrm>
        </p:grpSpPr>
        <p:sp>
          <p:nvSpPr>
            <p:cNvPr id="455" name=""/>
            <p:cNvSpPr/>
            <p:nvPr/>
          </p:nvSpPr>
          <p:spPr>
            <a:xfrm>
              <a:off x="2971800" y="4941720"/>
              <a:ext cx="1123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S232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73440" y="5003280"/>
              <a:ext cx="1238400" cy="55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55880" y="5005080"/>
              <a:ext cx="1123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atabase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276720" y="4654440"/>
            <a:ext cx="295200" cy="257040"/>
            <a:chOff x="3276720" y="4654440"/>
            <a:chExt cx="295200" cy="257040"/>
          </a:xfrm>
        </p:grpSpPr>
        <p:sp>
          <p:nvSpPr>
            <p:cNvPr id="459" name=""/>
            <p:cNvSpPr/>
            <p:nvPr/>
          </p:nvSpPr>
          <p:spPr>
            <a:xfrm>
              <a:off x="3286080" y="4654440"/>
              <a:ext cx="285840" cy="238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76720" y="4673160"/>
              <a:ext cx="285840" cy="2383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989440" y="5877000"/>
            <a:ext cx="792000" cy="5032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QL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5400000">
            <a:off x="3223080" y="5571360"/>
            <a:ext cx="358920" cy="252360"/>
          </a:xfrm>
          <a:prstGeom prst="leftRightArrow">
            <a:avLst>
              <a:gd name="adj1" fmla="val 50000"/>
              <a:gd name="adj2" fmla="val 2831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54360" bIns="54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132000" y="1197000"/>
            <a:ext cx="1130400" cy="865080"/>
          </a:xfrm>
          <a:prstGeom prst="foldedCorner">
            <a:avLst>
              <a:gd name="adj" fmla="val 12500"/>
            </a:avLst>
          </a:prstGeom>
          <a:solidFill>
            <a:srgbClr val="99ccf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2743800">
            <a:off x="4169160" y="2104200"/>
            <a:ext cx="625320" cy="252360"/>
          </a:xfrm>
          <a:prstGeom prst="leftRightArrow">
            <a:avLst>
              <a:gd name="adj1" fmla="val 50000"/>
              <a:gd name="adj2" fmla="val 49328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54360" bIns="54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05120" y="1341360"/>
            <a:ext cx="11397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ternal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TT2.0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4D8C3-298F-4164-822B-86F862B1EF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1:17:16Z</dcterms:created>
  <dc:creator>Ralf Weiden</dc:creator>
  <dc:description/>
  <dc:language>en-US</dc:language>
  <cp:lastModifiedBy>itcweide</cp:lastModifiedBy>
  <cp:lastPrinted>2001-11-15T10:48:33Z</cp:lastPrinted>
  <dcterms:modified xsi:type="dcterms:W3CDTF">2004-08-20T05:46:48Z</dcterms:modified>
  <cp:revision>75</cp:revision>
  <dc:subject>ATT2.0</dc:subject>
  <dc:title>Folie 1</dc:title>
</cp:coreProperties>
</file>