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D0D5C-3278-405F-90DB-DCB63E34CB8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offers the operator the same customisation options as A55. ARPU can be generated via EMS traffic, WAP and by downloading bitmaps, EMS-animations and ringt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92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is addressing th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try leve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of the market, targeting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e-conscious follow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 general, they adopt trends rather late, being quit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ervative &amp; 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with a low willingness to take r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ir interest in technology is very low – it even makes them slightly uncomfortable. They therefore seek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imple, intuitive devic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The main purpose of their mobile phone i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eing reach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for their families – the most important thing in their lives. More features become only interesting if they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nhance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and once they have become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instream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 they dispose of a rather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ow bud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price is a key buying cri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65 therefore offers an attractive and easy-to-use bundle of proven features at an attractive pr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61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grpSp>
        <p:nvGrpSpPr>
          <p:cNvPr id="665" name=""/>
          <p:cNvGrpSpPr/>
          <p:nvPr/>
        </p:nvGrpSpPr>
        <p:grpSpPr>
          <a:xfrm>
            <a:off x="671400" y="4678200"/>
            <a:ext cx="5283000" cy="4134240"/>
            <a:chOff x="671400" y="4678200"/>
            <a:chExt cx="5283000" cy="4134240"/>
          </a:xfrm>
        </p:grpSpPr>
        <p:sp>
          <p:nvSpPr>
            <p:cNvPr id="666" name=""/>
            <p:cNvSpPr/>
            <p:nvPr/>
          </p:nvSpPr>
          <p:spPr>
            <a:xfrm>
              <a:off x="671400" y="5514840"/>
              <a:ext cx="2333520" cy="173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follow the trends that ar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et by other groups. However being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endy is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not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of key importanc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raditional values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pen minded, main focus in lif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s on their family, close friends 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and home, very sociable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trive for a balance betwe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 rational and the emotional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oducts they own have t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 easy, reliable &amp; functional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t is a “me too” Lifestyl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333800" y="5247720"/>
              <a:ext cx="6879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Lifesty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74840" y="5266800"/>
              <a:ext cx="1270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Technolog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82560" y="5514840"/>
              <a:ext cx="2571840" cy="168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Slightly uncomfortable with new technologies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Preference for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basic function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,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liability, security &amp;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ase of us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.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don’t use technology very intensively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In this regard they are second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uyers but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late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adopter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of new technolog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95000"/>
                </a:lnSpc>
                <a:spcBef>
                  <a:spcPts val="337"/>
                </a:spcBef>
                <a:buClr>
                  <a:srgbClr val="000000"/>
                </a:buClr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They represent the</a:t>
              </a:r>
              <a:br>
                <a:rPr sz="900"/>
              </a:b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mass market 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for everything that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really successful on a low-tech level (e.g. Digital cam, DVD play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283400" y="7530840"/>
              <a:ext cx="1395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Siemens Sans SC"/>
                </a:rPr>
                <a:t>Decision-mak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087560" y="7761240"/>
              <a:ext cx="1635840" cy="10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ecision-making is driven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</a:t>
              </a:r>
              <a:r>
                <a:rPr b="1" lang="en-GB" sz="900" spc="-1" strike="noStrike">
                  <a:solidFill>
                    <a:srgbClr val="000000"/>
                  </a:solidFill>
                  <a:latin typeface="Siemens Sans SC"/>
                </a:rPr>
                <a:t>economic factors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–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y price and conditions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230040" indent="-228600">
                <a:lnSpc>
                  <a:spcPct val="105000"/>
                </a:lnSpc>
                <a:spcBef>
                  <a:spcPts val="337"/>
                </a:spcBef>
                <a:buClr>
                  <a:srgbClr val="000000"/>
                </a:buClr>
                <a:buSzPct val="120000"/>
                <a:buFont typeface="Siemens Sans SC"/>
                <a:buChar char="•"/>
                <a:tabLst>
                  <a:tab algn="l" pos="957240"/>
                  <a:tab algn="l" pos="1914480"/>
                  <a:tab algn="l" pos="2871720"/>
                  <a:tab algn="l" pos="3828960"/>
                  <a:tab algn="l" pos="4786200"/>
                  <a:tab algn="l" pos="5743440"/>
                  <a:tab algn="l" pos="6700680"/>
                  <a:tab algn="l" pos="7658280"/>
                  <a:tab algn="l" pos="8615520"/>
                  <a:tab algn="l" pos="9572760"/>
                  <a:tab algn="l" pos="105300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Hence their decision is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driven by getting the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best price /design ratio </a:t>
              </a:r>
              <a:br>
                <a:rPr sz="900"/>
              </a:br>
              <a:r>
                <a:rPr b="0" lang="en-GB" sz="9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r>
                <a:rPr b="0" lang="en-GB" sz="900" spc="-1" strike="noStrike">
                  <a:solidFill>
                    <a:srgbClr val="000000"/>
                  </a:solidFill>
                  <a:latin typeface="Siemens Sans SC"/>
                </a:rPr>
                <a:t> no experimen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006200" y="4678200"/>
              <a:ext cx="4502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45360" anchor="t">
              <a:spAutoFit/>
            </a:bodyPr>
            <a:p>
              <a:pPr>
                <a:lnSpc>
                  <a:spcPts val="1587"/>
                </a:lnSpc>
                <a:tabLst>
                  <a:tab algn="l" pos="0"/>
                  <a:tab algn="l" pos="909720"/>
                  <a:tab algn="l" pos="1819440"/>
                  <a:tab algn="l" pos="2728800"/>
                  <a:tab algn="l" pos="3638520"/>
                  <a:tab algn="l" pos="4548240"/>
                  <a:tab algn="l" pos="5457960"/>
                  <a:tab algn="l" pos="6367320"/>
                  <a:tab algn="l" pos="7277040"/>
                  <a:tab algn="l" pos="8186760"/>
                  <a:tab algn="l" pos="9096480"/>
                  <a:tab algn="l" pos="10005840"/>
                  <a:tab algn="l" pos="109155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A65 is a basic phone targeting emerging market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74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65 focuses mainly on basic application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oice, EMS, polyphonic ringtones (16 voices) and WAP, all embodying ease of use – an essential requirement of the entry-level low-interest target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9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0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70844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 78 g 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tb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5" name=""/>
          <p:cNvGrpSpPr/>
          <p:nvPr/>
        </p:nvGrpSpPr>
        <p:grpSpPr>
          <a:xfrm>
            <a:off x="774720" y="4226040"/>
            <a:ext cx="2654280" cy="345240"/>
            <a:chOff x="774720" y="4226040"/>
            <a:chExt cx="2654280" cy="345240"/>
          </a:xfrm>
        </p:grpSpPr>
        <p:sp>
          <p:nvSpPr>
            <p:cNvPr id="686" name=""/>
            <p:cNvSpPr/>
            <p:nvPr/>
          </p:nvSpPr>
          <p:spPr>
            <a:xfrm>
              <a:off x="774720" y="4226040"/>
              <a:ext cx="2654280" cy="34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000" tIns="0" bIns="45000" anchor="t">
              <a:spAutoFit/>
            </a:bodyPr>
            <a:p>
              <a:pPr algn="ctr">
                <a:lnSpc>
                  <a:spcPts val="2361"/>
                </a:lnSpc>
                <a:spcBef>
                  <a:spcPts val="1001"/>
                </a:spcBef>
                <a:tabLst>
                  <a:tab algn="l" pos="0"/>
                  <a:tab algn="l" pos="900000"/>
                  <a:tab algn="l" pos="1800360"/>
                  <a:tab algn="l" pos="2700360"/>
                  <a:tab algn="l" pos="3600360"/>
                  <a:tab algn="l" pos="4500720"/>
                  <a:tab algn="l" pos="5400720"/>
                  <a:tab algn="l" pos="6300720"/>
                  <a:tab algn="l" pos="7201080"/>
                  <a:tab algn="l" pos="8101080"/>
                  <a:tab algn="l" pos="9001080"/>
                  <a:tab algn="l" pos="9901080"/>
                  <a:tab algn="l" pos="1080144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74720" y="422604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74720" y="4526280"/>
              <a:ext cx="257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69006-F265-4AD7-A9B0-BD4DFD14E9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E7334-1A39-4CFF-859A-F122FFC2AE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8DED0-13A8-4C6F-84F4-17572DFEA1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AF502-6FE2-4A8F-99DF-C41D11EB41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822B5-A5CE-4595-961D-52000D35F7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1165-B8C9-4D2D-BA12-044C4DDF3A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B36A-4C64-44D9-8416-02A158273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D8977-4238-4B08-B012-995BCAFA8A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844FA-575E-4656-A2F6-8DF6C674D7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E9CAE-2F10-4C54-B7E3-34837F49B1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1240F-308B-4F2C-9E46-D6300DB4D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879C5-78DD-40DA-8083-B28CA983F2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12560" y="6568200"/>
            <a:ext cx="32065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2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E430E34E-8712-4BCB-82FE-76564FE73DEA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7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f3b200"/>
                </a:solidFill>
                <a:latin typeface="Arial"/>
              </a:rPr>
              <a:t>A65 Present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" descr=""/>
          <p:cNvPicPr/>
          <p:nvPr/>
        </p:nvPicPr>
        <p:blipFill>
          <a:blip r:embed="rId1"/>
          <a:srcRect l="0" t="3072" r="0" b="0"/>
          <a:stretch/>
        </p:blipFill>
        <p:spPr>
          <a:xfrm>
            <a:off x="7094520" y="4460760"/>
            <a:ext cx="1887480" cy="149400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414360" y="1413000"/>
            <a:ext cx="6299280" cy="272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logos and animations available make the A65 a stylish and trendy companion reflecting the user's personality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 wide range of polyphonic ringtones provides a new dimension in sound and offers many ways to express emotions 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ne becomes a very personal device with new applications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 puzzle and Stack Attack Junior Ed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Application pro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483000" y="24400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483000" y="514188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483000" y="3795840"/>
            <a:ext cx="3933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2"/>
          <a:srcRect l="0" t="0" r="0" b="8645"/>
          <a:stretch/>
        </p:blipFill>
        <p:spPr>
          <a:xfrm>
            <a:off x="7095960" y="1160640"/>
            <a:ext cx="1886040" cy="1492200"/>
          </a:xfrm>
          <a:prstGeom prst="rect">
            <a:avLst/>
          </a:prstGeom>
          <a:ln w="0">
            <a:noFill/>
          </a:ln>
        </p:spPr>
      </p:pic>
      <p:pic>
        <p:nvPicPr>
          <p:cNvPr id="636" name="sample_screens_03" descr=""/>
          <p:cNvPicPr/>
          <p:nvPr/>
        </p:nvPicPr>
        <p:blipFill>
          <a:blip r:embed="rId3"/>
          <a:stretch/>
        </p:blipFill>
        <p:spPr>
          <a:xfrm>
            <a:off x="7095960" y="2806560"/>
            <a:ext cx="1887840" cy="15004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FA94A4-50C7-4A01-90F5-6A1FD94CE3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14360" y="1413000"/>
            <a:ext cx="6299280" cy="46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Best Price / Performance Rat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STN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ull E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incl. AMR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.6 MB user memory for pictures, animations &amp;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pports attachable QuickPic Camera with flash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structured keypad layout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ood feedback on key pressu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arge navy-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uitive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rcRect l="40632" t="0" r="10442" b="0"/>
          <a:stretch/>
        </p:blipFill>
        <p:spPr>
          <a:xfrm>
            <a:off x="7093080" y="1160640"/>
            <a:ext cx="1888920" cy="4789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onsu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E99A2-774E-42E0-A62E-333A35A7D52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ustomer benefi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4360" y="1413000"/>
            <a:ext cx="6335640" cy="47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eature 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with 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MS, SMS, 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PRS class 8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ri-b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chable QuickPic Camera with flash as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 log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rf&amp;fun ic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ofil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-specific hotkey setting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User experien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TA-download of ringtones, bitmaps and anim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touch access to operator portal and services via hotkey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ur-way navigation ke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ell-known coloured Siemens M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rcRect l="34557" t="0" r="30915" b="0"/>
          <a:stretch/>
        </p:blipFill>
        <p:spPr>
          <a:xfrm>
            <a:off x="7093080" y="1160640"/>
            <a:ext cx="1888920" cy="4790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33B74-CCF2-40B9-A3A9-86D0B97F3B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7094520" y="1160640"/>
            <a:ext cx="1886040" cy="1493640"/>
          </a:xfrm>
          <a:prstGeom prst="rect">
            <a:avLst/>
          </a:prstGeom>
          <a:ln w="0">
            <a:noFill/>
          </a:ln>
        </p:spPr>
      </p:pic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upport of </a:t>
            </a: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perator Servi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14360" y="1413000"/>
            <a:ext cx="6299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xperience the world of data ser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e Internet access via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ata download over the air (OTA) via SMS or WAP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ast data transfer thanks to GPRS class 8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vide content for the phone's Java platfor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advantage of the phone's Java platform to run vivid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content from the operator portal via WAP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more supporting fea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4k colour display with 101 x 80 pix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 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7297560" y="3825720"/>
            <a:ext cx="1640160" cy="212436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Customer Benefi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E42D0-9F3A-4A80-B80F-470FA562D9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2000" y="412920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2000" y="243216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2000" y="1165320"/>
            <a:ext cx="1981080" cy="760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6945480" y="1434960"/>
            <a:ext cx="2189160" cy="4283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Simply Colourfu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arget Grou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22440" y="1413000"/>
            <a:ext cx="429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try leve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4360" y="1413000"/>
            <a:ext cx="1728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roduct Seg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2440" y="2556000"/>
            <a:ext cx="429120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emale = Male (50:50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r all age group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ow incom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Focus on mainstream functiona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4360" y="255600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cio-demographic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2440" y="4286160"/>
            <a:ext cx="429120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most important things in my life are my family &amp; a few close friend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y mobile must be easy &amp; intuitive to handl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mostly use my phone for calls &amp; messagin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 cannot afford an expensive phone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4360" y="4286160"/>
            <a:ext cx="17287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makes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m tic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3A7D7-B78C-46C4-9EBB-D009C62C04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Key Featu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6040" y="1163520"/>
            <a:ext cx="187992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757760" y="1163520"/>
            <a:ext cx="198612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2409840" y="1160640"/>
            <a:ext cx="1994040" cy="2398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7099200" y="1163520"/>
            <a:ext cx="1879560" cy="2387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Key Featu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0600" y="3648240"/>
            <a:ext cx="366228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4k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lear structured keypa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t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igh-value finish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M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Voice record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CA297-8306-40E2-A713-03F9E475C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Highligh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4360" y="4344840"/>
            <a:ext cx="30225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citing on-board games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gic Pictur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2" marL="35892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tack Attack Juni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Download of new Jav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8000" y="4344840"/>
            <a:ext cx="2782800" cy="7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QuickPic camera with 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8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256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0564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55840" y="3807000"/>
            <a:ext cx="1745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2000" y="1165320"/>
            <a:ext cx="8818560" cy="4332240"/>
            <a:chOff x="162000" y="1165320"/>
            <a:chExt cx="8818560" cy="4332240"/>
          </a:xfrm>
        </p:grpSpPr>
        <p:sp>
          <p:nvSpPr>
            <p:cNvPr id="130" name=""/>
            <p:cNvSpPr/>
            <p:nvPr/>
          </p:nvSpPr>
          <p:spPr>
            <a:xfrm>
              <a:off x="414360" y="1947960"/>
              <a:ext cx="3022560" cy="98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Up-to-date candy bar 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igh-quality finish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Clear structured keypa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ood feedback on key pressu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14000" y="1413000"/>
              <a:ext cx="63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esig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956920" y="1413000"/>
              <a:ext cx="1069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Technolog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58000" y="1947960"/>
              <a:ext cx="3022560" cy="171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Display: 101 x 80 pixel,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4k colou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Tri-band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hite display back-light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olyphonics (16 chord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Java, 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179280" indent="-177840">
                <a:lnSpc>
                  <a:spcPct val="100000"/>
                </a:lnSpc>
                <a:spcBef>
                  <a:spcPts val="187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7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574D3-89DD-4EFD-9E9E-59B4A9FA26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401920" y="3562200"/>
            <a:ext cx="1994040" cy="23878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Consumer oriented &amp; sophisticat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40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46600" y="3562200"/>
            <a:ext cx="198756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91280" y="3562200"/>
            <a:ext cx="1890720" cy="238788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94920" y="1413000"/>
            <a:ext cx="7428600" cy="18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verall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lear and straight forward design with large and precise keys 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orm Factor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tremely compact yet refined proportions and athletic surfaces</a:t>
            </a:r>
            <a:br>
              <a:rPr sz="1500"/>
            </a:b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aterial &amp; Finishing 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wo-tone metallic paint for a richer colour scheme, chrome detailing for a boost in valu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54080" y="3562200"/>
            <a:ext cx="1890720" cy="2387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7093080" y="3562200"/>
            <a:ext cx="1888920" cy="2387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746600" y="3562200"/>
            <a:ext cx="1987560" cy="238788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A0910-8E70-42E0-BCB2-5EDEFC716A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70560" y="1165320"/>
            <a:ext cx="8910000" cy="5414040"/>
            <a:chOff x="70560" y="1165320"/>
            <a:chExt cx="8910000" cy="5414040"/>
          </a:xfrm>
        </p:grpSpPr>
        <p:sp>
          <p:nvSpPr>
            <p:cNvPr id="152" name=""/>
            <p:cNvSpPr/>
            <p:nvPr/>
          </p:nvSpPr>
          <p:spPr>
            <a:xfrm>
              <a:off x="414360" y="1947960"/>
              <a:ext cx="3022560" cy="463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eight/Volume/Dimension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4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71.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cm</a:t>
              </a:r>
              <a:r>
                <a:rPr b="0" lang="en-GB" sz="1500" spc="-1" strike="noStrike" baseline="30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: 100 x 44 x 19 mm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tandby / Talkti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Up to 25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h /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30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min (standard battery)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Camer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ttachable QuickPic camera with flash accesso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ispla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1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x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pixel, 4k colours,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li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Batter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Li-Ion 700 mAh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200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560" y="1413000"/>
              <a:ext cx="1610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ardwar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05640" y="1165320"/>
              <a:ext cx="3274920" cy="722160"/>
            </a:xfrm>
            <a:prstGeom prst="rect">
              <a:avLst/>
            </a:prstGeom>
            <a:solidFill>
              <a:srgbClr val="afc2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13840" y="1413000"/>
              <a:ext cx="1492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93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oftwa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958000" y="1947960"/>
              <a:ext cx="3022560" cy="37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Messag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Picture messaging (EM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Extra-long SM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SMS to grou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MR record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MMS to E-mail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Data Transfe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GPRS multislot class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1500"/>
              </a:b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Internet Acces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1.2.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37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WAP 2.0 content provision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3567240" y="1568520"/>
              <a:ext cx="2008080" cy="39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Technolog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444C-0E68-4E73-8EA2-C94897708B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– portfolio EM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31880" y="208116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655640" y="2184480"/>
            <a:ext cx="1444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100320" y="2081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49080" y="218448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200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5280" y="2755800"/>
            <a:ext cx="663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31880" y="265284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70200" y="27558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00320" y="265284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25120" y="27558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89440" y="218448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31880" y="3224160"/>
            <a:ext cx="14684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88840" y="332748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31880" y="3795840"/>
            <a:ext cx="146844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752120" y="3898800"/>
            <a:ext cx="1248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k Top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C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181560" y="546264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05560" y="54608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81560" y="568332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05200" y="5681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6200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5120" y="2184480"/>
            <a:ext cx="7138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00320" y="3224160"/>
            <a:ext cx="14716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16600" y="332748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31880" y="436716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6640" y="45608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41880" y="2081160"/>
            <a:ext cx="147024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11080" y="2184480"/>
            <a:ext cx="118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QuickPic Camera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Q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12120" y="208116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93000" y="218448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1880" y="492912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53000" y="512280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62480" y="5891040"/>
            <a:ext cx="203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512120" y="265284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15880" y="265284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5222880"/>
            <a:ext cx="250920" cy="14760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505560" y="5221440"/>
            <a:ext cx="200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87560" y="141300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99560" y="152712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26520" y="141300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700880" y="141300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31640" y="152712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2280" y="141300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-44640" y="1165320"/>
            <a:ext cx="9026640" cy="788760"/>
            <a:chOff x="-44640" y="1165320"/>
            <a:chExt cx="9026640" cy="788760"/>
          </a:xfrm>
        </p:grpSpPr>
        <p:sp>
          <p:nvSpPr>
            <p:cNvPr id="217" name=""/>
            <p:cNvSpPr/>
            <p:nvPr/>
          </p:nvSpPr>
          <p:spPr>
            <a:xfrm>
              <a:off x="16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-44640" y="1387440"/>
              <a:ext cx="12722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Fash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&amp; Car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3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446120" y="1476360"/>
              <a:ext cx="12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Ener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00320" y="1165320"/>
              <a:ext cx="14716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41880" y="1165320"/>
              <a:ext cx="146844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12120" y="1165320"/>
              <a:ext cx="1469880" cy="788760"/>
            </a:xfrm>
            <a:prstGeom prst="rect">
              <a:avLst/>
            </a:prstGeom>
            <a:solidFill>
              <a:srgbClr val="42677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31760" y="1501920"/>
              <a:ext cx="111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Off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660760" y="1569960"/>
              <a:ext cx="91800" cy="179640"/>
            </a:xfrm>
            <a:custGeom>
              <a:avLst/>
              <a:gdLst/>
              <a:ahLst/>
              <a:rect l="l" t="t" r="r" b="b"/>
              <a:pathLst>
                <a:path w="424" h="831">
                  <a:moveTo>
                    <a:pt x="88" y="689"/>
                  </a:moveTo>
                  <a:lnTo>
                    <a:pt x="235" y="689"/>
                  </a:lnTo>
                  <a:lnTo>
                    <a:pt x="239" y="689"/>
                  </a:lnTo>
                  <a:lnTo>
                    <a:pt x="242" y="688"/>
                  </a:lnTo>
                  <a:lnTo>
                    <a:pt x="245" y="686"/>
                  </a:lnTo>
                  <a:lnTo>
                    <a:pt x="248" y="683"/>
                  </a:lnTo>
                  <a:lnTo>
                    <a:pt x="253" y="677"/>
                  </a:lnTo>
                  <a:lnTo>
                    <a:pt x="253" y="674"/>
                  </a:lnTo>
                  <a:lnTo>
                    <a:pt x="254" y="671"/>
                  </a:lnTo>
                  <a:lnTo>
                    <a:pt x="253" y="665"/>
                  </a:lnTo>
                  <a:lnTo>
                    <a:pt x="253" y="661"/>
                  </a:lnTo>
                  <a:lnTo>
                    <a:pt x="251" y="658"/>
                  </a:lnTo>
                  <a:lnTo>
                    <a:pt x="248" y="655"/>
                  </a:lnTo>
                  <a:lnTo>
                    <a:pt x="245" y="652"/>
                  </a:lnTo>
                  <a:lnTo>
                    <a:pt x="242" y="650"/>
                  </a:lnTo>
                  <a:lnTo>
                    <a:pt x="239" y="649"/>
                  </a:lnTo>
                  <a:lnTo>
                    <a:pt x="235" y="649"/>
                  </a:lnTo>
                  <a:lnTo>
                    <a:pt x="88" y="649"/>
                  </a:lnTo>
                  <a:lnTo>
                    <a:pt x="83" y="649"/>
                  </a:lnTo>
                  <a:lnTo>
                    <a:pt x="80" y="650"/>
                  </a:lnTo>
                  <a:lnTo>
                    <a:pt x="77" y="652"/>
                  </a:lnTo>
                  <a:lnTo>
                    <a:pt x="74" y="655"/>
                  </a:lnTo>
                  <a:lnTo>
                    <a:pt x="70" y="661"/>
                  </a:lnTo>
                  <a:lnTo>
                    <a:pt x="70" y="664"/>
                  </a:lnTo>
                  <a:lnTo>
                    <a:pt x="68" y="667"/>
                  </a:lnTo>
                  <a:lnTo>
                    <a:pt x="70" y="673"/>
                  </a:lnTo>
                  <a:lnTo>
                    <a:pt x="70" y="676"/>
                  </a:lnTo>
                  <a:lnTo>
                    <a:pt x="71" y="680"/>
                  </a:lnTo>
                  <a:lnTo>
                    <a:pt x="74" y="683"/>
                  </a:lnTo>
                  <a:lnTo>
                    <a:pt x="77" y="686"/>
                  </a:lnTo>
                  <a:lnTo>
                    <a:pt x="80" y="688"/>
                  </a:lnTo>
                  <a:lnTo>
                    <a:pt x="83" y="689"/>
                  </a:lnTo>
                  <a:lnTo>
                    <a:pt x="88" y="689"/>
                  </a:lnTo>
                  <a:close/>
                  <a:moveTo>
                    <a:pt x="419" y="0"/>
                  </a:moveTo>
                  <a:lnTo>
                    <a:pt x="109" y="0"/>
                  </a:lnTo>
                  <a:lnTo>
                    <a:pt x="98" y="2"/>
                  </a:lnTo>
                  <a:lnTo>
                    <a:pt x="88" y="3"/>
                  </a:lnTo>
                  <a:lnTo>
                    <a:pt x="77" y="5"/>
                  </a:lnTo>
                  <a:lnTo>
                    <a:pt x="67" y="9"/>
                  </a:lnTo>
                  <a:lnTo>
                    <a:pt x="58" y="14"/>
                  </a:lnTo>
                  <a:lnTo>
                    <a:pt x="49" y="20"/>
                  </a:lnTo>
                  <a:lnTo>
                    <a:pt x="40" y="26"/>
                  </a:lnTo>
                  <a:lnTo>
                    <a:pt x="32" y="33"/>
                  </a:lnTo>
                  <a:lnTo>
                    <a:pt x="24" y="41"/>
                  </a:lnTo>
                  <a:lnTo>
                    <a:pt x="18" y="48"/>
                  </a:lnTo>
                  <a:lnTo>
                    <a:pt x="14" y="57"/>
                  </a:lnTo>
                  <a:lnTo>
                    <a:pt x="9" y="68"/>
                  </a:lnTo>
                  <a:lnTo>
                    <a:pt x="5" y="77"/>
                  </a:lnTo>
                  <a:lnTo>
                    <a:pt x="2" y="87"/>
                  </a:lnTo>
                  <a:lnTo>
                    <a:pt x="0" y="99"/>
                  </a:lnTo>
                  <a:lnTo>
                    <a:pt x="0" y="110"/>
                  </a:lnTo>
                  <a:lnTo>
                    <a:pt x="0" y="722"/>
                  </a:lnTo>
                  <a:lnTo>
                    <a:pt x="0" y="733"/>
                  </a:lnTo>
                  <a:lnTo>
                    <a:pt x="2" y="743"/>
                  </a:lnTo>
                  <a:lnTo>
                    <a:pt x="5" y="754"/>
                  </a:lnTo>
                  <a:lnTo>
                    <a:pt x="9" y="764"/>
                  </a:lnTo>
                  <a:lnTo>
                    <a:pt x="14" y="773"/>
                  </a:lnTo>
                  <a:lnTo>
                    <a:pt x="18" y="782"/>
                  </a:lnTo>
                  <a:lnTo>
                    <a:pt x="24" y="792"/>
                  </a:lnTo>
                  <a:lnTo>
                    <a:pt x="32" y="799"/>
                  </a:lnTo>
                  <a:lnTo>
                    <a:pt x="40" y="807"/>
                  </a:lnTo>
                  <a:lnTo>
                    <a:pt x="49" y="813"/>
                  </a:lnTo>
                  <a:lnTo>
                    <a:pt x="58" y="819"/>
                  </a:lnTo>
                  <a:lnTo>
                    <a:pt x="67" y="823"/>
                  </a:lnTo>
                  <a:lnTo>
                    <a:pt x="77" y="826"/>
                  </a:lnTo>
                  <a:lnTo>
                    <a:pt x="88" y="829"/>
                  </a:lnTo>
                  <a:lnTo>
                    <a:pt x="98" y="831"/>
                  </a:lnTo>
                  <a:lnTo>
                    <a:pt x="109" y="831"/>
                  </a:lnTo>
                  <a:lnTo>
                    <a:pt x="419" y="831"/>
                  </a:lnTo>
                  <a:lnTo>
                    <a:pt x="419" y="822"/>
                  </a:lnTo>
                  <a:lnTo>
                    <a:pt x="421" y="796"/>
                  </a:lnTo>
                  <a:lnTo>
                    <a:pt x="422" y="703"/>
                  </a:lnTo>
                  <a:lnTo>
                    <a:pt x="424" y="570"/>
                  </a:lnTo>
                  <a:lnTo>
                    <a:pt x="424" y="418"/>
                  </a:lnTo>
                  <a:lnTo>
                    <a:pt x="424" y="266"/>
                  </a:lnTo>
                  <a:lnTo>
                    <a:pt x="422" y="133"/>
                  </a:lnTo>
                  <a:lnTo>
                    <a:pt x="422" y="80"/>
                  </a:lnTo>
                  <a:lnTo>
                    <a:pt x="421" y="38"/>
                  </a:lnTo>
                  <a:lnTo>
                    <a:pt x="419" y="11"/>
                  </a:lnTo>
                  <a:lnTo>
                    <a:pt x="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0760" y="1481040"/>
              <a:ext cx="25200" cy="23760"/>
            </a:xfrm>
            <a:custGeom>
              <a:avLst/>
              <a:gdLst/>
              <a:ahLst/>
              <a:rect l="l" t="t" r="r" b="b"/>
              <a:pathLst>
                <a:path w="119" h="115">
                  <a:moveTo>
                    <a:pt x="119" y="18"/>
                  </a:moveTo>
                  <a:lnTo>
                    <a:pt x="99" y="19"/>
                  </a:lnTo>
                  <a:lnTo>
                    <a:pt x="80" y="27"/>
                  </a:lnTo>
                  <a:lnTo>
                    <a:pt x="63" y="34"/>
                  </a:lnTo>
                  <a:lnTo>
                    <a:pt x="48" y="48"/>
                  </a:lnTo>
                  <a:lnTo>
                    <a:pt x="36" y="61"/>
                  </a:lnTo>
                  <a:lnTo>
                    <a:pt x="27" y="79"/>
                  </a:lnTo>
                  <a:lnTo>
                    <a:pt x="21" y="96"/>
                  </a:lnTo>
                  <a:lnTo>
                    <a:pt x="19" y="115"/>
                  </a:lnTo>
                  <a:lnTo>
                    <a:pt x="0" y="114"/>
                  </a:lnTo>
                  <a:lnTo>
                    <a:pt x="1" y="93"/>
                  </a:lnTo>
                  <a:lnTo>
                    <a:pt x="9" y="72"/>
                  </a:lnTo>
                  <a:lnTo>
                    <a:pt x="19" y="51"/>
                  </a:lnTo>
                  <a:lnTo>
                    <a:pt x="35" y="33"/>
                  </a:lnTo>
                  <a:lnTo>
                    <a:pt x="51" y="19"/>
                  </a:lnTo>
                  <a:lnTo>
                    <a:pt x="71" y="10"/>
                  </a:lnTo>
                  <a:lnTo>
                    <a:pt x="93" y="1"/>
                  </a:lnTo>
                  <a:lnTo>
                    <a:pt x="116" y="0"/>
                  </a:lnTo>
                  <a:lnTo>
                    <a:pt x="119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660760" y="1504800"/>
              <a:ext cx="4680" cy="216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660760" y="1720800"/>
              <a:ext cx="25200" cy="25560"/>
            </a:xfrm>
            <a:custGeom>
              <a:avLst/>
              <a:gdLst/>
              <a:ahLst/>
              <a:rect l="l" t="t" r="r" b="b"/>
              <a:pathLst>
                <a:path w="117" h="119">
                  <a:moveTo>
                    <a:pt x="19" y="0"/>
                  </a:moveTo>
                  <a:lnTo>
                    <a:pt x="21" y="21"/>
                  </a:lnTo>
                  <a:lnTo>
                    <a:pt x="27" y="39"/>
                  </a:lnTo>
                  <a:lnTo>
                    <a:pt x="36" y="56"/>
                  </a:lnTo>
                  <a:lnTo>
                    <a:pt x="48" y="70"/>
                  </a:lnTo>
                  <a:lnTo>
                    <a:pt x="62" y="83"/>
                  </a:lnTo>
                  <a:lnTo>
                    <a:pt x="78" y="91"/>
                  </a:lnTo>
                  <a:lnTo>
                    <a:pt x="98" y="97"/>
                  </a:lnTo>
                  <a:lnTo>
                    <a:pt x="117" y="100"/>
                  </a:lnTo>
                  <a:lnTo>
                    <a:pt x="116" y="119"/>
                  </a:lnTo>
                  <a:lnTo>
                    <a:pt x="95" y="116"/>
                  </a:lnTo>
                  <a:lnTo>
                    <a:pt x="71" y="109"/>
                  </a:lnTo>
                  <a:lnTo>
                    <a:pt x="51" y="100"/>
                  </a:lnTo>
                  <a:lnTo>
                    <a:pt x="35" y="85"/>
                  </a:lnTo>
                  <a:lnTo>
                    <a:pt x="19" y="67"/>
                  </a:lnTo>
                  <a:lnTo>
                    <a:pt x="9" y="47"/>
                  </a:lnTo>
                  <a:lnTo>
                    <a:pt x="1" y="24"/>
                  </a:lnTo>
                  <a:lnTo>
                    <a:pt x="0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42677e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60760" y="1720800"/>
              <a:ext cx="4680" cy="36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1" y="0"/>
                  </a:moveTo>
                  <a:lnTo>
                    <a:pt x="0" y="2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744640" y="1535040"/>
              <a:ext cx="6480" cy="208080"/>
            </a:xfrm>
            <a:custGeom>
              <a:avLst/>
              <a:gdLst/>
              <a:ahLst/>
              <a:rect l="l" t="t" r="r" b="b"/>
              <a:pathLst>
                <a:path w="27" h="972">
                  <a:moveTo>
                    <a:pt x="8" y="972"/>
                  </a:moveTo>
                  <a:lnTo>
                    <a:pt x="8" y="931"/>
                  </a:lnTo>
                  <a:lnTo>
                    <a:pt x="8" y="823"/>
                  </a:lnTo>
                  <a:lnTo>
                    <a:pt x="6" y="487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6" y="487"/>
                  </a:lnTo>
                  <a:lnTo>
                    <a:pt x="27" y="823"/>
                  </a:lnTo>
                  <a:lnTo>
                    <a:pt x="27" y="931"/>
                  </a:lnTo>
                  <a:lnTo>
                    <a:pt x="26" y="972"/>
                  </a:lnTo>
                  <a:lnTo>
                    <a:pt x="8" y="9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46440" y="1741320"/>
              <a:ext cx="4680" cy="504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19"/>
                  </a:moveTo>
                  <a:lnTo>
                    <a:pt x="18" y="19"/>
                  </a:lnTo>
                  <a:lnTo>
                    <a:pt x="18" y="9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44640" y="1509840"/>
              <a:ext cx="16200" cy="27000"/>
            </a:xfrm>
            <a:custGeom>
              <a:avLst/>
              <a:gdLst/>
              <a:ahLst/>
              <a:rect l="l" t="t" r="r" b="b"/>
              <a:pathLst>
                <a:path w="73" h="122">
                  <a:moveTo>
                    <a:pt x="0" y="111"/>
                  </a:moveTo>
                  <a:lnTo>
                    <a:pt x="16" y="122"/>
                  </a:lnTo>
                  <a:lnTo>
                    <a:pt x="73" y="10"/>
                  </a:lnTo>
                  <a:lnTo>
                    <a:pt x="57" y="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744640" y="1533600"/>
              <a:ext cx="5040" cy="324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0" y="5"/>
                  </a:moveTo>
                  <a:lnTo>
                    <a:pt x="0" y="3"/>
                  </a:lnTo>
                  <a:lnTo>
                    <a:pt x="2" y="0"/>
                  </a:lnTo>
                  <a:lnTo>
                    <a:pt x="18" y="11"/>
                  </a:lnTo>
                  <a:lnTo>
                    <a:pt x="2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759040" y="1496880"/>
              <a:ext cx="19080" cy="1440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54"/>
                  </a:moveTo>
                  <a:lnTo>
                    <a:pt x="10" y="70"/>
                  </a:lnTo>
                  <a:lnTo>
                    <a:pt x="95" y="16"/>
                  </a:lnTo>
                  <a:lnTo>
                    <a:pt x="84" y="0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757600" y="1509840"/>
              <a:ext cx="3240" cy="144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0" y="3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13" y="16"/>
                  </a:lnTo>
                  <a:lnTo>
                    <a:pt x="16" y="1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1640" y="1490760"/>
              <a:ext cx="7920" cy="792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6" y="35"/>
                  </a:moveTo>
                  <a:lnTo>
                    <a:pt x="15" y="24"/>
                  </a:lnTo>
                  <a:lnTo>
                    <a:pt x="15" y="24"/>
                  </a:lnTo>
                  <a:lnTo>
                    <a:pt x="7" y="21"/>
                  </a:lnTo>
                  <a:lnTo>
                    <a:pt x="0" y="14"/>
                  </a:lnTo>
                  <a:lnTo>
                    <a:pt x="13" y="0"/>
                  </a:lnTo>
                  <a:lnTo>
                    <a:pt x="21" y="8"/>
                  </a:lnTo>
                  <a:lnTo>
                    <a:pt x="27" y="9"/>
                  </a:lnTo>
                  <a:lnTo>
                    <a:pt x="33" y="18"/>
                  </a:lnTo>
                  <a:lnTo>
                    <a:pt x="34" y="32"/>
                  </a:lnTo>
                  <a:lnTo>
                    <a:pt x="16" y="3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76680" y="1496880"/>
              <a:ext cx="2880" cy="3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14" y="16"/>
                  </a:moveTo>
                  <a:lnTo>
                    <a:pt x="18" y="13"/>
                  </a:lnTo>
                  <a:lnTo>
                    <a:pt x="18" y="6"/>
                  </a:lnTo>
                  <a:lnTo>
                    <a:pt x="0" y="9"/>
                  </a:lnTo>
                  <a:lnTo>
                    <a:pt x="3" y="0"/>
                  </a:lnTo>
                  <a:lnTo>
                    <a:pt x="14" y="1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754360" y="1481040"/>
              <a:ext cx="20520" cy="14400"/>
            </a:xfrm>
            <a:custGeom>
              <a:avLst/>
              <a:gdLst/>
              <a:ahLst/>
              <a:rect l="l" t="t" r="r" b="b"/>
              <a:pathLst>
                <a:path w="95" h="66">
                  <a:moveTo>
                    <a:pt x="82" y="66"/>
                  </a:moveTo>
                  <a:lnTo>
                    <a:pt x="65" y="45"/>
                  </a:lnTo>
                  <a:lnTo>
                    <a:pt x="45" y="31"/>
                  </a:lnTo>
                  <a:lnTo>
                    <a:pt x="23" y="21"/>
                  </a:lnTo>
                  <a:lnTo>
                    <a:pt x="12" y="19"/>
                  </a:lnTo>
                  <a:lnTo>
                    <a:pt x="0" y="18"/>
                  </a:lnTo>
                  <a:lnTo>
                    <a:pt x="0" y="0"/>
                  </a:lnTo>
                  <a:lnTo>
                    <a:pt x="15" y="1"/>
                  </a:lnTo>
                  <a:lnTo>
                    <a:pt x="30" y="3"/>
                  </a:lnTo>
                  <a:lnTo>
                    <a:pt x="56" y="15"/>
                  </a:lnTo>
                  <a:lnTo>
                    <a:pt x="79" y="31"/>
                  </a:lnTo>
                  <a:lnTo>
                    <a:pt x="95" y="52"/>
                  </a:lnTo>
                  <a:lnTo>
                    <a:pt x="82" y="66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771640" y="1490760"/>
              <a:ext cx="3240" cy="4680"/>
            </a:xfrm>
            <a:custGeom>
              <a:avLst/>
              <a:gdLst/>
              <a:ahLst/>
              <a:rect l="l" t="t" r="r" b="b"/>
              <a:pathLst>
                <a:path w="13" h="14">
                  <a:moveTo>
                    <a:pt x="0" y="14"/>
                  </a:moveTo>
                  <a:lnTo>
                    <a:pt x="13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743200" y="1481040"/>
              <a:ext cx="111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3996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9" y="19"/>
                  </a:moveTo>
                  <a:lnTo>
                    <a:pt x="0" y="19"/>
                  </a:lnTo>
                  <a:lnTo>
                    <a:pt x="0" y="9"/>
                  </a:lnTo>
                  <a:lnTo>
                    <a:pt x="20" y="9"/>
                  </a:lnTo>
                  <a:lnTo>
                    <a:pt x="9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0600" y="1457280"/>
              <a:ext cx="14040" cy="1260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48" y="65"/>
                  </a:moveTo>
                  <a:lnTo>
                    <a:pt x="47" y="54"/>
                  </a:lnTo>
                  <a:lnTo>
                    <a:pt x="44" y="47"/>
                  </a:lnTo>
                  <a:lnTo>
                    <a:pt x="41" y="39"/>
                  </a:lnTo>
                  <a:lnTo>
                    <a:pt x="36" y="32"/>
                  </a:lnTo>
                  <a:lnTo>
                    <a:pt x="20" y="23"/>
                  </a:lnTo>
                  <a:lnTo>
                    <a:pt x="0" y="18"/>
                  </a:lnTo>
                  <a:lnTo>
                    <a:pt x="5" y="0"/>
                  </a:lnTo>
                  <a:lnTo>
                    <a:pt x="27" y="5"/>
                  </a:lnTo>
                  <a:lnTo>
                    <a:pt x="48" y="17"/>
                  </a:lnTo>
                  <a:lnTo>
                    <a:pt x="56" y="27"/>
                  </a:lnTo>
                  <a:lnTo>
                    <a:pt x="60" y="38"/>
                  </a:lnTo>
                  <a:lnTo>
                    <a:pt x="65" y="50"/>
                  </a:lnTo>
                  <a:lnTo>
                    <a:pt x="66" y="62"/>
                  </a:lnTo>
                  <a:lnTo>
                    <a:pt x="48" y="65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996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3">
                  <a:moveTo>
                    <a:pt x="20" y="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0" y="1"/>
                  </a:lnTo>
                  <a:lnTo>
                    <a:pt x="20" y="1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09720" y="1457280"/>
              <a:ext cx="2232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730600" y="1457280"/>
              <a:ext cx="1440" cy="3240"/>
            </a:xfrm>
            <a:custGeom>
              <a:avLst/>
              <a:gdLst/>
              <a:ahLst/>
              <a:rect l="l" t="t" r="r" b="b"/>
              <a:pathLst>
                <a:path w="5" h="20">
                  <a:moveTo>
                    <a:pt x="5" y="0"/>
                  </a:moveTo>
                  <a:lnTo>
                    <a:pt x="3" y="0"/>
                  </a:lnTo>
                  <a:lnTo>
                    <a:pt x="3" y="20"/>
                  </a:lnTo>
                  <a:lnTo>
                    <a:pt x="0" y="18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695680" y="1457280"/>
              <a:ext cx="15840" cy="12600"/>
            </a:xfrm>
            <a:custGeom>
              <a:avLst/>
              <a:gdLst/>
              <a:ahLst/>
              <a:rect l="l" t="t" r="r" b="b"/>
              <a:pathLst>
                <a:path w="68" h="63">
                  <a:moveTo>
                    <a:pt x="68" y="18"/>
                  </a:moveTo>
                  <a:lnTo>
                    <a:pt x="47" y="23"/>
                  </a:lnTo>
                  <a:lnTo>
                    <a:pt x="41" y="26"/>
                  </a:lnTo>
                  <a:lnTo>
                    <a:pt x="35" y="30"/>
                  </a:lnTo>
                  <a:lnTo>
                    <a:pt x="23" y="48"/>
                  </a:lnTo>
                  <a:lnTo>
                    <a:pt x="21" y="53"/>
                  </a:lnTo>
                  <a:lnTo>
                    <a:pt x="20" y="63"/>
                  </a:lnTo>
                  <a:lnTo>
                    <a:pt x="0" y="62"/>
                  </a:lnTo>
                  <a:lnTo>
                    <a:pt x="2" y="50"/>
                  </a:lnTo>
                  <a:lnTo>
                    <a:pt x="6" y="38"/>
                  </a:lnTo>
                  <a:lnTo>
                    <a:pt x="20" y="18"/>
                  </a:lnTo>
                  <a:lnTo>
                    <a:pt x="29" y="11"/>
                  </a:lnTo>
                  <a:lnTo>
                    <a:pt x="39" y="5"/>
                  </a:lnTo>
                  <a:lnTo>
                    <a:pt x="62" y="0"/>
                  </a:lnTo>
                  <a:lnTo>
                    <a:pt x="68" y="18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709720" y="1457280"/>
              <a:ext cx="1800" cy="3240"/>
            </a:xfrm>
            <a:custGeom>
              <a:avLst/>
              <a:gdLst/>
              <a:ahLst/>
              <a:rect l="l" t="t" r="r" b="b"/>
              <a:pathLst>
                <a:path w="6" h="20">
                  <a:moveTo>
                    <a:pt x="3" y="0"/>
                  </a:moveTo>
                  <a:lnTo>
                    <a:pt x="0" y="0"/>
                  </a:lnTo>
                  <a:lnTo>
                    <a:pt x="6" y="18"/>
                  </a:lnTo>
                  <a:lnTo>
                    <a:pt x="3" y="2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95680" y="1469880"/>
              <a:ext cx="46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1469880"/>
              <a:ext cx="4680" cy="36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0" y="1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85960" y="1481040"/>
              <a:ext cx="12960" cy="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695680" y="1481040"/>
              <a:ext cx="4680" cy="3240"/>
            </a:xfrm>
            <a:custGeom>
              <a:avLst/>
              <a:gdLst/>
              <a:ahLst/>
              <a:rect l="l" t="t" r="r" b="b"/>
              <a:pathLst>
                <a:path w="20" h="19">
                  <a:moveTo>
                    <a:pt x="20" y="9"/>
                  </a:moveTo>
                  <a:lnTo>
                    <a:pt x="20" y="19"/>
                  </a:lnTo>
                  <a:lnTo>
                    <a:pt x="11" y="19"/>
                  </a:lnTo>
                  <a:lnTo>
                    <a:pt x="11" y="0"/>
                  </a:lnTo>
                  <a:lnTo>
                    <a:pt x="0" y="9"/>
                  </a:lnTo>
                  <a:lnTo>
                    <a:pt x="20" y="9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685960" y="1481040"/>
              <a:ext cx="360" cy="3240"/>
            </a:xfrm>
            <a:custGeom>
              <a:avLst/>
              <a:gdLst/>
              <a:ahLst/>
              <a:rect l="l" t="t" r="r" b="b"/>
              <a:pathLst>
                <a:path w="3" h="19">
                  <a:moveTo>
                    <a:pt x="1" y="0"/>
                  </a:moveTo>
                  <a:lnTo>
                    <a:pt x="0" y="0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fffff"/>
            </a:solidFill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676600" y="1506600"/>
              <a:ext cx="39600" cy="39600"/>
            </a:xfrm>
            <a:custGeom>
              <a:avLst/>
              <a:gdLst/>
              <a:ahLst/>
              <a:rect l="l" t="t" r="r" b="b"/>
              <a:pathLst>
                <a:path w="184" h="187">
                  <a:moveTo>
                    <a:pt x="112" y="169"/>
                  </a:moveTo>
                  <a:lnTo>
                    <a:pt x="112" y="115"/>
                  </a:lnTo>
                  <a:lnTo>
                    <a:pt x="166" y="115"/>
                  </a:lnTo>
                  <a:lnTo>
                    <a:pt x="169" y="113"/>
                  </a:lnTo>
                  <a:lnTo>
                    <a:pt x="174" y="113"/>
                  </a:lnTo>
                  <a:lnTo>
                    <a:pt x="177" y="110"/>
                  </a:lnTo>
                  <a:lnTo>
                    <a:pt x="180" y="109"/>
                  </a:lnTo>
                  <a:lnTo>
                    <a:pt x="183" y="103"/>
                  </a:lnTo>
                  <a:lnTo>
                    <a:pt x="184" y="100"/>
                  </a:lnTo>
                  <a:lnTo>
                    <a:pt x="184" y="95"/>
                  </a:lnTo>
                  <a:lnTo>
                    <a:pt x="184" y="92"/>
                  </a:lnTo>
                  <a:lnTo>
                    <a:pt x="184" y="88"/>
                  </a:lnTo>
                  <a:lnTo>
                    <a:pt x="183" y="85"/>
                  </a:lnTo>
                  <a:lnTo>
                    <a:pt x="181" y="82"/>
                  </a:lnTo>
                  <a:lnTo>
                    <a:pt x="180" y="79"/>
                  </a:lnTo>
                  <a:lnTo>
                    <a:pt x="174" y="76"/>
                  </a:lnTo>
                  <a:lnTo>
                    <a:pt x="169" y="74"/>
                  </a:lnTo>
                  <a:lnTo>
                    <a:pt x="166" y="74"/>
                  </a:lnTo>
                  <a:lnTo>
                    <a:pt x="112" y="74"/>
                  </a:lnTo>
                  <a:lnTo>
                    <a:pt x="112" y="20"/>
                  </a:lnTo>
                  <a:lnTo>
                    <a:pt x="112" y="15"/>
                  </a:lnTo>
                  <a:lnTo>
                    <a:pt x="111" y="12"/>
                  </a:lnTo>
                  <a:lnTo>
                    <a:pt x="109" y="9"/>
                  </a:lnTo>
                  <a:lnTo>
                    <a:pt x="106" y="6"/>
                  </a:lnTo>
                  <a:lnTo>
                    <a:pt x="102" y="2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4" y="2"/>
                  </a:lnTo>
                  <a:lnTo>
                    <a:pt x="81" y="3"/>
                  </a:lnTo>
                  <a:lnTo>
                    <a:pt x="78" y="6"/>
                  </a:lnTo>
                  <a:lnTo>
                    <a:pt x="73" y="12"/>
                  </a:lnTo>
                  <a:lnTo>
                    <a:pt x="73" y="15"/>
                  </a:lnTo>
                  <a:lnTo>
                    <a:pt x="72" y="20"/>
                  </a:lnTo>
                  <a:lnTo>
                    <a:pt x="72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0" y="76"/>
                  </a:lnTo>
                  <a:lnTo>
                    <a:pt x="7" y="77"/>
                  </a:lnTo>
                  <a:lnTo>
                    <a:pt x="4" y="79"/>
                  </a:lnTo>
                  <a:lnTo>
                    <a:pt x="1" y="85"/>
                  </a:lnTo>
                  <a:lnTo>
                    <a:pt x="0" y="88"/>
                  </a:lnTo>
                  <a:lnTo>
                    <a:pt x="0" y="92"/>
                  </a:lnTo>
                  <a:lnTo>
                    <a:pt x="0" y="95"/>
                  </a:lnTo>
                  <a:lnTo>
                    <a:pt x="0" y="100"/>
                  </a:lnTo>
                  <a:lnTo>
                    <a:pt x="1" y="103"/>
                  </a:lnTo>
                  <a:lnTo>
                    <a:pt x="3" y="106"/>
                  </a:lnTo>
                  <a:lnTo>
                    <a:pt x="4" y="109"/>
                  </a:lnTo>
                  <a:lnTo>
                    <a:pt x="10" y="113"/>
                  </a:lnTo>
                  <a:lnTo>
                    <a:pt x="15" y="113"/>
                  </a:lnTo>
                  <a:lnTo>
                    <a:pt x="18" y="115"/>
                  </a:lnTo>
                  <a:lnTo>
                    <a:pt x="72" y="115"/>
                  </a:lnTo>
                  <a:lnTo>
                    <a:pt x="72" y="169"/>
                  </a:lnTo>
                  <a:lnTo>
                    <a:pt x="73" y="172"/>
                  </a:lnTo>
                  <a:lnTo>
                    <a:pt x="73" y="176"/>
                  </a:lnTo>
                  <a:lnTo>
                    <a:pt x="75" y="179"/>
                  </a:lnTo>
                  <a:lnTo>
                    <a:pt x="78" y="181"/>
                  </a:lnTo>
                  <a:lnTo>
                    <a:pt x="84" y="185"/>
                  </a:lnTo>
                  <a:lnTo>
                    <a:pt x="87" y="187"/>
                  </a:lnTo>
                  <a:lnTo>
                    <a:pt x="91" y="187"/>
                  </a:lnTo>
                  <a:lnTo>
                    <a:pt x="94" y="187"/>
                  </a:lnTo>
                  <a:lnTo>
                    <a:pt x="97" y="187"/>
                  </a:lnTo>
                  <a:lnTo>
                    <a:pt x="102" y="185"/>
                  </a:lnTo>
                  <a:lnTo>
                    <a:pt x="105" y="184"/>
                  </a:lnTo>
                  <a:lnTo>
                    <a:pt x="106" y="181"/>
                  </a:lnTo>
                  <a:lnTo>
                    <a:pt x="111" y="176"/>
                  </a:lnTo>
                  <a:lnTo>
                    <a:pt x="112" y="172"/>
                  </a:lnTo>
                  <a:lnTo>
                    <a:pt x="112" y="16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1760" y="1469880"/>
              <a:ext cx="2880" cy="129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52560" y="1488960"/>
              <a:ext cx="149400" cy="293760"/>
            </a:xfrm>
            <a:custGeom>
              <a:avLst/>
              <a:gdLst>
                <a:gd name="textAreaLeft" fmla="*/ 13680 w 149400"/>
                <a:gd name="textAreaRight" fmla="*/ 135720 w 14940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421">
                  <a:moveTo>
                    <a:pt x="6840" y="0"/>
                  </a:moveTo>
                  <a:arcTo wR="6840" hR="6840" stAng="16200000" swAng="-5400000"/>
                  <a:lnTo>
                    <a:pt x="0" y="35581"/>
                  </a:lnTo>
                  <a:arcTo wR="6840" hR="6840" stAng="10800000" swAng="-5400000"/>
                  <a:lnTo>
                    <a:pt x="14760" y="4242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762280" y="1496880"/>
              <a:ext cx="135000" cy="27324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744640" y="1479600"/>
              <a:ext cx="169920" cy="30960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779560" y="153360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857680" y="165564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85120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86848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822400" y="165564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1772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33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84600" y="16556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79560" y="16556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798640" y="16556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857680" y="1676520"/>
              <a:ext cx="1584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85120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6848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2400" y="1676520"/>
              <a:ext cx="1620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1772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833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784600" y="1676520"/>
              <a:ext cx="19080" cy="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79560" y="1676520"/>
              <a:ext cx="1116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8640" y="1676520"/>
              <a:ext cx="9720" cy="12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768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85120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684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22400" y="1698480"/>
              <a:ext cx="1620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1772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33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784600" y="169848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77956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798640" y="169848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85768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85120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84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22400" y="1720800"/>
              <a:ext cx="1620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1772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833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84600" y="172080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77956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98640" y="1720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22400" y="1620720"/>
              <a:ext cx="1620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13040" y="1620720"/>
              <a:ext cx="1908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830680" y="1620720"/>
              <a:ext cx="187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78460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781360" y="161928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79720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855880" y="1619280"/>
              <a:ext cx="20520" cy="172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68480" y="1619280"/>
              <a:ext cx="97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854440" y="162720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83544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167360" y="1557360"/>
              <a:ext cx="55440" cy="52200"/>
            </a:xfrm>
            <a:custGeom>
              <a:avLst/>
              <a:gdLst/>
              <a:ahLst/>
              <a:rect l="l" t="t" r="r" b="b"/>
              <a:pathLst>
                <a:path w="253" h="250">
                  <a:moveTo>
                    <a:pt x="237" y="126"/>
                  </a:moveTo>
                  <a:lnTo>
                    <a:pt x="118" y="15"/>
                  </a:lnTo>
                  <a:lnTo>
                    <a:pt x="100" y="5"/>
                  </a:lnTo>
                  <a:lnTo>
                    <a:pt x="90" y="2"/>
                  </a:lnTo>
                  <a:lnTo>
                    <a:pt x="79" y="0"/>
                  </a:lnTo>
                  <a:lnTo>
                    <a:pt x="58" y="6"/>
                  </a:lnTo>
                  <a:lnTo>
                    <a:pt x="42" y="18"/>
                  </a:lnTo>
                  <a:lnTo>
                    <a:pt x="15" y="47"/>
                  </a:lnTo>
                  <a:lnTo>
                    <a:pt x="3" y="66"/>
                  </a:lnTo>
                  <a:lnTo>
                    <a:pt x="1" y="75"/>
                  </a:lnTo>
                  <a:lnTo>
                    <a:pt x="0" y="86"/>
                  </a:lnTo>
                  <a:lnTo>
                    <a:pt x="4" y="107"/>
                  </a:lnTo>
                  <a:lnTo>
                    <a:pt x="18" y="125"/>
                  </a:lnTo>
                  <a:lnTo>
                    <a:pt x="135" y="235"/>
                  </a:lnTo>
                  <a:lnTo>
                    <a:pt x="154" y="247"/>
                  </a:lnTo>
                  <a:lnTo>
                    <a:pt x="163" y="250"/>
                  </a:lnTo>
                  <a:lnTo>
                    <a:pt x="174" y="250"/>
                  </a:lnTo>
                  <a:lnTo>
                    <a:pt x="195" y="245"/>
                  </a:lnTo>
                  <a:lnTo>
                    <a:pt x="213" y="233"/>
                  </a:lnTo>
                  <a:lnTo>
                    <a:pt x="238" y="203"/>
                  </a:lnTo>
                  <a:lnTo>
                    <a:pt x="250" y="185"/>
                  </a:lnTo>
                  <a:lnTo>
                    <a:pt x="253" y="175"/>
                  </a:lnTo>
                  <a:lnTo>
                    <a:pt x="253" y="164"/>
                  </a:lnTo>
                  <a:lnTo>
                    <a:pt x="249" y="145"/>
                  </a:lnTo>
                  <a:lnTo>
                    <a:pt x="237" y="1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325760" y="1803240"/>
              <a:ext cx="52560" cy="25560"/>
            </a:xfrm>
            <a:custGeom>
              <a:avLst/>
              <a:gdLst/>
              <a:ahLst/>
              <a:rect l="l" t="t" r="r" b="b"/>
              <a:pathLst>
                <a:path w="244" h="109">
                  <a:moveTo>
                    <a:pt x="244" y="4"/>
                  </a:moveTo>
                  <a:lnTo>
                    <a:pt x="236" y="35"/>
                  </a:lnTo>
                  <a:lnTo>
                    <a:pt x="229" y="52"/>
                  </a:lnTo>
                  <a:lnTo>
                    <a:pt x="220" y="62"/>
                  </a:lnTo>
                  <a:lnTo>
                    <a:pt x="209" y="74"/>
                  </a:lnTo>
                  <a:lnTo>
                    <a:pt x="197" y="82"/>
                  </a:lnTo>
                  <a:lnTo>
                    <a:pt x="169" y="97"/>
                  </a:lnTo>
                  <a:lnTo>
                    <a:pt x="134" y="104"/>
                  </a:lnTo>
                  <a:lnTo>
                    <a:pt x="97" y="109"/>
                  </a:lnTo>
                  <a:lnTo>
                    <a:pt x="50" y="109"/>
                  </a:lnTo>
                  <a:lnTo>
                    <a:pt x="0" y="107"/>
                  </a:lnTo>
                  <a:lnTo>
                    <a:pt x="0" y="94"/>
                  </a:lnTo>
                  <a:lnTo>
                    <a:pt x="50" y="94"/>
                  </a:lnTo>
                  <a:lnTo>
                    <a:pt x="94" y="95"/>
                  </a:lnTo>
                  <a:lnTo>
                    <a:pt x="130" y="91"/>
                  </a:lnTo>
                  <a:lnTo>
                    <a:pt x="163" y="83"/>
                  </a:lnTo>
                  <a:lnTo>
                    <a:pt x="188" y="70"/>
                  </a:lnTo>
                  <a:lnTo>
                    <a:pt x="199" y="64"/>
                  </a:lnTo>
                  <a:lnTo>
                    <a:pt x="208" y="53"/>
                  </a:lnTo>
                  <a:lnTo>
                    <a:pt x="217" y="43"/>
                  </a:lnTo>
                  <a:lnTo>
                    <a:pt x="221" y="32"/>
                  </a:lnTo>
                  <a:lnTo>
                    <a:pt x="229" y="0"/>
                  </a:lnTo>
                  <a:lnTo>
                    <a:pt x="244" y="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154400" y="1463760"/>
              <a:ext cx="4680" cy="61920"/>
            </a:xfrm>
            <a:custGeom>
              <a:avLst/>
              <a:gdLst/>
              <a:ahLst/>
              <a:rect l="l" t="t" r="r" b="b"/>
              <a:pathLst>
                <a:path w="24" h="288">
                  <a:moveTo>
                    <a:pt x="15" y="0"/>
                  </a:moveTo>
                  <a:lnTo>
                    <a:pt x="16" y="77"/>
                  </a:lnTo>
                  <a:lnTo>
                    <a:pt x="24" y="288"/>
                  </a:lnTo>
                  <a:lnTo>
                    <a:pt x="9" y="288"/>
                  </a:lnTo>
                  <a:lnTo>
                    <a:pt x="1" y="77"/>
                  </a:lnTo>
                  <a:lnTo>
                    <a:pt x="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156200" y="1525680"/>
              <a:ext cx="102960" cy="122040"/>
            </a:xfrm>
            <a:custGeom>
              <a:avLst/>
              <a:gdLst/>
              <a:ahLst/>
              <a:rect l="l" t="t" r="r" b="b"/>
              <a:pathLst>
                <a:path w="468" h="564">
                  <a:moveTo>
                    <a:pt x="15" y="0"/>
                  </a:moveTo>
                  <a:lnTo>
                    <a:pt x="18" y="15"/>
                  </a:lnTo>
                  <a:lnTo>
                    <a:pt x="19" y="31"/>
                  </a:lnTo>
                  <a:lnTo>
                    <a:pt x="34" y="64"/>
                  </a:lnTo>
                  <a:lnTo>
                    <a:pt x="54" y="97"/>
                  </a:lnTo>
                  <a:lnTo>
                    <a:pt x="79" y="131"/>
                  </a:lnTo>
                  <a:lnTo>
                    <a:pt x="145" y="200"/>
                  </a:lnTo>
                  <a:lnTo>
                    <a:pt x="223" y="269"/>
                  </a:lnTo>
                  <a:lnTo>
                    <a:pt x="301" y="340"/>
                  </a:lnTo>
                  <a:lnTo>
                    <a:pt x="339" y="374"/>
                  </a:lnTo>
                  <a:lnTo>
                    <a:pt x="375" y="410"/>
                  </a:lnTo>
                  <a:lnTo>
                    <a:pt x="408" y="446"/>
                  </a:lnTo>
                  <a:lnTo>
                    <a:pt x="434" y="483"/>
                  </a:lnTo>
                  <a:lnTo>
                    <a:pt x="455" y="520"/>
                  </a:lnTo>
                  <a:lnTo>
                    <a:pt x="468" y="558"/>
                  </a:lnTo>
                  <a:lnTo>
                    <a:pt x="455" y="564"/>
                  </a:lnTo>
                  <a:lnTo>
                    <a:pt x="441" y="526"/>
                  </a:lnTo>
                  <a:lnTo>
                    <a:pt x="422" y="492"/>
                  </a:lnTo>
                  <a:lnTo>
                    <a:pt x="396" y="456"/>
                  </a:lnTo>
                  <a:lnTo>
                    <a:pt x="365" y="421"/>
                  </a:lnTo>
                  <a:lnTo>
                    <a:pt x="328" y="385"/>
                  </a:lnTo>
                  <a:lnTo>
                    <a:pt x="291" y="350"/>
                  </a:lnTo>
                  <a:lnTo>
                    <a:pt x="213" y="279"/>
                  </a:lnTo>
                  <a:lnTo>
                    <a:pt x="135" y="210"/>
                  </a:lnTo>
                  <a:lnTo>
                    <a:pt x="69" y="141"/>
                  </a:lnTo>
                  <a:lnTo>
                    <a:pt x="42" y="106"/>
                  </a:lnTo>
                  <a:lnTo>
                    <a:pt x="21" y="70"/>
                  </a:lnTo>
                  <a:lnTo>
                    <a:pt x="6" y="37"/>
                  </a:lnTo>
                  <a:lnTo>
                    <a:pt x="3" y="18"/>
                  </a:lnTo>
                  <a:lnTo>
                    <a:pt x="0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56200" y="1525680"/>
              <a:ext cx="288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0" y="0"/>
                  </a:moveTo>
                  <a:lnTo>
                    <a:pt x="0" y="1"/>
                  </a:lnTo>
                  <a:lnTo>
                    <a:pt x="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255920" y="1647720"/>
              <a:ext cx="11160" cy="128520"/>
            </a:xfrm>
            <a:custGeom>
              <a:avLst/>
              <a:gdLst/>
              <a:ahLst/>
              <a:rect l="l" t="t" r="r" b="b"/>
              <a:pathLst>
                <a:path w="57" h="604">
                  <a:moveTo>
                    <a:pt x="15" y="0"/>
                  </a:moveTo>
                  <a:lnTo>
                    <a:pt x="31" y="77"/>
                  </a:lnTo>
                  <a:lnTo>
                    <a:pt x="40" y="161"/>
                  </a:lnTo>
                  <a:lnTo>
                    <a:pt x="46" y="247"/>
                  </a:lnTo>
                  <a:lnTo>
                    <a:pt x="48" y="330"/>
                  </a:lnTo>
                  <a:lnTo>
                    <a:pt x="49" y="485"/>
                  </a:lnTo>
                  <a:lnTo>
                    <a:pt x="51" y="549"/>
                  </a:lnTo>
                  <a:lnTo>
                    <a:pt x="57" y="602"/>
                  </a:lnTo>
                  <a:lnTo>
                    <a:pt x="42" y="604"/>
                  </a:lnTo>
                  <a:lnTo>
                    <a:pt x="36" y="551"/>
                  </a:lnTo>
                  <a:lnTo>
                    <a:pt x="34" y="485"/>
                  </a:lnTo>
                  <a:lnTo>
                    <a:pt x="33" y="330"/>
                  </a:lnTo>
                  <a:lnTo>
                    <a:pt x="31" y="247"/>
                  </a:lnTo>
                  <a:lnTo>
                    <a:pt x="25" y="163"/>
                  </a:lnTo>
                  <a:lnTo>
                    <a:pt x="16" y="80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255920" y="1646280"/>
              <a:ext cx="3240" cy="144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3" y="0"/>
                  </a:moveTo>
                  <a:lnTo>
                    <a:pt x="15" y="1"/>
                  </a:lnTo>
                  <a:lnTo>
                    <a:pt x="0" y="4"/>
                  </a:lnTo>
                  <a:lnTo>
                    <a:pt x="0" y="6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65640" y="1776240"/>
              <a:ext cx="60120" cy="51120"/>
            </a:xfrm>
            <a:custGeom>
              <a:avLst/>
              <a:gdLst/>
              <a:ahLst/>
              <a:rect l="l" t="t" r="r" b="b"/>
              <a:pathLst>
                <a:path w="285" h="236">
                  <a:moveTo>
                    <a:pt x="15" y="0"/>
                  </a:moveTo>
                  <a:lnTo>
                    <a:pt x="27" y="43"/>
                  </a:lnTo>
                  <a:lnTo>
                    <a:pt x="37" y="64"/>
                  </a:lnTo>
                  <a:lnTo>
                    <a:pt x="49" y="84"/>
                  </a:lnTo>
                  <a:lnTo>
                    <a:pt x="79" y="121"/>
                  </a:lnTo>
                  <a:lnTo>
                    <a:pt x="96" y="140"/>
                  </a:lnTo>
                  <a:lnTo>
                    <a:pt x="114" y="153"/>
                  </a:lnTo>
                  <a:lnTo>
                    <a:pt x="154" y="182"/>
                  </a:lnTo>
                  <a:lnTo>
                    <a:pt x="175" y="194"/>
                  </a:lnTo>
                  <a:lnTo>
                    <a:pt x="196" y="203"/>
                  </a:lnTo>
                  <a:lnTo>
                    <a:pt x="241" y="216"/>
                  </a:lnTo>
                  <a:lnTo>
                    <a:pt x="285" y="221"/>
                  </a:lnTo>
                  <a:lnTo>
                    <a:pt x="283" y="236"/>
                  </a:lnTo>
                  <a:lnTo>
                    <a:pt x="238" y="231"/>
                  </a:lnTo>
                  <a:lnTo>
                    <a:pt x="190" y="216"/>
                  </a:lnTo>
                  <a:lnTo>
                    <a:pt x="169" y="207"/>
                  </a:lnTo>
                  <a:lnTo>
                    <a:pt x="145" y="194"/>
                  </a:lnTo>
                  <a:lnTo>
                    <a:pt x="105" y="165"/>
                  </a:lnTo>
                  <a:lnTo>
                    <a:pt x="85" y="150"/>
                  </a:lnTo>
                  <a:lnTo>
                    <a:pt x="67" y="130"/>
                  </a:lnTo>
                  <a:lnTo>
                    <a:pt x="37" y="93"/>
                  </a:lnTo>
                  <a:lnTo>
                    <a:pt x="24" y="70"/>
                  </a:lnTo>
                  <a:lnTo>
                    <a:pt x="13" y="49"/>
                  </a:lnTo>
                  <a:lnTo>
                    <a:pt x="0" y="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5040" y="1459080"/>
              <a:ext cx="22320" cy="31680"/>
            </a:xfrm>
            <a:custGeom>
              <a:avLst/>
              <a:gdLst/>
              <a:ahLst/>
              <a:rect l="l" t="t" r="r" b="b"/>
              <a:pathLst>
                <a:path w="110" h="146">
                  <a:moveTo>
                    <a:pt x="23" y="0"/>
                  </a:moveTo>
                  <a:lnTo>
                    <a:pt x="89" y="0"/>
                  </a:lnTo>
                  <a:lnTo>
                    <a:pt x="96" y="2"/>
                  </a:lnTo>
                  <a:lnTo>
                    <a:pt x="104" y="6"/>
                  </a:lnTo>
                  <a:lnTo>
                    <a:pt x="108" y="14"/>
                  </a:lnTo>
                  <a:lnTo>
                    <a:pt x="110" y="23"/>
                  </a:lnTo>
                  <a:lnTo>
                    <a:pt x="110" y="124"/>
                  </a:lnTo>
                  <a:lnTo>
                    <a:pt x="108" y="133"/>
                  </a:lnTo>
                  <a:lnTo>
                    <a:pt x="104" y="140"/>
                  </a:lnTo>
                  <a:lnTo>
                    <a:pt x="96" y="145"/>
                  </a:lnTo>
                  <a:lnTo>
                    <a:pt x="89" y="146"/>
                  </a:lnTo>
                  <a:lnTo>
                    <a:pt x="23" y="146"/>
                  </a:lnTo>
                  <a:lnTo>
                    <a:pt x="14" y="145"/>
                  </a:lnTo>
                  <a:lnTo>
                    <a:pt x="8" y="140"/>
                  </a:lnTo>
                  <a:lnTo>
                    <a:pt x="3" y="133"/>
                  </a:lnTo>
                  <a:lnTo>
                    <a:pt x="0" y="124"/>
                  </a:lnTo>
                  <a:lnTo>
                    <a:pt x="0" y="23"/>
                  </a:lnTo>
                  <a:lnTo>
                    <a:pt x="3" y="14"/>
                  </a:lnTo>
                  <a:lnTo>
                    <a:pt x="8" y="6"/>
                  </a:lnTo>
                  <a:lnTo>
                    <a:pt x="14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52760" y="1789200"/>
              <a:ext cx="41400" cy="20520"/>
            </a:xfrm>
            <a:custGeom>
              <a:avLst/>
              <a:gdLst/>
              <a:ahLst/>
              <a:rect l="l" t="t" r="r" b="b"/>
              <a:pathLst>
                <a:path w="191" h="100">
                  <a:moveTo>
                    <a:pt x="0" y="29"/>
                  </a:moveTo>
                  <a:lnTo>
                    <a:pt x="0" y="69"/>
                  </a:lnTo>
                  <a:lnTo>
                    <a:pt x="3" y="82"/>
                  </a:lnTo>
                  <a:lnTo>
                    <a:pt x="9" y="91"/>
                  </a:lnTo>
                  <a:lnTo>
                    <a:pt x="20" y="97"/>
                  </a:lnTo>
                  <a:lnTo>
                    <a:pt x="32" y="100"/>
                  </a:lnTo>
                  <a:lnTo>
                    <a:pt x="159" y="100"/>
                  </a:lnTo>
                  <a:lnTo>
                    <a:pt x="171" y="97"/>
                  </a:lnTo>
                  <a:lnTo>
                    <a:pt x="182" y="91"/>
                  </a:lnTo>
                  <a:lnTo>
                    <a:pt x="189" y="82"/>
                  </a:lnTo>
                  <a:lnTo>
                    <a:pt x="191" y="69"/>
                  </a:lnTo>
                  <a:lnTo>
                    <a:pt x="191" y="29"/>
                  </a:lnTo>
                  <a:lnTo>
                    <a:pt x="188" y="18"/>
                  </a:lnTo>
                  <a:lnTo>
                    <a:pt x="182" y="9"/>
                  </a:lnTo>
                  <a:lnTo>
                    <a:pt x="171" y="2"/>
                  </a:lnTo>
                  <a:lnTo>
                    <a:pt x="159" y="0"/>
                  </a:lnTo>
                  <a:lnTo>
                    <a:pt x="32" y="0"/>
                  </a:lnTo>
                  <a:lnTo>
                    <a:pt x="20" y="2"/>
                  </a:lnTo>
                  <a:lnTo>
                    <a:pt x="9" y="9"/>
                  </a:lnTo>
                  <a:lnTo>
                    <a:pt x="3" y="1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3880" y="1415880"/>
              <a:ext cx="46080" cy="4608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46480" y="1428840"/>
              <a:ext cx="20880" cy="20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4284720" y="1471680"/>
              <a:ext cx="177840" cy="325440"/>
              <a:chOff x="4284720" y="1471680"/>
              <a:chExt cx="177840" cy="325440"/>
            </a:xfrm>
          </p:grpSpPr>
          <p:sp>
            <p:nvSpPr>
              <p:cNvPr id="321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303440" y="1490400"/>
                <a:ext cx="140040" cy="28656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84720" y="1471680"/>
                <a:ext cx="177840" cy="32544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321800" y="1528560"/>
                <a:ext cx="104400" cy="5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0208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9704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41504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365720" y="1657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606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378680" y="1657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27200" y="1657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32216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340880" y="1657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40208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39704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504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365720" y="1679400"/>
                <a:ext cx="1800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3606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78680" y="1679400"/>
                <a:ext cx="1080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4327200" y="1679400"/>
                <a:ext cx="18360" cy="1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432216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40880" y="1679400"/>
                <a:ext cx="10440" cy="10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40208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9704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41504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65720" y="170208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3606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378680" y="170208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327200" y="170208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2216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340880" y="170208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40208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9704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41504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365720" y="1724400"/>
                <a:ext cx="1800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606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378680" y="1724400"/>
                <a:ext cx="1080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4327200" y="1724400"/>
                <a:ext cx="18360" cy="1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32216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4340880" y="1724400"/>
                <a:ext cx="10440" cy="10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4365720" y="1620000"/>
                <a:ext cx="18000" cy="18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4356360" y="1620000"/>
                <a:ext cx="1872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74360" y="1620000"/>
                <a:ext cx="19440" cy="18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326120" y="1618200"/>
                <a:ext cx="20880" cy="1800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323600" y="1617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339440" y="1626840"/>
                <a:ext cx="1044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01720" y="1618200"/>
                <a:ext cx="20520" cy="1836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414680" y="1617840"/>
                <a:ext cx="1080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399200" y="1626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52912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865840" y="1671480"/>
              <a:ext cx="39600" cy="65160"/>
            </a:xfrm>
            <a:custGeom>
              <a:avLst/>
              <a:gdLst/>
              <a:ahLst/>
              <a:rect l="l" t="t" r="r" b="b"/>
              <a:pathLst>
                <a:path w="181" h="302">
                  <a:moveTo>
                    <a:pt x="0" y="0"/>
                  </a:moveTo>
                  <a:lnTo>
                    <a:pt x="19" y="1"/>
                  </a:lnTo>
                  <a:lnTo>
                    <a:pt x="37" y="3"/>
                  </a:lnTo>
                  <a:lnTo>
                    <a:pt x="54" y="7"/>
                  </a:lnTo>
                  <a:lnTo>
                    <a:pt x="70" y="12"/>
                  </a:lnTo>
                  <a:lnTo>
                    <a:pt x="87" y="19"/>
                  </a:lnTo>
                  <a:lnTo>
                    <a:pt x="102" y="27"/>
                  </a:lnTo>
                  <a:lnTo>
                    <a:pt x="115" y="34"/>
                  </a:lnTo>
                  <a:lnTo>
                    <a:pt x="129" y="45"/>
                  </a:lnTo>
                  <a:lnTo>
                    <a:pt x="141" y="55"/>
                  </a:lnTo>
                  <a:lnTo>
                    <a:pt x="151" y="67"/>
                  </a:lnTo>
                  <a:lnTo>
                    <a:pt x="160" y="79"/>
                  </a:lnTo>
                  <a:lnTo>
                    <a:pt x="168" y="93"/>
                  </a:lnTo>
                  <a:lnTo>
                    <a:pt x="171" y="99"/>
                  </a:lnTo>
                  <a:lnTo>
                    <a:pt x="174" y="106"/>
                  </a:lnTo>
                  <a:lnTo>
                    <a:pt x="178" y="120"/>
                  </a:lnTo>
                  <a:lnTo>
                    <a:pt x="180" y="128"/>
                  </a:lnTo>
                  <a:lnTo>
                    <a:pt x="181" y="135"/>
                  </a:lnTo>
                  <a:lnTo>
                    <a:pt x="181" y="143"/>
                  </a:lnTo>
                  <a:lnTo>
                    <a:pt x="181" y="152"/>
                  </a:lnTo>
                  <a:lnTo>
                    <a:pt x="181" y="167"/>
                  </a:lnTo>
                  <a:lnTo>
                    <a:pt x="178" y="182"/>
                  </a:lnTo>
                  <a:lnTo>
                    <a:pt x="175" y="189"/>
                  </a:lnTo>
                  <a:lnTo>
                    <a:pt x="174" y="195"/>
                  </a:lnTo>
                  <a:lnTo>
                    <a:pt x="168" y="210"/>
                  </a:lnTo>
                  <a:lnTo>
                    <a:pt x="160" y="222"/>
                  </a:lnTo>
                  <a:lnTo>
                    <a:pt x="150" y="236"/>
                  </a:lnTo>
                  <a:lnTo>
                    <a:pt x="139" y="246"/>
                  </a:lnTo>
                  <a:lnTo>
                    <a:pt x="129" y="257"/>
                  </a:lnTo>
                  <a:lnTo>
                    <a:pt x="115" y="267"/>
                  </a:lnTo>
                  <a:lnTo>
                    <a:pt x="102" y="276"/>
                  </a:lnTo>
                  <a:lnTo>
                    <a:pt x="87" y="284"/>
                  </a:lnTo>
                  <a:lnTo>
                    <a:pt x="70" y="290"/>
                  </a:lnTo>
                  <a:lnTo>
                    <a:pt x="63" y="293"/>
                  </a:lnTo>
                  <a:lnTo>
                    <a:pt x="54" y="295"/>
                  </a:lnTo>
                  <a:lnTo>
                    <a:pt x="36" y="299"/>
                  </a:lnTo>
                  <a:lnTo>
                    <a:pt x="18" y="301"/>
                  </a:lnTo>
                  <a:lnTo>
                    <a:pt x="0" y="302"/>
                  </a:lnTo>
                  <a:lnTo>
                    <a:pt x="0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3920" y="1671480"/>
              <a:ext cx="77760" cy="65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873760" y="1589040"/>
              <a:ext cx="92160" cy="120600"/>
            </a:xfrm>
            <a:custGeom>
              <a:avLst/>
              <a:gdLst/>
              <a:ahLst/>
              <a:rect l="l" t="t" r="r" b="b"/>
              <a:pathLst>
                <a:path w="426" h="560">
                  <a:moveTo>
                    <a:pt x="426" y="468"/>
                  </a:moveTo>
                  <a:lnTo>
                    <a:pt x="426" y="129"/>
                  </a:lnTo>
                  <a:lnTo>
                    <a:pt x="186" y="93"/>
                  </a:lnTo>
                  <a:lnTo>
                    <a:pt x="132" y="65"/>
                  </a:lnTo>
                  <a:lnTo>
                    <a:pt x="75" y="35"/>
                  </a:lnTo>
                  <a:lnTo>
                    <a:pt x="9" y="0"/>
                  </a:lnTo>
                  <a:lnTo>
                    <a:pt x="7" y="2"/>
                  </a:lnTo>
                  <a:lnTo>
                    <a:pt x="6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3" y="51"/>
                  </a:lnTo>
                  <a:lnTo>
                    <a:pt x="3" y="86"/>
                  </a:lnTo>
                  <a:lnTo>
                    <a:pt x="1" y="176"/>
                  </a:lnTo>
                  <a:lnTo>
                    <a:pt x="0" y="278"/>
                  </a:lnTo>
                  <a:lnTo>
                    <a:pt x="0" y="471"/>
                  </a:lnTo>
                  <a:lnTo>
                    <a:pt x="1" y="560"/>
                  </a:lnTo>
                  <a:lnTo>
                    <a:pt x="96" y="560"/>
                  </a:lnTo>
                  <a:lnTo>
                    <a:pt x="102" y="551"/>
                  </a:lnTo>
                  <a:lnTo>
                    <a:pt x="106" y="548"/>
                  </a:lnTo>
                  <a:lnTo>
                    <a:pt x="111" y="543"/>
                  </a:lnTo>
                  <a:lnTo>
                    <a:pt x="121" y="534"/>
                  </a:lnTo>
                  <a:lnTo>
                    <a:pt x="129" y="530"/>
                  </a:lnTo>
                  <a:lnTo>
                    <a:pt x="136" y="524"/>
                  </a:lnTo>
                  <a:lnTo>
                    <a:pt x="153" y="515"/>
                  </a:lnTo>
                  <a:lnTo>
                    <a:pt x="164" y="512"/>
                  </a:lnTo>
                  <a:lnTo>
                    <a:pt x="174" y="509"/>
                  </a:lnTo>
                  <a:lnTo>
                    <a:pt x="179" y="507"/>
                  </a:lnTo>
                  <a:lnTo>
                    <a:pt x="185" y="506"/>
                  </a:lnTo>
                  <a:lnTo>
                    <a:pt x="197" y="504"/>
                  </a:lnTo>
                  <a:lnTo>
                    <a:pt x="225" y="501"/>
                  </a:lnTo>
                  <a:lnTo>
                    <a:pt x="260" y="497"/>
                  </a:lnTo>
                  <a:lnTo>
                    <a:pt x="335" y="484"/>
                  </a:lnTo>
                  <a:lnTo>
                    <a:pt x="426" y="4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478480" y="1569960"/>
              <a:ext cx="236520" cy="139680"/>
            </a:xfrm>
            <a:custGeom>
              <a:avLst/>
              <a:gdLst/>
              <a:ahLst/>
              <a:rect l="l" t="t" r="r" b="b"/>
              <a:pathLst>
                <a:path w="1089" h="643">
                  <a:moveTo>
                    <a:pt x="1087" y="0"/>
                  </a:moveTo>
                  <a:lnTo>
                    <a:pt x="1060" y="3"/>
                  </a:lnTo>
                  <a:lnTo>
                    <a:pt x="1038" y="6"/>
                  </a:lnTo>
                  <a:lnTo>
                    <a:pt x="1020" y="11"/>
                  </a:lnTo>
                  <a:lnTo>
                    <a:pt x="1006" y="15"/>
                  </a:lnTo>
                  <a:lnTo>
                    <a:pt x="989" y="23"/>
                  </a:lnTo>
                  <a:lnTo>
                    <a:pt x="968" y="35"/>
                  </a:lnTo>
                  <a:lnTo>
                    <a:pt x="917" y="65"/>
                  </a:lnTo>
                  <a:lnTo>
                    <a:pt x="859" y="103"/>
                  </a:lnTo>
                  <a:lnTo>
                    <a:pt x="799" y="143"/>
                  </a:lnTo>
                  <a:lnTo>
                    <a:pt x="740" y="182"/>
                  </a:lnTo>
                  <a:lnTo>
                    <a:pt x="692" y="215"/>
                  </a:lnTo>
                  <a:lnTo>
                    <a:pt x="647" y="246"/>
                  </a:lnTo>
                  <a:lnTo>
                    <a:pt x="601" y="252"/>
                  </a:lnTo>
                  <a:lnTo>
                    <a:pt x="489" y="267"/>
                  </a:lnTo>
                  <a:lnTo>
                    <a:pt x="423" y="276"/>
                  </a:lnTo>
                  <a:lnTo>
                    <a:pt x="359" y="285"/>
                  </a:lnTo>
                  <a:lnTo>
                    <a:pt x="329" y="291"/>
                  </a:lnTo>
                  <a:lnTo>
                    <a:pt x="302" y="295"/>
                  </a:lnTo>
                  <a:lnTo>
                    <a:pt x="276" y="300"/>
                  </a:lnTo>
                  <a:lnTo>
                    <a:pt x="255" y="304"/>
                  </a:lnTo>
                  <a:lnTo>
                    <a:pt x="236" y="309"/>
                  </a:lnTo>
                  <a:lnTo>
                    <a:pt x="216" y="315"/>
                  </a:lnTo>
                  <a:lnTo>
                    <a:pt x="195" y="324"/>
                  </a:lnTo>
                  <a:lnTo>
                    <a:pt x="185" y="327"/>
                  </a:lnTo>
                  <a:lnTo>
                    <a:pt x="174" y="331"/>
                  </a:lnTo>
                  <a:lnTo>
                    <a:pt x="153" y="342"/>
                  </a:lnTo>
                  <a:lnTo>
                    <a:pt x="132" y="352"/>
                  </a:lnTo>
                  <a:lnTo>
                    <a:pt x="111" y="364"/>
                  </a:lnTo>
                  <a:lnTo>
                    <a:pt x="92" y="376"/>
                  </a:lnTo>
                  <a:lnTo>
                    <a:pt x="73" y="388"/>
                  </a:lnTo>
                  <a:lnTo>
                    <a:pt x="64" y="394"/>
                  </a:lnTo>
                  <a:lnTo>
                    <a:pt x="57" y="400"/>
                  </a:lnTo>
                  <a:lnTo>
                    <a:pt x="42" y="414"/>
                  </a:lnTo>
                  <a:lnTo>
                    <a:pt x="34" y="420"/>
                  </a:lnTo>
                  <a:lnTo>
                    <a:pt x="28" y="428"/>
                  </a:lnTo>
                  <a:lnTo>
                    <a:pt x="22" y="434"/>
                  </a:lnTo>
                  <a:lnTo>
                    <a:pt x="16" y="440"/>
                  </a:lnTo>
                  <a:lnTo>
                    <a:pt x="9" y="452"/>
                  </a:lnTo>
                  <a:lnTo>
                    <a:pt x="3" y="464"/>
                  </a:lnTo>
                  <a:lnTo>
                    <a:pt x="1" y="470"/>
                  </a:lnTo>
                  <a:lnTo>
                    <a:pt x="0" y="476"/>
                  </a:lnTo>
                  <a:lnTo>
                    <a:pt x="0" y="488"/>
                  </a:lnTo>
                  <a:lnTo>
                    <a:pt x="1" y="500"/>
                  </a:lnTo>
                  <a:lnTo>
                    <a:pt x="4" y="513"/>
                  </a:lnTo>
                  <a:lnTo>
                    <a:pt x="9" y="527"/>
                  </a:lnTo>
                  <a:lnTo>
                    <a:pt x="13" y="540"/>
                  </a:lnTo>
                  <a:lnTo>
                    <a:pt x="19" y="554"/>
                  </a:lnTo>
                  <a:lnTo>
                    <a:pt x="33" y="581"/>
                  </a:lnTo>
                  <a:lnTo>
                    <a:pt x="45" y="605"/>
                  </a:lnTo>
                  <a:lnTo>
                    <a:pt x="57" y="625"/>
                  </a:lnTo>
                  <a:lnTo>
                    <a:pt x="69" y="643"/>
                  </a:lnTo>
                  <a:lnTo>
                    <a:pt x="1086" y="643"/>
                  </a:lnTo>
                  <a:lnTo>
                    <a:pt x="1087" y="321"/>
                  </a:lnTo>
                  <a:lnTo>
                    <a:pt x="1089" y="101"/>
                  </a:lnTo>
                  <a:lnTo>
                    <a:pt x="108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724360" y="1508040"/>
              <a:ext cx="140040" cy="2872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05640" y="1488960"/>
              <a:ext cx="177480" cy="3254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42000" y="1546200"/>
              <a:ext cx="1047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823000" y="16747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818320" y="16747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835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7862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8160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79924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748480" y="16747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743440" y="16747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761080" y="16747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823000" y="169704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818320" y="169704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835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7862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8160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79924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48480" y="1697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43440" y="1697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761080" y="1697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823000" y="171936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818320" y="171936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835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7862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78160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79924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48480" y="1719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743440" y="1719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761080" y="1719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23000" y="17413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18320" y="17413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835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862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8160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79924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48480" y="174132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743440" y="174132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61080" y="17413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86280" y="1636560"/>
              <a:ext cx="1908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77692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796000" y="163656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746680" y="1635120"/>
              <a:ext cx="20880" cy="1908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74344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761080" y="164448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23000" y="1635120"/>
              <a:ext cx="20520" cy="1908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835600" y="16351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819760" y="16444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22960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537400" y="1457280"/>
              <a:ext cx="231840" cy="147600"/>
            </a:xfrm>
            <a:custGeom>
              <a:avLst/>
              <a:gdLst/>
              <a:ahLst/>
              <a:rect l="l" t="t" r="r" b="b"/>
              <a:pathLst>
                <a:path w="1064" h="680">
                  <a:moveTo>
                    <a:pt x="955" y="0"/>
                  </a:moveTo>
                  <a:lnTo>
                    <a:pt x="965" y="1"/>
                  </a:lnTo>
                  <a:lnTo>
                    <a:pt x="977" y="3"/>
                  </a:lnTo>
                  <a:lnTo>
                    <a:pt x="988" y="4"/>
                  </a:lnTo>
                  <a:lnTo>
                    <a:pt x="997" y="9"/>
                  </a:lnTo>
                  <a:lnTo>
                    <a:pt x="1007" y="13"/>
                  </a:lnTo>
                  <a:lnTo>
                    <a:pt x="1016" y="19"/>
                  </a:lnTo>
                  <a:lnTo>
                    <a:pt x="1024" y="25"/>
                  </a:lnTo>
                  <a:lnTo>
                    <a:pt x="1031" y="33"/>
                  </a:lnTo>
                  <a:lnTo>
                    <a:pt x="1039" y="40"/>
                  </a:lnTo>
                  <a:lnTo>
                    <a:pt x="1045" y="48"/>
                  </a:lnTo>
                  <a:lnTo>
                    <a:pt x="1051" y="57"/>
                  </a:lnTo>
                  <a:lnTo>
                    <a:pt x="1055" y="67"/>
                  </a:lnTo>
                  <a:lnTo>
                    <a:pt x="1058" y="76"/>
                  </a:lnTo>
                  <a:lnTo>
                    <a:pt x="1061" y="87"/>
                  </a:lnTo>
                  <a:lnTo>
                    <a:pt x="1063" y="99"/>
                  </a:lnTo>
                  <a:lnTo>
                    <a:pt x="1064" y="110"/>
                  </a:lnTo>
                  <a:lnTo>
                    <a:pt x="1064" y="195"/>
                  </a:lnTo>
                  <a:lnTo>
                    <a:pt x="959" y="195"/>
                  </a:lnTo>
                  <a:lnTo>
                    <a:pt x="958" y="95"/>
                  </a:lnTo>
                  <a:lnTo>
                    <a:pt x="91" y="95"/>
                  </a:lnTo>
                  <a:lnTo>
                    <a:pt x="91" y="592"/>
                  </a:lnTo>
                  <a:lnTo>
                    <a:pt x="697" y="592"/>
                  </a:lnTo>
                  <a:lnTo>
                    <a:pt x="697" y="680"/>
                  </a:lnTo>
                  <a:lnTo>
                    <a:pt x="108" y="680"/>
                  </a:lnTo>
                  <a:lnTo>
                    <a:pt x="97" y="680"/>
                  </a:lnTo>
                  <a:lnTo>
                    <a:pt x="87" y="678"/>
                  </a:lnTo>
                  <a:lnTo>
                    <a:pt x="76" y="675"/>
                  </a:lnTo>
                  <a:lnTo>
                    <a:pt x="66" y="671"/>
                  </a:lnTo>
                  <a:lnTo>
                    <a:pt x="57" y="666"/>
                  </a:lnTo>
                  <a:lnTo>
                    <a:pt x="48" y="662"/>
                  </a:lnTo>
                  <a:lnTo>
                    <a:pt x="39" y="656"/>
                  </a:lnTo>
                  <a:lnTo>
                    <a:pt x="31" y="648"/>
                  </a:lnTo>
                  <a:lnTo>
                    <a:pt x="24" y="641"/>
                  </a:lnTo>
                  <a:lnTo>
                    <a:pt x="18" y="632"/>
                  </a:lnTo>
                  <a:lnTo>
                    <a:pt x="12" y="623"/>
                  </a:lnTo>
                  <a:lnTo>
                    <a:pt x="7" y="614"/>
                  </a:lnTo>
                  <a:lnTo>
                    <a:pt x="4" y="603"/>
                  </a:lnTo>
                  <a:lnTo>
                    <a:pt x="1" y="592"/>
                  </a:lnTo>
                  <a:lnTo>
                    <a:pt x="0" y="582"/>
                  </a:lnTo>
                  <a:lnTo>
                    <a:pt x="0" y="570"/>
                  </a:lnTo>
                  <a:lnTo>
                    <a:pt x="0" y="110"/>
                  </a:lnTo>
                  <a:lnTo>
                    <a:pt x="0" y="99"/>
                  </a:lnTo>
                  <a:lnTo>
                    <a:pt x="1" y="87"/>
                  </a:lnTo>
                  <a:lnTo>
                    <a:pt x="4" y="76"/>
                  </a:lnTo>
                  <a:lnTo>
                    <a:pt x="7" y="67"/>
                  </a:lnTo>
                  <a:lnTo>
                    <a:pt x="12" y="57"/>
                  </a:lnTo>
                  <a:lnTo>
                    <a:pt x="18" y="48"/>
                  </a:lnTo>
                  <a:lnTo>
                    <a:pt x="24" y="40"/>
                  </a:lnTo>
                  <a:lnTo>
                    <a:pt x="31" y="33"/>
                  </a:lnTo>
                  <a:lnTo>
                    <a:pt x="39" y="25"/>
                  </a:lnTo>
                  <a:lnTo>
                    <a:pt x="48" y="19"/>
                  </a:lnTo>
                  <a:lnTo>
                    <a:pt x="57" y="13"/>
                  </a:lnTo>
                  <a:lnTo>
                    <a:pt x="66" y="9"/>
                  </a:lnTo>
                  <a:lnTo>
                    <a:pt x="76" y="4"/>
                  </a:lnTo>
                  <a:lnTo>
                    <a:pt x="87" y="3"/>
                  </a:lnTo>
                  <a:lnTo>
                    <a:pt x="97" y="1"/>
                  </a:lnTo>
                  <a:lnTo>
                    <a:pt x="108" y="0"/>
                  </a:lnTo>
                  <a:lnTo>
                    <a:pt x="9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564400" y="1636560"/>
              <a:ext cx="115920" cy="55800"/>
            </a:xfrm>
            <a:custGeom>
              <a:avLst/>
              <a:gdLst/>
              <a:ahLst/>
              <a:rect l="l" t="t" r="r" b="b"/>
              <a:pathLst>
                <a:path w="537" h="259">
                  <a:moveTo>
                    <a:pt x="433" y="60"/>
                  </a:moveTo>
                  <a:lnTo>
                    <a:pt x="433" y="0"/>
                  </a:lnTo>
                  <a:lnTo>
                    <a:pt x="537" y="0"/>
                  </a:lnTo>
                  <a:lnTo>
                    <a:pt x="537" y="60"/>
                  </a:lnTo>
                  <a:lnTo>
                    <a:pt x="433" y="60"/>
                  </a:lnTo>
                  <a:close/>
                  <a:moveTo>
                    <a:pt x="433" y="160"/>
                  </a:moveTo>
                  <a:lnTo>
                    <a:pt x="433" y="101"/>
                  </a:lnTo>
                  <a:lnTo>
                    <a:pt x="537" y="101"/>
                  </a:lnTo>
                  <a:lnTo>
                    <a:pt x="537" y="160"/>
                  </a:lnTo>
                  <a:lnTo>
                    <a:pt x="433" y="160"/>
                  </a:lnTo>
                  <a:close/>
                  <a:moveTo>
                    <a:pt x="433" y="259"/>
                  </a:moveTo>
                  <a:lnTo>
                    <a:pt x="433" y="200"/>
                  </a:lnTo>
                  <a:lnTo>
                    <a:pt x="537" y="200"/>
                  </a:lnTo>
                  <a:lnTo>
                    <a:pt x="537" y="259"/>
                  </a:lnTo>
                  <a:lnTo>
                    <a:pt x="433" y="259"/>
                  </a:lnTo>
                  <a:close/>
                  <a:moveTo>
                    <a:pt x="287" y="60"/>
                  </a:moveTo>
                  <a:lnTo>
                    <a:pt x="287" y="0"/>
                  </a:lnTo>
                  <a:lnTo>
                    <a:pt x="392" y="0"/>
                  </a:lnTo>
                  <a:lnTo>
                    <a:pt x="392" y="60"/>
                  </a:lnTo>
                  <a:lnTo>
                    <a:pt x="287" y="60"/>
                  </a:lnTo>
                  <a:close/>
                  <a:moveTo>
                    <a:pt x="287" y="160"/>
                  </a:moveTo>
                  <a:lnTo>
                    <a:pt x="287" y="101"/>
                  </a:lnTo>
                  <a:lnTo>
                    <a:pt x="392" y="101"/>
                  </a:lnTo>
                  <a:lnTo>
                    <a:pt x="392" y="160"/>
                  </a:lnTo>
                  <a:lnTo>
                    <a:pt x="287" y="160"/>
                  </a:lnTo>
                  <a:close/>
                  <a:moveTo>
                    <a:pt x="287" y="259"/>
                  </a:moveTo>
                  <a:lnTo>
                    <a:pt x="287" y="200"/>
                  </a:lnTo>
                  <a:lnTo>
                    <a:pt x="392" y="200"/>
                  </a:lnTo>
                  <a:lnTo>
                    <a:pt x="392" y="259"/>
                  </a:lnTo>
                  <a:lnTo>
                    <a:pt x="287" y="259"/>
                  </a:lnTo>
                  <a:close/>
                  <a:moveTo>
                    <a:pt x="101" y="200"/>
                  </a:moveTo>
                  <a:lnTo>
                    <a:pt x="101" y="259"/>
                  </a:lnTo>
                  <a:lnTo>
                    <a:pt x="0" y="259"/>
                  </a:lnTo>
                  <a:lnTo>
                    <a:pt x="0" y="200"/>
                  </a:lnTo>
                  <a:lnTo>
                    <a:pt x="101" y="200"/>
                  </a:lnTo>
                  <a:close/>
                  <a:moveTo>
                    <a:pt x="101" y="101"/>
                  </a:moveTo>
                  <a:lnTo>
                    <a:pt x="101" y="160"/>
                  </a:lnTo>
                  <a:lnTo>
                    <a:pt x="0" y="160"/>
                  </a:lnTo>
                  <a:lnTo>
                    <a:pt x="0" y="101"/>
                  </a:lnTo>
                  <a:lnTo>
                    <a:pt x="101" y="101"/>
                  </a:lnTo>
                  <a:close/>
                  <a:moveTo>
                    <a:pt x="101" y="0"/>
                  </a:moveTo>
                  <a:lnTo>
                    <a:pt x="101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101" y="0"/>
                  </a:lnTo>
                  <a:close/>
                  <a:moveTo>
                    <a:pt x="142" y="60"/>
                  </a:moveTo>
                  <a:lnTo>
                    <a:pt x="142" y="0"/>
                  </a:lnTo>
                  <a:lnTo>
                    <a:pt x="247" y="0"/>
                  </a:lnTo>
                  <a:lnTo>
                    <a:pt x="247" y="60"/>
                  </a:lnTo>
                  <a:lnTo>
                    <a:pt x="142" y="60"/>
                  </a:lnTo>
                  <a:close/>
                  <a:moveTo>
                    <a:pt x="142" y="160"/>
                  </a:moveTo>
                  <a:lnTo>
                    <a:pt x="142" y="101"/>
                  </a:lnTo>
                  <a:lnTo>
                    <a:pt x="247" y="101"/>
                  </a:lnTo>
                  <a:lnTo>
                    <a:pt x="247" y="160"/>
                  </a:lnTo>
                  <a:lnTo>
                    <a:pt x="142" y="160"/>
                  </a:lnTo>
                  <a:close/>
                  <a:moveTo>
                    <a:pt x="142" y="259"/>
                  </a:moveTo>
                  <a:lnTo>
                    <a:pt x="142" y="200"/>
                  </a:lnTo>
                  <a:lnTo>
                    <a:pt x="247" y="200"/>
                  </a:lnTo>
                  <a:lnTo>
                    <a:pt x="247" y="259"/>
                  </a:lnTo>
                  <a:lnTo>
                    <a:pt x="142" y="2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537400" y="1609560"/>
              <a:ext cx="150840" cy="140040"/>
            </a:xfrm>
            <a:custGeom>
              <a:avLst/>
              <a:gdLst/>
              <a:ahLst/>
              <a:rect l="l" t="t" r="r" b="b"/>
              <a:pathLst>
                <a:path w="697" h="647">
                  <a:moveTo>
                    <a:pt x="697" y="647"/>
                  </a:moveTo>
                  <a:lnTo>
                    <a:pt x="54" y="647"/>
                  </a:lnTo>
                  <a:lnTo>
                    <a:pt x="43" y="647"/>
                  </a:lnTo>
                  <a:lnTo>
                    <a:pt x="33" y="643"/>
                  </a:lnTo>
                  <a:lnTo>
                    <a:pt x="24" y="638"/>
                  </a:lnTo>
                  <a:lnTo>
                    <a:pt x="19" y="635"/>
                  </a:lnTo>
                  <a:lnTo>
                    <a:pt x="15" y="632"/>
                  </a:lnTo>
                  <a:lnTo>
                    <a:pt x="12" y="628"/>
                  </a:lnTo>
                  <a:lnTo>
                    <a:pt x="9" y="623"/>
                  </a:lnTo>
                  <a:lnTo>
                    <a:pt x="6" y="619"/>
                  </a:lnTo>
                  <a:lnTo>
                    <a:pt x="3" y="614"/>
                  </a:lnTo>
                  <a:lnTo>
                    <a:pt x="1" y="610"/>
                  </a:lnTo>
                  <a:lnTo>
                    <a:pt x="0" y="604"/>
                  </a:lnTo>
                  <a:lnTo>
                    <a:pt x="0" y="599"/>
                  </a:lnTo>
                  <a:lnTo>
                    <a:pt x="0" y="593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3" y="33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5" y="17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5"/>
                  </a:lnTo>
                  <a:lnTo>
                    <a:pt x="37" y="3"/>
                  </a:lnTo>
                  <a:lnTo>
                    <a:pt x="43" y="2"/>
                  </a:lnTo>
                  <a:lnTo>
                    <a:pt x="54" y="0"/>
                  </a:lnTo>
                  <a:lnTo>
                    <a:pt x="697" y="0"/>
                  </a:lnTo>
                  <a:lnTo>
                    <a:pt x="697" y="85"/>
                  </a:lnTo>
                  <a:lnTo>
                    <a:pt x="100" y="85"/>
                  </a:lnTo>
                  <a:lnTo>
                    <a:pt x="96" y="86"/>
                  </a:lnTo>
                  <a:lnTo>
                    <a:pt x="93" y="86"/>
                  </a:lnTo>
                  <a:lnTo>
                    <a:pt x="90" y="89"/>
                  </a:lnTo>
                  <a:lnTo>
                    <a:pt x="87" y="91"/>
                  </a:lnTo>
                  <a:lnTo>
                    <a:pt x="82" y="97"/>
                  </a:lnTo>
                  <a:lnTo>
                    <a:pt x="82" y="100"/>
                  </a:lnTo>
                  <a:lnTo>
                    <a:pt x="81" y="104"/>
                  </a:lnTo>
                  <a:lnTo>
                    <a:pt x="81" y="404"/>
                  </a:lnTo>
                  <a:lnTo>
                    <a:pt x="82" y="408"/>
                  </a:lnTo>
                  <a:lnTo>
                    <a:pt x="82" y="413"/>
                  </a:lnTo>
                  <a:lnTo>
                    <a:pt x="85" y="417"/>
                  </a:lnTo>
                  <a:lnTo>
                    <a:pt x="87" y="420"/>
                  </a:lnTo>
                  <a:lnTo>
                    <a:pt x="90" y="422"/>
                  </a:lnTo>
                  <a:lnTo>
                    <a:pt x="93" y="425"/>
                  </a:lnTo>
                  <a:lnTo>
                    <a:pt x="96" y="425"/>
                  </a:lnTo>
                  <a:lnTo>
                    <a:pt x="100" y="426"/>
                  </a:lnTo>
                  <a:lnTo>
                    <a:pt x="697" y="426"/>
                  </a:lnTo>
                  <a:lnTo>
                    <a:pt x="697" y="6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697960" y="1509840"/>
              <a:ext cx="149040" cy="29340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400"/>
                <a:gd name="textAreaBottom" fmla="*/ 279720 h 293400"/>
              </a:gdLst>
              <a:ahLst/>
              <a:rect l="textAreaLeft" t="textAreaTop" r="textAreaRight" b="textAreaBottom"/>
              <a:pathLst>
                <a:path w="21600" h="42471">
                  <a:moveTo>
                    <a:pt x="6840" y="0"/>
                  </a:moveTo>
                  <a:arcTo wR="6840" hR="6840" stAng="16200000" swAng="-5400000"/>
                  <a:lnTo>
                    <a:pt x="0" y="35631"/>
                  </a:lnTo>
                  <a:arcTo wR="6840" hR="6840" stAng="10800000" swAng="-5400000"/>
                  <a:lnTo>
                    <a:pt x="14760" y="42471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8707320" y="1517760"/>
              <a:ext cx="133560" cy="27468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8688240" y="1500120"/>
              <a:ext cx="171720" cy="31104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724960" y="1554120"/>
              <a:ext cx="10008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8801280" y="167652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96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81388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767800" y="167652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76132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778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729640" y="167652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724960" y="167652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742240" y="167652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801280" y="1698480"/>
              <a:ext cx="172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796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81388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767800" y="1698480"/>
              <a:ext cx="158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76132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778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729640" y="169848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724960" y="1698480"/>
              <a:ext cx="93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742240" y="169848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01280" y="1720800"/>
              <a:ext cx="172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8796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81388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8767800" y="1720800"/>
              <a:ext cx="158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76132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778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729640" y="172080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724960" y="1720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742240" y="172080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801280" y="1743120"/>
              <a:ext cx="1728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796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81388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767800" y="1743120"/>
              <a:ext cx="158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76132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778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729640" y="1743120"/>
              <a:ext cx="17640" cy="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724960" y="1743120"/>
              <a:ext cx="93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742240" y="17431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767800" y="1643040"/>
              <a:ext cx="15840" cy="1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758080" y="1643040"/>
              <a:ext cx="1764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774280" y="1643040"/>
              <a:ext cx="20520" cy="1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728200" y="163980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726400" y="163980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740800" y="1649520"/>
              <a:ext cx="1116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801280" y="1639800"/>
              <a:ext cx="187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813880" y="1639800"/>
              <a:ext cx="93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799480" y="1649520"/>
              <a:ext cx="7920" cy="9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8272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21140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2" h="1318">
                  <a:moveTo>
                    <a:pt x="85" y="176"/>
                  </a:moveTo>
                  <a:lnTo>
                    <a:pt x="85" y="446"/>
                  </a:lnTo>
                  <a:lnTo>
                    <a:pt x="558" y="446"/>
                  </a:lnTo>
                  <a:lnTo>
                    <a:pt x="558" y="175"/>
                  </a:lnTo>
                  <a:lnTo>
                    <a:pt x="85" y="176"/>
                  </a:lnTo>
                  <a:close/>
                  <a:moveTo>
                    <a:pt x="91" y="587"/>
                  </a:moveTo>
                  <a:lnTo>
                    <a:pt x="86" y="596"/>
                  </a:lnTo>
                  <a:lnTo>
                    <a:pt x="85" y="605"/>
                  </a:lnTo>
                  <a:lnTo>
                    <a:pt x="88" y="619"/>
                  </a:lnTo>
                  <a:lnTo>
                    <a:pt x="94" y="628"/>
                  </a:lnTo>
                  <a:lnTo>
                    <a:pt x="97" y="631"/>
                  </a:lnTo>
                  <a:lnTo>
                    <a:pt x="173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7" y="577"/>
                  </a:lnTo>
                  <a:lnTo>
                    <a:pt x="115" y="575"/>
                  </a:lnTo>
                  <a:lnTo>
                    <a:pt x="103" y="578"/>
                  </a:lnTo>
                  <a:lnTo>
                    <a:pt x="91" y="587"/>
                  </a:lnTo>
                  <a:close/>
                  <a:moveTo>
                    <a:pt x="558" y="587"/>
                  </a:moveTo>
                  <a:lnTo>
                    <a:pt x="546" y="578"/>
                  </a:lnTo>
                  <a:lnTo>
                    <a:pt x="534" y="575"/>
                  </a:lnTo>
                  <a:lnTo>
                    <a:pt x="522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3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2" y="631"/>
                  </a:lnTo>
                  <a:lnTo>
                    <a:pt x="556" y="628"/>
                  </a:lnTo>
                  <a:lnTo>
                    <a:pt x="561" y="619"/>
                  </a:lnTo>
                  <a:lnTo>
                    <a:pt x="564" y="605"/>
                  </a:lnTo>
                  <a:lnTo>
                    <a:pt x="562" y="596"/>
                  </a:lnTo>
                  <a:lnTo>
                    <a:pt x="558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6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1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2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6" y="759"/>
                  </a:lnTo>
                  <a:lnTo>
                    <a:pt x="103" y="759"/>
                  </a:lnTo>
                  <a:lnTo>
                    <a:pt x="94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80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3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8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6" y="820"/>
                  </a:lnTo>
                  <a:lnTo>
                    <a:pt x="534" y="820"/>
                  </a:lnTo>
                  <a:lnTo>
                    <a:pt x="538" y="820"/>
                  </a:lnTo>
                  <a:lnTo>
                    <a:pt x="550" y="816"/>
                  </a:lnTo>
                  <a:lnTo>
                    <a:pt x="555" y="813"/>
                  </a:lnTo>
                  <a:lnTo>
                    <a:pt x="561" y="807"/>
                  </a:lnTo>
                  <a:lnTo>
                    <a:pt x="564" y="799"/>
                  </a:lnTo>
                  <a:lnTo>
                    <a:pt x="565" y="790"/>
                  </a:lnTo>
                  <a:lnTo>
                    <a:pt x="564" y="780"/>
                  </a:lnTo>
                  <a:lnTo>
                    <a:pt x="561" y="772"/>
                  </a:lnTo>
                  <a:lnTo>
                    <a:pt x="552" y="763"/>
                  </a:lnTo>
                  <a:lnTo>
                    <a:pt x="541" y="759"/>
                  </a:lnTo>
                  <a:lnTo>
                    <a:pt x="537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4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6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1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2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6" y="859"/>
                  </a:lnTo>
                  <a:lnTo>
                    <a:pt x="103" y="861"/>
                  </a:lnTo>
                  <a:lnTo>
                    <a:pt x="94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80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3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8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6" y="923"/>
                  </a:lnTo>
                  <a:lnTo>
                    <a:pt x="534" y="923"/>
                  </a:lnTo>
                  <a:lnTo>
                    <a:pt x="538" y="923"/>
                  </a:lnTo>
                  <a:lnTo>
                    <a:pt x="550" y="918"/>
                  </a:lnTo>
                  <a:lnTo>
                    <a:pt x="555" y="914"/>
                  </a:lnTo>
                  <a:lnTo>
                    <a:pt x="561" y="909"/>
                  </a:lnTo>
                  <a:lnTo>
                    <a:pt x="564" y="902"/>
                  </a:lnTo>
                  <a:lnTo>
                    <a:pt x="565" y="891"/>
                  </a:lnTo>
                  <a:lnTo>
                    <a:pt x="564" y="882"/>
                  </a:lnTo>
                  <a:lnTo>
                    <a:pt x="561" y="874"/>
                  </a:lnTo>
                  <a:lnTo>
                    <a:pt x="552" y="865"/>
                  </a:lnTo>
                  <a:lnTo>
                    <a:pt x="541" y="861"/>
                  </a:lnTo>
                  <a:lnTo>
                    <a:pt x="537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4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6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6" y="963"/>
                  </a:lnTo>
                  <a:lnTo>
                    <a:pt x="101" y="963"/>
                  </a:lnTo>
                  <a:lnTo>
                    <a:pt x="94" y="966"/>
                  </a:lnTo>
                  <a:lnTo>
                    <a:pt x="85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4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5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5" y="963"/>
                  </a:lnTo>
                  <a:lnTo>
                    <a:pt x="266" y="966"/>
                  </a:lnTo>
                  <a:lnTo>
                    <a:pt x="259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4" y="1025"/>
                  </a:lnTo>
                  <a:lnTo>
                    <a:pt x="538" y="1025"/>
                  </a:lnTo>
                  <a:lnTo>
                    <a:pt x="549" y="1020"/>
                  </a:lnTo>
                  <a:lnTo>
                    <a:pt x="555" y="1016"/>
                  </a:lnTo>
                  <a:lnTo>
                    <a:pt x="561" y="1011"/>
                  </a:lnTo>
                  <a:lnTo>
                    <a:pt x="564" y="1004"/>
                  </a:lnTo>
                  <a:lnTo>
                    <a:pt x="565" y="993"/>
                  </a:lnTo>
                  <a:lnTo>
                    <a:pt x="564" y="984"/>
                  </a:lnTo>
                  <a:lnTo>
                    <a:pt x="561" y="977"/>
                  </a:lnTo>
                  <a:lnTo>
                    <a:pt x="552" y="968"/>
                  </a:lnTo>
                  <a:lnTo>
                    <a:pt x="541" y="963"/>
                  </a:lnTo>
                  <a:lnTo>
                    <a:pt x="537" y="962"/>
                  </a:lnTo>
                  <a:lnTo>
                    <a:pt x="445" y="963"/>
                  </a:lnTo>
                  <a:lnTo>
                    <a:pt x="442" y="963"/>
                  </a:lnTo>
                  <a:lnTo>
                    <a:pt x="433" y="966"/>
                  </a:lnTo>
                  <a:lnTo>
                    <a:pt x="425" y="975"/>
                  </a:lnTo>
                  <a:lnTo>
                    <a:pt x="419" y="989"/>
                  </a:lnTo>
                  <a:close/>
                  <a:moveTo>
                    <a:pt x="281" y="595"/>
                  </a:moveTo>
                  <a:lnTo>
                    <a:pt x="275" y="595"/>
                  </a:lnTo>
                  <a:lnTo>
                    <a:pt x="262" y="601"/>
                  </a:lnTo>
                  <a:lnTo>
                    <a:pt x="248" y="613"/>
                  </a:lnTo>
                  <a:lnTo>
                    <a:pt x="244" y="623"/>
                  </a:lnTo>
                  <a:lnTo>
                    <a:pt x="242" y="635"/>
                  </a:lnTo>
                  <a:lnTo>
                    <a:pt x="244" y="649"/>
                  </a:lnTo>
                  <a:lnTo>
                    <a:pt x="248" y="659"/>
                  </a:lnTo>
                  <a:lnTo>
                    <a:pt x="254" y="667"/>
                  </a:lnTo>
                  <a:lnTo>
                    <a:pt x="262" y="671"/>
                  </a:lnTo>
                  <a:lnTo>
                    <a:pt x="275" y="677"/>
                  </a:lnTo>
                  <a:lnTo>
                    <a:pt x="281" y="679"/>
                  </a:lnTo>
                  <a:lnTo>
                    <a:pt x="371" y="679"/>
                  </a:lnTo>
                  <a:lnTo>
                    <a:pt x="377" y="677"/>
                  </a:lnTo>
                  <a:lnTo>
                    <a:pt x="391" y="671"/>
                  </a:lnTo>
                  <a:lnTo>
                    <a:pt x="403" y="659"/>
                  </a:lnTo>
                  <a:lnTo>
                    <a:pt x="407" y="649"/>
                  </a:lnTo>
                  <a:lnTo>
                    <a:pt x="409" y="637"/>
                  </a:lnTo>
                  <a:lnTo>
                    <a:pt x="407" y="623"/>
                  </a:lnTo>
                  <a:lnTo>
                    <a:pt x="403" y="614"/>
                  </a:lnTo>
                  <a:lnTo>
                    <a:pt x="397" y="607"/>
                  </a:lnTo>
                  <a:lnTo>
                    <a:pt x="389" y="601"/>
                  </a:lnTo>
                  <a:lnTo>
                    <a:pt x="377" y="595"/>
                  </a:lnTo>
                  <a:lnTo>
                    <a:pt x="371" y="595"/>
                  </a:lnTo>
                  <a:lnTo>
                    <a:pt x="281" y="595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6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6" y="1066"/>
                  </a:lnTo>
                  <a:lnTo>
                    <a:pt x="101" y="1066"/>
                  </a:lnTo>
                  <a:lnTo>
                    <a:pt x="94" y="1069"/>
                  </a:lnTo>
                  <a:lnTo>
                    <a:pt x="85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4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5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5" y="1066"/>
                  </a:lnTo>
                  <a:lnTo>
                    <a:pt x="266" y="1069"/>
                  </a:lnTo>
                  <a:lnTo>
                    <a:pt x="259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4" y="1127"/>
                  </a:lnTo>
                  <a:lnTo>
                    <a:pt x="538" y="1127"/>
                  </a:lnTo>
                  <a:lnTo>
                    <a:pt x="549" y="1123"/>
                  </a:lnTo>
                  <a:lnTo>
                    <a:pt x="555" y="1118"/>
                  </a:lnTo>
                  <a:lnTo>
                    <a:pt x="561" y="1114"/>
                  </a:lnTo>
                  <a:lnTo>
                    <a:pt x="564" y="1106"/>
                  </a:lnTo>
                  <a:lnTo>
                    <a:pt x="565" y="1096"/>
                  </a:lnTo>
                  <a:lnTo>
                    <a:pt x="564" y="1087"/>
                  </a:lnTo>
                  <a:lnTo>
                    <a:pt x="561" y="1079"/>
                  </a:lnTo>
                  <a:lnTo>
                    <a:pt x="552" y="1070"/>
                  </a:lnTo>
                  <a:lnTo>
                    <a:pt x="541" y="1066"/>
                  </a:lnTo>
                  <a:lnTo>
                    <a:pt x="537" y="1064"/>
                  </a:lnTo>
                  <a:lnTo>
                    <a:pt x="445" y="1066"/>
                  </a:lnTo>
                  <a:lnTo>
                    <a:pt x="442" y="1066"/>
                  </a:lnTo>
                  <a:lnTo>
                    <a:pt x="433" y="1069"/>
                  </a:lnTo>
                  <a:lnTo>
                    <a:pt x="425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3" y="26"/>
                  </a:lnTo>
                  <a:lnTo>
                    <a:pt x="535" y="38"/>
                  </a:lnTo>
                  <a:lnTo>
                    <a:pt x="558" y="55"/>
                  </a:lnTo>
                  <a:lnTo>
                    <a:pt x="576" y="74"/>
                  </a:lnTo>
                  <a:lnTo>
                    <a:pt x="591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3" y="176"/>
                  </a:lnTo>
                  <a:lnTo>
                    <a:pt x="637" y="200"/>
                  </a:lnTo>
                  <a:lnTo>
                    <a:pt x="642" y="229"/>
                  </a:lnTo>
                  <a:lnTo>
                    <a:pt x="642" y="1094"/>
                  </a:lnTo>
                  <a:lnTo>
                    <a:pt x="640" y="1111"/>
                  </a:lnTo>
                  <a:lnTo>
                    <a:pt x="633" y="1150"/>
                  </a:lnTo>
                  <a:lnTo>
                    <a:pt x="624" y="1174"/>
                  </a:lnTo>
                  <a:lnTo>
                    <a:pt x="612" y="1199"/>
                  </a:lnTo>
                  <a:lnTo>
                    <a:pt x="595" y="1224"/>
                  </a:lnTo>
                  <a:lnTo>
                    <a:pt x="576" y="1246"/>
                  </a:lnTo>
                  <a:lnTo>
                    <a:pt x="532" y="1281"/>
                  </a:lnTo>
                  <a:lnTo>
                    <a:pt x="513" y="1293"/>
                  </a:lnTo>
                  <a:lnTo>
                    <a:pt x="495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3" y="1308"/>
                  </a:lnTo>
                  <a:lnTo>
                    <a:pt x="140" y="1299"/>
                  </a:lnTo>
                  <a:lnTo>
                    <a:pt x="115" y="1285"/>
                  </a:lnTo>
                  <a:lnTo>
                    <a:pt x="89" y="1267"/>
                  </a:lnTo>
                  <a:lnTo>
                    <a:pt x="65" y="1243"/>
                  </a:lnTo>
                  <a:lnTo>
                    <a:pt x="43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2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8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3" y="68"/>
                  </a:lnTo>
                  <a:lnTo>
                    <a:pt x="88" y="55"/>
                  </a:lnTo>
                  <a:lnTo>
                    <a:pt x="103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266840" y="1496880"/>
              <a:ext cx="139680" cy="300240"/>
            </a:xfrm>
            <a:custGeom>
              <a:avLst/>
              <a:gdLst>
                <a:gd name="textAreaLeft" fmla="*/ 15480 w 139680"/>
                <a:gd name="textAreaRight" fmla="*/ 124200 w 139680"/>
                <a:gd name="textAreaTop" fmla="*/ 15480 h 300240"/>
                <a:gd name="textAreaBottom" fmla="*/ 284760 h 300240"/>
              </a:gdLst>
              <a:ahLst/>
              <a:rect l="textAreaLeft" t="textAreaTop" r="textAreaRight" b="textAreaBottom"/>
              <a:pathLst>
                <a:path w="21600" h="46365">
                  <a:moveTo>
                    <a:pt x="8209" y="0"/>
                  </a:moveTo>
                  <a:arcTo wR="8209" hR="8209" stAng="16200000" swAng="-5400000"/>
                  <a:lnTo>
                    <a:pt x="0" y="38156"/>
                  </a:lnTo>
                  <a:arcTo wR="8209" hR="8209" stAng="10800000" swAng="-5400000"/>
                  <a:lnTo>
                    <a:pt x="13391" y="46365"/>
                  </a:lnTo>
                  <a:arcTo wR="8209" hR="8209" stAng="5400000" swAng="-5400000"/>
                  <a:lnTo>
                    <a:pt x="21600" y="8209"/>
                  </a:lnTo>
                  <a:arcTo wR="8209" hR="8209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281240" y="1504800"/>
              <a:ext cx="139680" cy="284400"/>
            </a:xfrm>
            <a:custGeom>
              <a:avLst/>
              <a:gdLst/>
              <a:ahLst/>
              <a:rect l="l" t="t" r="r" b="b"/>
              <a:pathLst>
                <a:path w="641" h="1318">
                  <a:moveTo>
                    <a:pt x="84" y="176"/>
                  </a:moveTo>
                  <a:lnTo>
                    <a:pt x="84" y="446"/>
                  </a:lnTo>
                  <a:lnTo>
                    <a:pt x="557" y="446"/>
                  </a:lnTo>
                  <a:lnTo>
                    <a:pt x="557" y="175"/>
                  </a:lnTo>
                  <a:lnTo>
                    <a:pt x="84" y="176"/>
                  </a:lnTo>
                  <a:close/>
                  <a:moveTo>
                    <a:pt x="90" y="587"/>
                  </a:moveTo>
                  <a:lnTo>
                    <a:pt x="86" y="596"/>
                  </a:lnTo>
                  <a:lnTo>
                    <a:pt x="84" y="605"/>
                  </a:lnTo>
                  <a:lnTo>
                    <a:pt x="87" y="619"/>
                  </a:lnTo>
                  <a:lnTo>
                    <a:pt x="93" y="628"/>
                  </a:lnTo>
                  <a:lnTo>
                    <a:pt x="96" y="631"/>
                  </a:lnTo>
                  <a:lnTo>
                    <a:pt x="172" y="676"/>
                  </a:lnTo>
                  <a:lnTo>
                    <a:pt x="187" y="680"/>
                  </a:lnTo>
                  <a:lnTo>
                    <a:pt x="199" y="677"/>
                  </a:lnTo>
                  <a:lnTo>
                    <a:pt x="206" y="674"/>
                  </a:lnTo>
                  <a:lnTo>
                    <a:pt x="212" y="668"/>
                  </a:lnTo>
                  <a:lnTo>
                    <a:pt x="218" y="659"/>
                  </a:lnTo>
                  <a:lnTo>
                    <a:pt x="220" y="650"/>
                  </a:lnTo>
                  <a:lnTo>
                    <a:pt x="217" y="637"/>
                  </a:lnTo>
                  <a:lnTo>
                    <a:pt x="206" y="623"/>
                  </a:lnTo>
                  <a:lnTo>
                    <a:pt x="126" y="577"/>
                  </a:lnTo>
                  <a:lnTo>
                    <a:pt x="114" y="575"/>
                  </a:lnTo>
                  <a:lnTo>
                    <a:pt x="102" y="578"/>
                  </a:lnTo>
                  <a:lnTo>
                    <a:pt x="90" y="587"/>
                  </a:lnTo>
                  <a:close/>
                  <a:moveTo>
                    <a:pt x="557" y="587"/>
                  </a:moveTo>
                  <a:lnTo>
                    <a:pt x="545" y="578"/>
                  </a:lnTo>
                  <a:lnTo>
                    <a:pt x="533" y="575"/>
                  </a:lnTo>
                  <a:lnTo>
                    <a:pt x="521" y="577"/>
                  </a:lnTo>
                  <a:lnTo>
                    <a:pt x="442" y="623"/>
                  </a:lnTo>
                  <a:lnTo>
                    <a:pt x="437" y="626"/>
                  </a:lnTo>
                  <a:lnTo>
                    <a:pt x="431" y="637"/>
                  </a:lnTo>
                  <a:lnTo>
                    <a:pt x="428" y="650"/>
                  </a:lnTo>
                  <a:lnTo>
                    <a:pt x="430" y="659"/>
                  </a:lnTo>
                  <a:lnTo>
                    <a:pt x="436" y="668"/>
                  </a:lnTo>
                  <a:lnTo>
                    <a:pt x="442" y="674"/>
                  </a:lnTo>
                  <a:lnTo>
                    <a:pt x="449" y="677"/>
                  </a:lnTo>
                  <a:lnTo>
                    <a:pt x="461" y="680"/>
                  </a:lnTo>
                  <a:lnTo>
                    <a:pt x="472" y="677"/>
                  </a:lnTo>
                  <a:lnTo>
                    <a:pt x="476" y="676"/>
                  </a:lnTo>
                  <a:lnTo>
                    <a:pt x="551" y="631"/>
                  </a:lnTo>
                  <a:lnTo>
                    <a:pt x="554" y="628"/>
                  </a:lnTo>
                  <a:lnTo>
                    <a:pt x="560" y="619"/>
                  </a:lnTo>
                  <a:lnTo>
                    <a:pt x="563" y="605"/>
                  </a:lnTo>
                  <a:lnTo>
                    <a:pt x="562" y="596"/>
                  </a:lnTo>
                  <a:lnTo>
                    <a:pt x="557" y="587"/>
                  </a:lnTo>
                  <a:close/>
                  <a:moveTo>
                    <a:pt x="80" y="786"/>
                  </a:moveTo>
                  <a:lnTo>
                    <a:pt x="83" y="804"/>
                  </a:lnTo>
                  <a:lnTo>
                    <a:pt x="92" y="814"/>
                  </a:lnTo>
                  <a:lnTo>
                    <a:pt x="105" y="820"/>
                  </a:lnTo>
                  <a:lnTo>
                    <a:pt x="194" y="820"/>
                  </a:lnTo>
                  <a:lnTo>
                    <a:pt x="199" y="820"/>
                  </a:lnTo>
                  <a:lnTo>
                    <a:pt x="209" y="816"/>
                  </a:lnTo>
                  <a:lnTo>
                    <a:pt x="215" y="813"/>
                  </a:lnTo>
                  <a:lnTo>
                    <a:pt x="220" y="807"/>
                  </a:lnTo>
                  <a:lnTo>
                    <a:pt x="224" y="799"/>
                  </a:lnTo>
                  <a:lnTo>
                    <a:pt x="226" y="790"/>
                  </a:lnTo>
                  <a:lnTo>
                    <a:pt x="224" y="780"/>
                  </a:lnTo>
                  <a:lnTo>
                    <a:pt x="221" y="772"/>
                  </a:lnTo>
                  <a:lnTo>
                    <a:pt x="211" y="763"/>
                  </a:lnTo>
                  <a:lnTo>
                    <a:pt x="202" y="759"/>
                  </a:lnTo>
                  <a:lnTo>
                    <a:pt x="197" y="759"/>
                  </a:lnTo>
                  <a:lnTo>
                    <a:pt x="105" y="759"/>
                  </a:lnTo>
                  <a:lnTo>
                    <a:pt x="101" y="759"/>
                  </a:lnTo>
                  <a:lnTo>
                    <a:pt x="93" y="763"/>
                  </a:lnTo>
                  <a:lnTo>
                    <a:pt x="86" y="771"/>
                  </a:lnTo>
                  <a:lnTo>
                    <a:pt x="80" y="786"/>
                  </a:lnTo>
                  <a:close/>
                  <a:moveTo>
                    <a:pt x="253" y="786"/>
                  </a:moveTo>
                  <a:lnTo>
                    <a:pt x="256" y="804"/>
                  </a:lnTo>
                  <a:lnTo>
                    <a:pt x="265" y="814"/>
                  </a:lnTo>
                  <a:lnTo>
                    <a:pt x="278" y="820"/>
                  </a:lnTo>
                  <a:lnTo>
                    <a:pt x="367" y="820"/>
                  </a:lnTo>
                  <a:lnTo>
                    <a:pt x="371" y="820"/>
                  </a:lnTo>
                  <a:lnTo>
                    <a:pt x="382" y="816"/>
                  </a:lnTo>
                  <a:lnTo>
                    <a:pt x="388" y="813"/>
                  </a:lnTo>
                  <a:lnTo>
                    <a:pt x="394" y="807"/>
                  </a:lnTo>
                  <a:lnTo>
                    <a:pt x="397" y="799"/>
                  </a:lnTo>
                  <a:lnTo>
                    <a:pt x="398" y="790"/>
                  </a:lnTo>
                  <a:lnTo>
                    <a:pt x="397" y="780"/>
                  </a:lnTo>
                  <a:lnTo>
                    <a:pt x="394" y="772"/>
                  </a:lnTo>
                  <a:lnTo>
                    <a:pt x="385" y="763"/>
                  </a:lnTo>
                  <a:lnTo>
                    <a:pt x="374" y="759"/>
                  </a:lnTo>
                  <a:lnTo>
                    <a:pt x="370" y="759"/>
                  </a:lnTo>
                  <a:lnTo>
                    <a:pt x="278" y="759"/>
                  </a:lnTo>
                  <a:lnTo>
                    <a:pt x="275" y="759"/>
                  </a:lnTo>
                  <a:lnTo>
                    <a:pt x="266" y="763"/>
                  </a:lnTo>
                  <a:lnTo>
                    <a:pt x="259" y="771"/>
                  </a:lnTo>
                  <a:lnTo>
                    <a:pt x="253" y="786"/>
                  </a:lnTo>
                  <a:close/>
                  <a:moveTo>
                    <a:pt x="419" y="786"/>
                  </a:moveTo>
                  <a:lnTo>
                    <a:pt x="422" y="804"/>
                  </a:lnTo>
                  <a:lnTo>
                    <a:pt x="431" y="814"/>
                  </a:lnTo>
                  <a:lnTo>
                    <a:pt x="445" y="820"/>
                  </a:lnTo>
                  <a:lnTo>
                    <a:pt x="533" y="820"/>
                  </a:lnTo>
                  <a:lnTo>
                    <a:pt x="538" y="820"/>
                  </a:lnTo>
                  <a:lnTo>
                    <a:pt x="548" y="816"/>
                  </a:lnTo>
                  <a:lnTo>
                    <a:pt x="554" y="813"/>
                  </a:lnTo>
                  <a:lnTo>
                    <a:pt x="560" y="807"/>
                  </a:lnTo>
                  <a:lnTo>
                    <a:pt x="563" y="799"/>
                  </a:lnTo>
                  <a:lnTo>
                    <a:pt x="565" y="790"/>
                  </a:lnTo>
                  <a:lnTo>
                    <a:pt x="563" y="780"/>
                  </a:lnTo>
                  <a:lnTo>
                    <a:pt x="560" y="772"/>
                  </a:lnTo>
                  <a:lnTo>
                    <a:pt x="551" y="763"/>
                  </a:lnTo>
                  <a:lnTo>
                    <a:pt x="541" y="759"/>
                  </a:lnTo>
                  <a:lnTo>
                    <a:pt x="536" y="759"/>
                  </a:lnTo>
                  <a:lnTo>
                    <a:pt x="445" y="759"/>
                  </a:lnTo>
                  <a:lnTo>
                    <a:pt x="442" y="759"/>
                  </a:lnTo>
                  <a:lnTo>
                    <a:pt x="433" y="763"/>
                  </a:lnTo>
                  <a:lnTo>
                    <a:pt x="425" y="771"/>
                  </a:lnTo>
                  <a:lnTo>
                    <a:pt x="419" y="786"/>
                  </a:lnTo>
                  <a:close/>
                  <a:moveTo>
                    <a:pt x="80" y="887"/>
                  </a:moveTo>
                  <a:lnTo>
                    <a:pt x="83" y="905"/>
                  </a:lnTo>
                  <a:lnTo>
                    <a:pt x="92" y="917"/>
                  </a:lnTo>
                  <a:lnTo>
                    <a:pt x="105" y="923"/>
                  </a:lnTo>
                  <a:lnTo>
                    <a:pt x="194" y="923"/>
                  </a:lnTo>
                  <a:lnTo>
                    <a:pt x="199" y="923"/>
                  </a:lnTo>
                  <a:lnTo>
                    <a:pt x="209" y="918"/>
                  </a:lnTo>
                  <a:lnTo>
                    <a:pt x="215" y="914"/>
                  </a:lnTo>
                  <a:lnTo>
                    <a:pt x="220" y="909"/>
                  </a:lnTo>
                  <a:lnTo>
                    <a:pt x="224" y="902"/>
                  </a:lnTo>
                  <a:lnTo>
                    <a:pt x="226" y="891"/>
                  </a:lnTo>
                  <a:lnTo>
                    <a:pt x="224" y="882"/>
                  </a:lnTo>
                  <a:lnTo>
                    <a:pt x="221" y="874"/>
                  </a:lnTo>
                  <a:lnTo>
                    <a:pt x="211" y="865"/>
                  </a:lnTo>
                  <a:lnTo>
                    <a:pt x="202" y="861"/>
                  </a:lnTo>
                  <a:lnTo>
                    <a:pt x="197" y="859"/>
                  </a:lnTo>
                  <a:lnTo>
                    <a:pt x="105" y="859"/>
                  </a:lnTo>
                  <a:lnTo>
                    <a:pt x="101" y="861"/>
                  </a:lnTo>
                  <a:lnTo>
                    <a:pt x="93" y="864"/>
                  </a:lnTo>
                  <a:lnTo>
                    <a:pt x="86" y="873"/>
                  </a:lnTo>
                  <a:lnTo>
                    <a:pt x="80" y="887"/>
                  </a:lnTo>
                  <a:close/>
                  <a:moveTo>
                    <a:pt x="253" y="887"/>
                  </a:moveTo>
                  <a:lnTo>
                    <a:pt x="256" y="905"/>
                  </a:lnTo>
                  <a:lnTo>
                    <a:pt x="265" y="917"/>
                  </a:lnTo>
                  <a:lnTo>
                    <a:pt x="278" y="923"/>
                  </a:lnTo>
                  <a:lnTo>
                    <a:pt x="367" y="923"/>
                  </a:lnTo>
                  <a:lnTo>
                    <a:pt x="371" y="923"/>
                  </a:lnTo>
                  <a:lnTo>
                    <a:pt x="382" y="918"/>
                  </a:lnTo>
                  <a:lnTo>
                    <a:pt x="388" y="914"/>
                  </a:lnTo>
                  <a:lnTo>
                    <a:pt x="394" y="909"/>
                  </a:lnTo>
                  <a:lnTo>
                    <a:pt x="397" y="902"/>
                  </a:lnTo>
                  <a:lnTo>
                    <a:pt x="398" y="891"/>
                  </a:lnTo>
                  <a:lnTo>
                    <a:pt x="397" y="882"/>
                  </a:lnTo>
                  <a:lnTo>
                    <a:pt x="394" y="874"/>
                  </a:lnTo>
                  <a:lnTo>
                    <a:pt x="385" y="865"/>
                  </a:lnTo>
                  <a:lnTo>
                    <a:pt x="374" y="861"/>
                  </a:lnTo>
                  <a:lnTo>
                    <a:pt x="370" y="859"/>
                  </a:lnTo>
                  <a:lnTo>
                    <a:pt x="278" y="859"/>
                  </a:lnTo>
                  <a:lnTo>
                    <a:pt x="275" y="861"/>
                  </a:lnTo>
                  <a:lnTo>
                    <a:pt x="266" y="864"/>
                  </a:lnTo>
                  <a:lnTo>
                    <a:pt x="259" y="873"/>
                  </a:lnTo>
                  <a:lnTo>
                    <a:pt x="253" y="887"/>
                  </a:lnTo>
                  <a:close/>
                  <a:moveTo>
                    <a:pt x="419" y="887"/>
                  </a:moveTo>
                  <a:lnTo>
                    <a:pt x="422" y="905"/>
                  </a:lnTo>
                  <a:lnTo>
                    <a:pt x="431" y="917"/>
                  </a:lnTo>
                  <a:lnTo>
                    <a:pt x="445" y="923"/>
                  </a:lnTo>
                  <a:lnTo>
                    <a:pt x="533" y="923"/>
                  </a:lnTo>
                  <a:lnTo>
                    <a:pt x="538" y="923"/>
                  </a:lnTo>
                  <a:lnTo>
                    <a:pt x="548" y="918"/>
                  </a:lnTo>
                  <a:lnTo>
                    <a:pt x="554" y="914"/>
                  </a:lnTo>
                  <a:lnTo>
                    <a:pt x="560" y="909"/>
                  </a:lnTo>
                  <a:lnTo>
                    <a:pt x="563" y="902"/>
                  </a:lnTo>
                  <a:lnTo>
                    <a:pt x="565" y="891"/>
                  </a:lnTo>
                  <a:lnTo>
                    <a:pt x="563" y="882"/>
                  </a:lnTo>
                  <a:lnTo>
                    <a:pt x="560" y="874"/>
                  </a:lnTo>
                  <a:lnTo>
                    <a:pt x="551" y="865"/>
                  </a:lnTo>
                  <a:lnTo>
                    <a:pt x="541" y="861"/>
                  </a:lnTo>
                  <a:lnTo>
                    <a:pt x="536" y="859"/>
                  </a:lnTo>
                  <a:lnTo>
                    <a:pt x="445" y="859"/>
                  </a:lnTo>
                  <a:lnTo>
                    <a:pt x="442" y="861"/>
                  </a:lnTo>
                  <a:lnTo>
                    <a:pt x="433" y="864"/>
                  </a:lnTo>
                  <a:lnTo>
                    <a:pt x="425" y="873"/>
                  </a:lnTo>
                  <a:lnTo>
                    <a:pt x="419" y="887"/>
                  </a:lnTo>
                  <a:close/>
                  <a:moveTo>
                    <a:pt x="80" y="989"/>
                  </a:moveTo>
                  <a:lnTo>
                    <a:pt x="83" y="1008"/>
                  </a:lnTo>
                  <a:lnTo>
                    <a:pt x="92" y="1019"/>
                  </a:lnTo>
                  <a:lnTo>
                    <a:pt x="105" y="1025"/>
                  </a:lnTo>
                  <a:lnTo>
                    <a:pt x="194" y="1025"/>
                  </a:lnTo>
                  <a:lnTo>
                    <a:pt x="199" y="1025"/>
                  </a:lnTo>
                  <a:lnTo>
                    <a:pt x="209" y="1020"/>
                  </a:lnTo>
                  <a:lnTo>
                    <a:pt x="215" y="1016"/>
                  </a:lnTo>
                  <a:lnTo>
                    <a:pt x="220" y="1011"/>
                  </a:lnTo>
                  <a:lnTo>
                    <a:pt x="224" y="1004"/>
                  </a:lnTo>
                  <a:lnTo>
                    <a:pt x="226" y="993"/>
                  </a:lnTo>
                  <a:lnTo>
                    <a:pt x="224" y="984"/>
                  </a:lnTo>
                  <a:lnTo>
                    <a:pt x="221" y="977"/>
                  </a:lnTo>
                  <a:lnTo>
                    <a:pt x="211" y="968"/>
                  </a:lnTo>
                  <a:lnTo>
                    <a:pt x="202" y="963"/>
                  </a:lnTo>
                  <a:lnTo>
                    <a:pt x="197" y="962"/>
                  </a:lnTo>
                  <a:lnTo>
                    <a:pt x="104" y="963"/>
                  </a:lnTo>
                  <a:lnTo>
                    <a:pt x="101" y="963"/>
                  </a:lnTo>
                  <a:lnTo>
                    <a:pt x="93" y="966"/>
                  </a:lnTo>
                  <a:lnTo>
                    <a:pt x="84" y="975"/>
                  </a:lnTo>
                  <a:lnTo>
                    <a:pt x="80" y="989"/>
                  </a:lnTo>
                  <a:close/>
                  <a:moveTo>
                    <a:pt x="253" y="989"/>
                  </a:moveTo>
                  <a:lnTo>
                    <a:pt x="256" y="1008"/>
                  </a:lnTo>
                  <a:lnTo>
                    <a:pt x="265" y="1019"/>
                  </a:lnTo>
                  <a:lnTo>
                    <a:pt x="278" y="1025"/>
                  </a:lnTo>
                  <a:lnTo>
                    <a:pt x="367" y="1025"/>
                  </a:lnTo>
                  <a:lnTo>
                    <a:pt x="371" y="1025"/>
                  </a:lnTo>
                  <a:lnTo>
                    <a:pt x="382" y="1020"/>
                  </a:lnTo>
                  <a:lnTo>
                    <a:pt x="388" y="1016"/>
                  </a:lnTo>
                  <a:lnTo>
                    <a:pt x="392" y="1011"/>
                  </a:lnTo>
                  <a:lnTo>
                    <a:pt x="397" y="1004"/>
                  </a:lnTo>
                  <a:lnTo>
                    <a:pt x="398" y="993"/>
                  </a:lnTo>
                  <a:lnTo>
                    <a:pt x="397" y="984"/>
                  </a:lnTo>
                  <a:lnTo>
                    <a:pt x="394" y="977"/>
                  </a:lnTo>
                  <a:lnTo>
                    <a:pt x="383" y="968"/>
                  </a:lnTo>
                  <a:lnTo>
                    <a:pt x="374" y="963"/>
                  </a:lnTo>
                  <a:lnTo>
                    <a:pt x="370" y="962"/>
                  </a:lnTo>
                  <a:lnTo>
                    <a:pt x="278" y="963"/>
                  </a:lnTo>
                  <a:lnTo>
                    <a:pt x="274" y="963"/>
                  </a:lnTo>
                  <a:lnTo>
                    <a:pt x="266" y="966"/>
                  </a:lnTo>
                  <a:lnTo>
                    <a:pt x="257" y="975"/>
                  </a:lnTo>
                  <a:lnTo>
                    <a:pt x="253" y="989"/>
                  </a:lnTo>
                  <a:close/>
                  <a:moveTo>
                    <a:pt x="419" y="989"/>
                  </a:moveTo>
                  <a:lnTo>
                    <a:pt x="422" y="1008"/>
                  </a:lnTo>
                  <a:lnTo>
                    <a:pt x="431" y="1019"/>
                  </a:lnTo>
                  <a:lnTo>
                    <a:pt x="445" y="1025"/>
                  </a:lnTo>
                  <a:lnTo>
                    <a:pt x="533" y="1025"/>
                  </a:lnTo>
                  <a:lnTo>
                    <a:pt x="538" y="1025"/>
                  </a:lnTo>
                  <a:lnTo>
                    <a:pt x="548" y="1020"/>
                  </a:lnTo>
                  <a:lnTo>
                    <a:pt x="554" y="1016"/>
                  </a:lnTo>
                  <a:lnTo>
                    <a:pt x="559" y="1011"/>
                  </a:lnTo>
                  <a:lnTo>
                    <a:pt x="563" y="1004"/>
                  </a:lnTo>
                  <a:lnTo>
                    <a:pt x="565" y="993"/>
                  </a:lnTo>
                  <a:lnTo>
                    <a:pt x="563" y="984"/>
                  </a:lnTo>
                  <a:lnTo>
                    <a:pt x="560" y="977"/>
                  </a:lnTo>
                  <a:lnTo>
                    <a:pt x="550" y="968"/>
                  </a:lnTo>
                  <a:lnTo>
                    <a:pt x="541" y="963"/>
                  </a:lnTo>
                  <a:lnTo>
                    <a:pt x="536" y="962"/>
                  </a:lnTo>
                  <a:lnTo>
                    <a:pt x="445" y="963"/>
                  </a:lnTo>
                  <a:lnTo>
                    <a:pt x="440" y="963"/>
                  </a:lnTo>
                  <a:lnTo>
                    <a:pt x="433" y="966"/>
                  </a:lnTo>
                  <a:lnTo>
                    <a:pt x="424" y="975"/>
                  </a:lnTo>
                  <a:lnTo>
                    <a:pt x="419" y="989"/>
                  </a:lnTo>
                  <a:close/>
                  <a:moveTo>
                    <a:pt x="80" y="1091"/>
                  </a:moveTo>
                  <a:lnTo>
                    <a:pt x="83" y="1111"/>
                  </a:lnTo>
                  <a:lnTo>
                    <a:pt x="92" y="1121"/>
                  </a:lnTo>
                  <a:lnTo>
                    <a:pt x="105" y="1127"/>
                  </a:lnTo>
                  <a:lnTo>
                    <a:pt x="194" y="1127"/>
                  </a:lnTo>
                  <a:lnTo>
                    <a:pt x="199" y="1127"/>
                  </a:lnTo>
                  <a:lnTo>
                    <a:pt x="209" y="1123"/>
                  </a:lnTo>
                  <a:lnTo>
                    <a:pt x="215" y="1118"/>
                  </a:lnTo>
                  <a:lnTo>
                    <a:pt x="220" y="1114"/>
                  </a:lnTo>
                  <a:lnTo>
                    <a:pt x="224" y="1106"/>
                  </a:lnTo>
                  <a:lnTo>
                    <a:pt x="226" y="1096"/>
                  </a:lnTo>
                  <a:lnTo>
                    <a:pt x="224" y="1087"/>
                  </a:lnTo>
                  <a:lnTo>
                    <a:pt x="221" y="1079"/>
                  </a:lnTo>
                  <a:lnTo>
                    <a:pt x="211" y="1070"/>
                  </a:lnTo>
                  <a:lnTo>
                    <a:pt x="202" y="1066"/>
                  </a:lnTo>
                  <a:lnTo>
                    <a:pt x="197" y="1064"/>
                  </a:lnTo>
                  <a:lnTo>
                    <a:pt x="104" y="1066"/>
                  </a:lnTo>
                  <a:lnTo>
                    <a:pt x="101" y="1066"/>
                  </a:lnTo>
                  <a:lnTo>
                    <a:pt x="93" y="1069"/>
                  </a:lnTo>
                  <a:lnTo>
                    <a:pt x="84" y="1078"/>
                  </a:lnTo>
                  <a:lnTo>
                    <a:pt x="80" y="1091"/>
                  </a:lnTo>
                  <a:close/>
                  <a:moveTo>
                    <a:pt x="253" y="1091"/>
                  </a:moveTo>
                  <a:lnTo>
                    <a:pt x="256" y="1111"/>
                  </a:lnTo>
                  <a:lnTo>
                    <a:pt x="265" y="1121"/>
                  </a:lnTo>
                  <a:lnTo>
                    <a:pt x="278" y="1127"/>
                  </a:lnTo>
                  <a:lnTo>
                    <a:pt x="367" y="1127"/>
                  </a:lnTo>
                  <a:lnTo>
                    <a:pt x="371" y="1127"/>
                  </a:lnTo>
                  <a:lnTo>
                    <a:pt x="382" y="1123"/>
                  </a:lnTo>
                  <a:lnTo>
                    <a:pt x="388" y="1118"/>
                  </a:lnTo>
                  <a:lnTo>
                    <a:pt x="392" y="1114"/>
                  </a:lnTo>
                  <a:lnTo>
                    <a:pt x="397" y="1106"/>
                  </a:lnTo>
                  <a:lnTo>
                    <a:pt x="398" y="1096"/>
                  </a:lnTo>
                  <a:lnTo>
                    <a:pt x="397" y="1087"/>
                  </a:lnTo>
                  <a:lnTo>
                    <a:pt x="394" y="1079"/>
                  </a:lnTo>
                  <a:lnTo>
                    <a:pt x="383" y="1070"/>
                  </a:lnTo>
                  <a:lnTo>
                    <a:pt x="374" y="1066"/>
                  </a:lnTo>
                  <a:lnTo>
                    <a:pt x="370" y="1064"/>
                  </a:lnTo>
                  <a:lnTo>
                    <a:pt x="278" y="1066"/>
                  </a:lnTo>
                  <a:lnTo>
                    <a:pt x="274" y="1066"/>
                  </a:lnTo>
                  <a:lnTo>
                    <a:pt x="266" y="1069"/>
                  </a:lnTo>
                  <a:lnTo>
                    <a:pt x="257" y="1078"/>
                  </a:lnTo>
                  <a:lnTo>
                    <a:pt x="253" y="1091"/>
                  </a:lnTo>
                  <a:close/>
                  <a:moveTo>
                    <a:pt x="419" y="1091"/>
                  </a:moveTo>
                  <a:lnTo>
                    <a:pt x="422" y="1111"/>
                  </a:lnTo>
                  <a:lnTo>
                    <a:pt x="431" y="1121"/>
                  </a:lnTo>
                  <a:lnTo>
                    <a:pt x="445" y="1127"/>
                  </a:lnTo>
                  <a:lnTo>
                    <a:pt x="533" y="1127"/>
                  </a:lnTo>
                  <a:lnTo>
                    <a:pt x="538" y="1127"/>
                  </a:lnTo>
                  <a:lnTo>
                    <a:pt x="548" y="1123"/>
                  </a:lnTo>
                  <a:lnTo>
                    <a:pt x="554" y="1118"/>
                  </a:lnTo>
                  <a:lnTo>
                    <a:pt x="559" y="1114"/>
                  </a:lnTo>
                  <a:lnTo>
                    <a:pt x="563" y="1106"/>
                  </a:lnTo>
                  <a:lnTo>
                    <a:pt x="565" y="1096"/>
                  </a:lnTo>
                  <a:lnTo>
                    <a:pt x="563" y="1087"/>
                  </a:lnTo>
                  <a:lnTo>
                    <a:pt x="560" y="1079"/>
                  </a:lnTo>
                  <a:lnTo>
                    <a:pt x="550" y="1070"/>
                  </a:lnTo>
                  <a:lnTo>
                    <a:pt x="541" y="1066"/>
                  </a:lnTo>
                  <a:lnTo>
                    <a:pt x="536" y="1064"/>
                  </a:lnTo>
                  <a:lnTo>
                    <a:pt x="445" y="1066"/>
                  </a:lnTo>
                  <a:lnTo>
                    <a:pt x="440" y="1066"/>
                  </a:lnTo>
                  <a:lnTo>
                    <a:pt x="433" y="1069"/>
                  </a:lnTo>
                  <a:lnTo>
                    <a:pt x="424" y="1078"/>
                  </a:lnTo>
                  <a:lnTo>
                    <a:pt x="419" y="1091"/>
                  </a:lnTo>
                  <a:close/>
                  <a:moveTo>
                    <a:pt x="233" y="0"/>
                  </a:moveTo>
                  <a:lnTo>
                    <a:pt x="412" y="0"/>
                  </a:lnTo>
                  <a:lnTo>
                    <a:pt x="427" y="2"/>
                  </a:lnTo>
                  <a:lnTo>
                    <a:pt x="464" y="9"/>
                  </a:lnTo>
                  <a:lnTo>
                    <a:pt x="487" y="15"/>
                  </a:lnTo>
                  <a:lnTo>
                    <a:pt x="511" y="26"/>
                  </a:lnTo>
                  <a:lnTo>
                    <a:pt x="535" y="38"/>
                  </a:lnTo>
                  <a:lnTo>
                    <a:pt x="556" y="55"/>
                  </a:lnTo>
                  <a:lnTo>
                    <a:pt x="575" y="74"/>
                  </a:lnTo>
                  <a:lnTo>
                    <a:pt x="590" y="92"/>
                  </a:lnTo>
                  <a:lnTo>
                    <a:pt x="604" y="112"/>
                  </a:lnTo>
                  <a:lnTo>
                    <a:pt x="616" y="131"/>
                  </a:lnTo>
                  <a:lnTo>
                    <a:pt x="625" y="152"/>
                  </a:lnTo>
                  <a:lnTo>
                    <a:pt x="632" y="176"/>
                  </a:lnTo>
                  <a:lnTo>
                    <a:pt x="637" y="200"/>
                  </a:lnTo>
                  <a:lnTo>
                    <a:pt x="640" y="229"/>
                  </a:lnTo>
                  <a:lnTo>
                    <a:pt x="641" y="1094"/>
                  </a:lnTo>
                  <a:lnTo>
                    <a:pt x="640" y="1111"/>
                  </a:lnTo>
                  <a:lnTo>
                    <a:pt x="631" y="1150"/>
                  </a:lnTo>
                  <a:lnTo>
                    <a:pt x="623" y="1174"/>
                  </a:lnTo>
                  <a:lnTo>
                    <a:pt x="611" y="1199"/>
                  </a:lnTo>
                  <a:lnTo>
                    <a:pt x="595" y="1224"/>
                  </a:lnTo>
                  <a:lnTo>
                    <a:pt x="574" y="1246"/>
                  </a:lnTo>
                  <a:lnTo>
                    <a:pt x="532" y="1281"/>
                  </a:lnTo>
                  <a:lnTo>
                    <a:pt x="512" y="1293"/>
                  </a:lnTo>
                  <a:lnTo>
                    <a:pt x="493" y="1302"/>
                  </a:lnTo>
                  <a:lnTo>
                    <a:pt x="475" y="1309"/>
                  </a:lnTo>
                  <a:lnTo>
                    <a:pt x="457" y="1314"/>
                  </a:lnTo>
                  <a:lnTo>
                    <a:pt x="437" y="1317"/>
                  </a:lnTo>
                  <a:lnTo>
                    <a:pt x="416" y="1318"/>
                  </a:lnTo>
                  <a:lnTo>
                    <a:pt x="211" y="1318"/>
                  </a:lnTo>
                  <a:lnTo>
                    <a:pt x="197" y="1317"/>
                  </a:lnTo>
                  <a:lnTo>
                    <a:pt x="162" y="1308"/>
                  </a:lnTo>
                  <a:lnTo>
                    <a:pt x="140" y="1299"/>
                  </a:lnTo>
                  <a:lnTo>
                    <a:pt x="114" y="1285"/>
                  </a:lnTo>
                  <a:lnTo>
                    <a:pt x="89" y="1267"/>
                  </a:lnTo>
                  <a:lnTo>
                    <a:pt x="63" y="1243"/>
                  </a:lnTo>
                  <a:lnTo>
                    <a:pt x="42" y="1216"/>
                  </a:lnTo>
                  <a:lnTo>
                    <a:pt x="26" y="1189"/>
                  </a:lnTo>
                  <a:lnTo>
                    <a:pt x="8" y="1141"/>
                  </a:lnTo>
                  <a:lnTo>
                    <a:pt x="3" y="1120"/>
                  </a:lnTo>
                  <a:lnTo>
                    <a:pt x="0" y="1103"/>
                  </a:lnTo>
                  <a:lnTo>
                    <a:pt x="0" y="1084"/>
                  </a:lnTo>
                  <a:lnTo>
                    <a:pt x="0" y="235"/>
                  </a:lnTo>
                  <a:lnTo>
                    <a:pt x="0" y="220"/>
                  </a:lnTo>
                  <a:lnTo>
                    <a:pt x="6" y="181"/>
                  </a:lnTo>
                  <a:lnTo>
                    <a:pt x="15" y="155"/>
                  </a:lnTo>
                  <a:lnTo>
                    <a:pt x="29" y="127"/>
                  </a:lnTo>
                  <a:lnTo>
                    <a:pt x="47" y="98"/>
                  </a:lnTo>
                  <a:lnTo>
                    <a:pt x="59" y="83"/>
                  </a:lnTo>
                  <a:lnTo>
                    <a:pt x="72" y="68"/>
                  </a:lnTo>
                  <a:lnTo>
                    <a:pt x="87" y="55"/>
                  </a:lnTo>
                  <a:lnTo>
                    <a:pt x="102" y="44"/>
                  </a:lnTo>
                  <a:lnTo>
                    <a:pt x="131" y="26"/>
                  </a:lnTo>
                  <a:lnTo>
                    <a:pt x="158" y="14"/>
                  </a:lnTo>
                  <a:lnTo>
                    <a:pt x="182" y="6"/>
                  </a:lnTo>
                  <a:lnTo>
                    <a:pt x="220" y="0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343160" y="1496880"/>
              <a:ext cx="153720" cy="301680"/>
            </a:xfrm>
            <a:custGeom>
              <a:avLst/>
              <a:gdLst>
                <a:gd name="textAreaLeft" fmla="*/ 14040 w 153720"/>
                <a:gd name="textAreaRight" fmla="*/ 139680 w 153720"/>
                <a:gd name="textAreaTop" fmla="*/ 14040 h 301680"/>
                <a:gd name="textAreaBottom" fmla="*/ 287640 h 301680"/>
              </a:gdLst>
              <a:ahLst/>
              <a:rect l="textAreaLeft" t="textAreaTop" r="textAreaRight" b="textAreaBottom"/>
              <a:pathLst>
                <a:path w="21600" h="42342">
                  <a:moveTo>
                    <a:pt x="6840" y="0"/>
                  </a:moveTo>
                  <a:arcTo wR="6840" hR="6840" stAng="16200000" swAng="-5400000"/>
                  <a:lnTo>
                    <a:pt x="0" y="35502"/>
                  </a:lnTo>
                  <a:arcTo wR="6840" hR="6840" stAng="10800000" swAng="-5400000"/>
                  <a:lnTo>
                    <a:pt x="14760" y="42342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80" y="89"/>
                  </a:moveTo>
                  <a:lnTo>
                    <a:pt x="259" y="90"/>
                  </a:lnTo>
                  <a:lnTo>
                    <a:pt x="250" y="92"/>
                  </a:lnTo>
                  <a:lnTo>
                    <a:pt x="241" y="93"/>
                  </a:lnTo>
                  <a:lnTo>
                    <a:pt x="232" y="95"/>
                  </a:lnTo>
                  <a:lnTo>
                    <a:pt x="222" y="98"/>
                  </a:lnTo>
                  <a:lnTo>
                    <a:pt x="205" y="105"/>
                  </a:lnTo>
                  <a:lnTo>
                    <a:pt x="196" y="108"/>
                  </a:lnTo>
                  <a:lnTo>
                    <a:pt x="187" y="113"/>
                  </a:lnTo>
                  <a:lnTo>
                    <a:pt x="180" y="117"/>
                  </a:lnTo>
                  <a:lnTo>
                    <a:pt x="172" y="122"/>
                  </a:lnTo>
                  <a:lnTo>
                    <a:pt x="165" y="128"/>
                  </a:lnTo>
                  <a:lnTo>
                    <a:pt x="157" y="134"/>
                  </a:lnTo>
                  <a:lnTo>
                    <a:pt x="150" y="140"/>
                  </a:lnTo>
                  <a:lnTo>
                    <a:pt x="144" y="146"/>
                  </a:lnTo>
                  <a:lnTo>
                    <a:pt x="132" y="160"/>
                  </a:lnTo>
                  <a:lnTo>
                    <a:pt x="120" y="175"/>
                  </a:lnTo>
                  <a:lnTo>
                    <a:pt x="111" y="191"/>
                  </a:lnTo>
                  <a:lnTo>
                    <a:pt x="102" y="208"/>
                  </a:lnTo>
                  <a:lnTo>
                    <a:pt x="96" y="226"/>
                  </a:lnTo>
                  <a:lnTo>
                    <a:pt x="91" y="244"/>
                  </a:lnTo>
                  <a:lnTo>
                    <a:pt x="88" y="263"/>
                  </a:lnTo>
                  <a:lnTo>
                    <a:pt x="87" y="283"/>
                  </a:lnTo>
                  <a:lnTo>
                    <a:pt x="87" y="1226"/>
                  </a:lnTo>
                  <a:lnTo>
                    <a:pt x="88" y="1237"/>
                  </a:lnTo>
                  <a:lnTo>
                    <a:pt x="88" y="1246"/>
                  </a:lnTo>
                  <a:lnTo>
                    <a:pt x="90" y="1256"/>
                  </a:lnTo>
                  <a:lnTo>
                    <a:pt x="91" y="1265"/>
                  </a:lnTo>
                  <a:lnTo>
                    <a:pt x="93" y="1274"/>
                  </a:lnTo>
                  <a:lnTo>
                    <a:pt x="96" y="1283"/>
                  </a:lnTo>
                  <a:lnTo>
                    <a:pt x="102" y="1302"/>
                  </a:lnTo>
                  <a:lnTo>
                    <a:pt x="106" y="1311"/>
                  </a:lnTo>
                  <a:lnTo>
                    <a:pt x="111" y="1318"/>
                  </a:lnTo>
                  <a:lnTo>
                    <a:pt x="115" y="1327"/>
                  </a:lnTo>
                  <a:lnTo>
                    <a:pt x="120" y="1335"/>
                  </a:lnTo>
                  <a:lnTo>
                    <a:pt x="126" y="1342"/>
                  </a:lnTo>
                  <a:lnTo>
                    <a:pt x="132" y="1350"/>
                  </a:lnTo>
                  <a:lnTo>
                    <a:pt x="138" y="1356"/>
                  </a:lnTo>
                  <a:lnTo>
                    <a:pt x="144" y="1363"/>
                  </a:lnTo>
                  <a:lnTo>
                    <a:pt x="157" y="1375"/>
                  </a:lnTo>
                  <a:lnTo>
                    <a:pt x="172" y="1386"/>
                  </a:lnTo>
                  <a:lnTo>
                    <a:pt x="187" y="1396"/>
                  </a:lnTo>
                  <a:lnTo>
                    <a:pt x="205" y="1404"/>
                  </a:lnTo>
                  <a:lnTo>
                    <a:pt x="222" y="1411"/>
                  </a:lnTo>
                  <a:lnTo>
                    <a:pt x="241" y="1416"/>
                  </a:lnTo>
                  <a:lnTo>
                    <a:pt x="259" y="1419"/>
                  </a:lnTo>
                  <a:lnTo>
                    <a:pt x="280" y="1419"/>
                  </a:lnTo>
                  <a:lnTo>
                    <a:pt x="543" y="1419"/>
                  </a:lnTo>
                  <a:lnTo>
                    <a:pt x="563" y="1419"/>
                  </a:lnTo>
                  <a:lnTo>
                    <a:pt x="572" y="1417"/>
                  </a:lnTo>
                  <a:lnTo>
                    <a:pt x="582" y="1416"/>
                  </a:lnTo>
                  <a:lnTo>
                    <a:pt x="591" y="1413"/>
                  </a:lnTo>
                  <a:lnTo>
                    <a:pt x="600" y="1411"/>
                  </a:lnTo>
                  <a:lnTo>
                    <a:pt x="618" y="1404"/>
                  </a:lnTo>
                  <a:lnTo>
                    <a:pt x="626" y="1401"/>
                  </a:lnTo>
                  <a:lnTo>
                    <a:pt x="635" y="1396"/>
                  </a:lnTo>
                  <a:lnTo>
                    <a:pt x="642" y="1392"/>
                  </a:lnTo>
                  <a:lnTo>
                    <a:pt x="651" y="1386"/>
                  </a:lnTo>
                  <a:lnTo>
                    <a:pt x="659" y="1381"/>
                  </a:lnTo>
                  <a:lnTo>
                    <a:pt x="665" y="1375"/>
                  </a:lnTo>
                  <a:lnTo>
                    <a:pt x="672" y="1369"/>
                  </a:lnTo>
                  <a:lnTo>
                    <a:pt x="678" y="1363"/>
                  </a:lnTo>
                  <a:lnTo>
                    <a:pt x="692" y="1350"/>
                  </a:lnTo>
                  <a:lnTo>
                    <a:pt x="702" y="1335"/>
                  </a:lnTo>
                  <a:lnTo>
                    <a:pt x="713" y="1318"/>
                  </a:lnTo>
                  <a:lnTo>
                    <a:pt x="720" y="1302"/>
                  </a:lnTo>
                  <a:lnTo>
                    <a:pt x="726" y="1283"/>
                  </a:lnTo>
                  <a:lnTo>
                    <a:pt x="731" y="1265"/>
                  </a:lnTo>
                  <a:lnTo>
                    <a:pt x="734" y="1246"/>
                  </a:lnTo>
                  <a:lnTo>
                    <a:pt x="735" y="1226"/>
                  </a:lnTo>
                  <a:lnTo>
                    <a:pt x="735" y="283"/>
                  </a:lnTo>
                  <a:lnTo>
                    <a:pt x="735" y="272"/>
                  </a:lnTo>
                  <a:lnTo>
                    <a:pt x="734" y="263"/>
                  </a:lnTo>
                  <a:lnTo>
                    <a:pt x="734" y="253"/>
                  </a:lnTo>
                  <a:lnTo>
                    <a:pt x="731" y="244"/>
                  </a:lnTo>
                  <a:lnTo>
                    <a:pt x="729" y="235"/>
                  </a:lnTo>
                  <a:lnTo>
                    <a:pt x="726" y="226"/>
                  </a:lnTo>
                  <a:lnTo>
                    <a:pt x="720" y="208"/>
                  </a:lnTo>
                  <a:lnTo>
                    <a:pt x="716" y="199"/>
                  </a:lnTo>
                  <a:lnTo>
                    <a:pt x="713" y="191"/>
                  </a:lnTo>
                  <a:lnTo>
                    <a:pt x="707" y="182"/>
                  </a:lnTo>
                  <a:lnTo>
                    <a:pt x="702" y="175"/>
                  </a:lnTo>
                  <a:lnTo>
                    <a:pt x="698" y="167"/>
                  </a:lnTo>
                  <a:lnTo>
                    <a:pt x="692" y="160"/>
                  </a:lnTo>
                  <a:lnTo>
                    <a:pt x="686" y="152"/>
                  </a:lnTo>
                  <a:lnTo>
                    <a:pt x="678" y="146"/>
                  </a:lnTo>
                  <a:lnTo>
                    <a:pt x="665" y="134"/>
                  </a:lnTo>
                  <a:lnTo>
                    <a:pt x="651" y="122"/>
                  </a:lnTo>
                  <a:lnTo>
                    <a:pt x="635" y="113"/>
                  </a:lnTo>
                  <a:lnTo>
                    <a:pt x="618" y="105"/>
                  </a:lnTo>
                  <a:lnTo>
                    <a:pt x="600" y="98"/>
                  </a:lnTo>
                  <a:lnTo>
                    <a:pt x="582" y="93"/>
                  </a:lnTo>
                  <a:lnTo>
                    <a:pt x="563" y="90"/>
                  </a:lnTo>
                  <a:lnTo>
                    <a:pt x="543" y="89"/>
                  </a:lnTo>
                  <a:lnTo>
                    <a:pt x="280" y="89"/>
                  </a:lnTo>
                  <a:close/>
                  <a:moveTo>
                    <a:pt x="274" y="0"/>
                  </a:moveTo>
                  <a:lnTo>
                    <a:pt x="548" y="0"/>
                  </a:lnTo>
                  <a:lnTo>
                    <a:pt x="563" y="0"/>
                  </a:lnTo>
                  <a:lnTo>
                    <a:pt x="576" y="2"/>
                  </a:lnTo>
                  <a:lnTo>
                    <a:pt x="590" y="3"/>
                  </a:lnTo>
                  <a:lnTo>
                    <a:pt x="603" y="6"/>
                  </a:lnTo>
                  <a:lnTo>
                    <a:pt x="617" y="9"/>
                  </a:lnTo>
                  <a:lnTo>
                    <a:pt x="630" y="12"/>
                  </a:lnTo>
                  <a:lnTo>
                    <a:pt x="642" y="17"/>
                  </a:lnTo>
                  <a:lnTo>
                    <a:pt x="656" y="23"/>
                  </a:lnTo>
                  <a:lnTo>
                    <a:pt x="668" y="27"/>
                  </a:lnTo>
                  <a:lnTo>
                    <a:pt x="680" y="33"/>
                  </a:lnTo>
                  <a:lnTo>
                    <a:pt x="690" y="41"/>
                  </a:lnTo>
                  <a:lnTo>
                    <a:pt x="702" y="47"/>
                  </a:lnTo>
                  <a:lnTo>
                    <a:pt x="713" y="56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2" y="90"/>
                  </a:lnTo>
                  <a:lnTo>
                    <a:pt x="761" y="101"/>
                  </a:lnTo>
                  <a:lnTo>
                    <a:pt x="768" y="11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795" y="157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5" y="208"/>
                  </a:lnTo>
                  <a:lnTo>
                    <a:pt x="818" y="220"/>
                  </a:lnTo>
                  <a:lnTo>
                    <a:pt x="819" y="233"/>
                  </a:lnTo>
                  <a:lnTo>
                    <a:pt x="821" y="248"/>
                  </a:lnTo>
                  <a:lnTo>
                    <a:pt x="822" y="262"/>
                  </a:lnTo>
                  <a:lnTo>
                    <a:pt x="822" y="275"/>
                  </a:lnTo>
                  <a:lnTo>
                    <a:pt x="822" y="1234"/>
                  </a:lnTo>
                  <a:lnTo>
                    <a:pt x="822" y="1247"/>
                  </a:lnTo>
                  <a:lnTo>
                    <a:pt x="821" y="1261"/>
                  </a:lnTo>
                  <a:lnTo>
                    <a:pt x="819" y="1274"/>
                  </a:lnTo>
                  <a:lnTo>
                    <a:pt x="818" y="1288"/>
                  </a:lnTo>
                  <a:lnTo>
                    <a:pt x="815" y="1302"/>
                  </a:lnTo>
                  <a:lnTo>
                    <a:pt x="810" y="1315"/>
                  </a:lnTo>
                  <a:lnTo>
                    <a:pt x="806" y="1329"/>
                  </a:lnTo>
                  <a:lnTo>
                    <a:pt x="801" y="1341"/>
                  </a:lnTo>
                  <a:lnTo>
                    <a:pt x="795" y="1353"/>
                  </a:lnTo>
                  <a:lnTo>
                    <a:pt x="789" y="1365"/>
                  </a:lnTo>
                  <a:lnTo>
                    <a:pt x="783" y="1377"/>
                  </a:lnTo>
                  <a:lnTo>
                    <a:pt x="776" y="1387"/>
                  </a:lnTo>
                  <a:lnTo>
                    <a:pt x="768" y="1398"/>
                  </a:lnTo>
                  <a:lnTo>
                    <a:pt x="761" y="1408"/>
                  </a:lnTo>
                  <a:lnTo>
                    <a:pt x="743" y="1428"/>
                  </a:lnTo>
                  <a:lnTo>
                    <a:pt x="732" y="1437"/>
                  </a:lnTo>
                  <a:lnTo>
                    <a:pt x="723" y="1446"/>
                  </a:lnTo>
                  <a:lnTo>
                    <a:pt x="713" y="1453"/>
                  </a:lnTo>
                  <a:lnTo>
                    <a:pt x="702" y="1461"/>
                  </a:lnTo>
                  <a:lnTo>
                    <a:pt x="680" y="1476"/>
                  </a:lnTo>
                  <a:lnTo>
                    <a:pt x="668" y="1482"/>
                  </a:lnTo>
                  <a:lnTo>
                    <a:pt x="656" y="1487"/>
                  </a:lnTo>
                  <a:lnTo>
                    <a:pt x="630" y="1496"/>
                  </a:lnTo>
                  <a:lnTo>
                    <a:pt x="617" y="1500"/>
                  </a:lnTo>
                  <a:lnTo>
                    <a:pt x="603" y="1503"/>
                  </a:lnTo>
                  <a:lnTo>
                    <a:pt x="590" y="1506"/>
                  </a:lnTo>
                  <a:lnTo>
                    <a:pt x="576" y="1508"/>
                  </a:lnTo>
                  <a:lnTo>
                    <a:pt x="563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61" y="1508"/>
                  </a:lnTo>
                  <a:lnTo>
                    <a:pt x="246" y="1508"/>
                  </a:lnTo>
                  <a:lnTo>
                    <a:pt x="232" y="1506"/>
                  </a:lnTo>
                  <a:lnTo>
                    <a:pt x="219" y="1503"/>
                  </a:lnTo>
                  <a:lnTo>
                    <a:pt x="205" y="1500"/>
                  </a:lnTo>
                  <a:lnTo>
                    <a:pt x="193" y="1496"/>
                  </a:lnTo>
                  <a:lnTo>
                    <a:pt x="180" y="1493"/>
                  </a:lnTo>
                  <a:lnTo>
                    <a:pt x="168" y="1487"/>
                  </a:lnTo>
                  <a:lnTo>
                    <a:pt x="156" y="1482"/>
                  </a:lnTo>
                  <a:lnTo>
                    <a:pt x="144" y="1476"/>
                  </a:lnTo>
                  <a:lnTo>
                    <a:pt x="132" y="1469"/>
                  </a:lnTo>
                  <a:lnTo>
                    <a:pt x="121" y="1461"/>
                  </a:lnTo>
                  <a:lnTo>
                    <a:pt x="111" y="1453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72" y="1419"/>
                  </a:lnTo>
                  <a:lnTo>
                    <a:pt x="63" y="1408"/>
                  </a:lnTo>
                  <a:lnTo>
                    <a:pt x="54" y="139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7" y="1353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9" y="1302"/>
                  </a:lnTo>
                  <a:lnTo>
                    <a:pt x="6" y="1288"/>
                  </a:lnTo>
                  <a:lnTo>
                    <a:pt x="3" y="1274"/>
                  </a:lnTo>
                  <a:lnTo>
                    <a:pt x="1" y="1261"/>
                  </a:lnTo>
                  <a:lnTo>
                    <a:pt x="0" y="1247"/>
                  </a:lnTo>
                  <a:lnTo>
                    <a:pt x="0" y="1234"/>
                  </a:lnTo>
                  <a:lnTo>
                    <a:pt x="0" y="275"/>
                  </a:lnTo>
                  <a:lnTo>
                    <a:pt x="0" y="262"/>
                  </a:lnTo>
                  <a:lnTo>
                    <a:pt x="1" y="248"/>
                  </a:lnTo>
                  <a:lnTo>
                    <a:pt x="3" y="233"/>
                  </a:lnTo>
                  <a:lnTo>
                    <a:pt x="6" y="220"/>
                  </a:lnTo>
                  <a:lnTo>
                    <a:pt x="9" y="208"/>
                  </a:lnTo>
                  <a:lnTo>
                    <a:pt x="12" y="194"/>
                  </a:lnTo>
                  <a:lnTo>
                    <a:pt x="16" y="181"/>
                  </a:lnTo>
                  <a:lnTo>
                    <a:pt x="21" y="169"/>
                  </a:lnTo>
                  <a:lnTo>
                    <a:pt x="27" y="157"/>
                  </a:lnTo>
                  <a:lnTo>
                    <a:pt x="33" y="145"/>
                  </a:lnTo>
                  <a:lnTo>
                    <a:pt x="40" y="133"/>
                  </a:lnTo>
                  <a:lnTo>
                    <a:pt x="46" y="122"/>
                  </a:lnTo>
                  <a:lnTo>
                    <a:pt x="54" y="111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90" y="72"/>
                  </a:lnTo>
                  <a:lnTo>
                    <a:pt x="100" y="63"/>
                  </a:lnTo>
                  <a:lnTo>
                    <a:pt x="111" y="56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56" y="27"/>
                  </a:lnTo>
                  <a:lnTo>
                    <a:pt x="168" y="23"/>
                  </a:lnTo>
                  <a:lnTo>
                    <a:pt x="193" y="12"/>
                  </a:lnTo>
                  <a:lnTo>
                    <a:pt x="205" y="9"/>
                  </a:lnTo>
                  <a:lnTo>
                    <a:pt x="219" y="6"/>
                  </a:lnTo>
                  <a:lnTo>
                    <a:pt x="232" y="3"/>
                  </a:lnTo>
                  <a:lnTo>
                    <a:pt x="246" y="2"/>
                  </a:lnTo>
                  <a:lnTo>
                    <a:pt x="261" y="0"/>
                  </a:lnTo>
                  <a:lnTo>
                    <a:pt x="27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352520" y="1506600"/>
              <a:ext cx="138240" cy="282600"/>
            </a:xfrm>
            <a:custGeom>
              <a:avLst/>
              <a:gdLst/>
              <a:ahLst/>
              <a:rect l="l" t="t" r="r" b="b"/>
              <a:pathLst>
                <a:path w="648" h="1330">
                  <a:moveTo>
                    <a:pt x="192" y="0"/>
                  </a:moveTo>
                  <a:lnTo>
                    <a:pt x="154" y="4"/>
                  </a:lnTo>
                  <a:lnTo>
                    <a:pt x="118" y="15"/>
                  </a:lnTo>
                  <a:lnTo>
                    <a:pt x="100" y="24"/>
                  </a:lnTo>
                  <a:lnTo>
                    <a:pt x="85" y="33"/>
                  </a:lnTo>
                  <a:lnTo>
                    <a:pt x="57" y="57"/>
                  </a:lnTo>
                  <a:lnTo>
                    <a:pt x="33" y="86"/>
                  </a:lnTo>
                  <a:lnTo>
                    <a:pt x="24" y="101"/>
                  </a:lnTo>
                  <a:lnTo>
                    <a:pt x="15" y="119"/>
                  </a:lnTo>
                  <a:lnTo>
                    <a:pt x="9" y="135"/>
                  </a:lnTo>
                  <a:lnTo>
                    <a:pt x="4" y="155"/>
                  </a:lnTo>
                  <a:lnTo>
                    <a:pt x="1" y="173"/>
                  </a:lnTo>
                  <a:lnTo>
                    <a:pt x="0" y="194"/>
                  </a:lnTo>
                  <a:lnTo>
                    <a:pt x="0" y="1137"/>
                  </a:lnTo>
                  <a:lnTo>
                    <a:pt x="4" y="1176"/>
                  </a:lnTo>
                  <a:lnTo>
                    <a:pt x="15" y="1213"/>
                  </a:lnTo>
                  <a:lnTo>
                    <a:pt x="24" y="1229"/>
                  </a:lnTo>
                  <a:lnTo>
                    <a:pt x="33" y="1246"/>
                  </a:lnTo>
                  <a:lnTo>
                    <a:pt x="57" y="1274"/>
                  </a:lnTo>
                  <a:lnTo>
                    <a:pt x="85" y="1297"/>
                  </a:lnTo>
                  <a:lnTo>
                    <a:pt x="100" y="1307"/>
                  </a:lnTo>
                  <a:lnTo>
                    <a:pt x="118" y="1315"/>
                  </a:lnTo>
                  <a:lnTo>
                    <a:pt x="135" y="1321"/>
                  </a:lnTo>
                  <a:lnTo>
                    <a:pt x="154" y="1327"/>
                  </a:lnTo>
                  <a:lnTo>
                    <a:pt x="192" y="1330"/>
                  </a:lnTo>
                  <a:lnTo>
                    <a:pt x="456" y="1330"/>
                  </a:lnTo>
                  <a:lnTo>
                    <a:pt x="495" y="1327"/>
                  </a:lnTo>
                  <a:lnTo>
                    <a:pt x="531" y="1315"/>
                  </a:lnTo>
                  <a:lnTo>
                    <a:pt x="548" y="1307"/>
                  </a:lnTo>
                  <a:lnTo>
                    <a:pt x="563" y="1297"/>
                  </a:lnTo>
                  <a:lnTo>
                    <a:pt x="591" y="1274"/>
                  </a:lnTo>
                  <a:lnTo>
                    <a:pt x="615" y="1246"/>
                  </a:lnTo>
                  <a:lnTo>
                    <a:pt x="624" y="1229"/>
                  </a:lnTo>
                  <a:lnTo>
                    <a:pt x="633" y="1213"/>
                  </a:lnTo>
                  <a:lnTo>
                    <a:pt x="639" y="1194"/>
                  </a:lnTo>
                  <a:lnTo>
                    <a:pt x="644" y="1176"/>
                  </a:lnTo>
                  <a:lnTo>
                    <a:pt x="647" y="1157"/>
                  </a:lnTo>
                  <a:lnTo>
                    <a:pt x="648" y="1137"/>
                  </a:lnTo>
                  <a:lnTo>
                    <a:pt x="648" y="194"/>
                  </a:lnTo>
                  <a:lnTo>
                    <a:pt x="644" y="155"/>
                  </a:lnTo>
                  <a:lnTo>
                    <a:pt x="633" y="119"/>
                  </a:lnTo>
                  <a:lnTo>
                    <a:pt x="624" y="101"/>
                  </a:lnTo>
                  <a:lnTo>
                    <a:pt x="615" y="86"/>
                  </a:lnTo>
                  <a:lnTo>
                    <a:pt x="591" y="57"/>
                  </a:lnTo>
                  <a:lnTo>
                    <a:pt x="563" y="33"/>
                  </a:lnTo>
                  <a:lnTo>
                    <a:pt x="548" y="24"/>
                  </a:lnTo>
                  <a:lnTo>
                    <a:pt x="531" y="15"/>
                  </a:lnTo>
                  <a:lnTo>
                    <a:pt x="513" y="9"/>
                  </a:lnTo>
                  <a:lnTo>
                    <a:pt x="495" y="4"/>
                  </a:lnTo>
                  <a:lnTo>
                    <a:pt x="456" y="0"/>
                  </a:lnTo>
                  <a:lnTo>
                    <a:pt x="192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33440" y="1487520"/>
              <a:ext cx="176400" cy="320760"/>
            </a:xfrm>
            <a:custGeom>
              <a:avLst/>
              <a:gdLst/>
              <a:ahLst/>
              <a:rect l="l" t="t" r="r" b="b"/>
              <a:pathLst>
                <a:path w="822" h="1509">
                  <a:moveTo>
                    <a:pt x="274" y="0"/>
                  </a:moveTo>
                  <a:lnTo>
                    <a:pt x="548" y="0"/>
                  </a:lnTo>
                  <a:lnTo>
                    <a:pt x="576" y="2"/>
                  </a:lnTo>
                  <a:lnTo>
                    <a:pt x="603" y="6"/>
                  </a:lnTo>
                  <a:lnTo>
                    <a:pt x="630" y="12"/>
                  </a:lnTo>
                  <a:lnTo>
                    <a:pt x="654" y="21"/>
                  </a:lnTo>
                  <a:lnTo>
                    <a:pt x="678" y="33"/>
                  </a:lnTo>
                  <a:lnTo>
                    <a:pt x="702" y="47"/>
                  </a:lnTo>
                  <a:lnTo>
                    <a:pt x="723" y="63"/>
                  </a:lnTo>
                  <a:lnTo>
                    <a:pt x="743" y="81"/>
                  </a:lnTo>
                  <a:lnTo>
                    <a:pt x="759" y="101"/>
                  </a:lnTo>
                  <a:lnTo>
                    <a:pt x="776" y="122"/>
                  </a:lnTo>
                  <a:lnTo>
                    <a:pt x="789" y="145"/>
                  </a:lnTo>
                  <a:lnTo>
                    <a:pt x="801" y="169"/>
                  </a:lnTo>
                  <a:lnTo>
                    <a:pt x="810" y="194"/>
                  </a:lnTo>
                  <a:lnTo>
                    <a:pt x="818" y="220"/>
                  </a:lnTo>
                  <a:lnTo>
                    <a:pt x="821" y="247"/>
                  </a:lnTo>
                  <a:lnTo>
                    <a:pt x="822" y="275"/>
                  </a:lnTo>
                  <a:lnTo>
                    <a:pt x="822" y="1232"/>
                  </a:lnTo>
                  <a:lnTo>
                    <a:pt x="821" y="1261"/>
                  </a:lnTo>
                  <a:lnTo>
                    <a:pt x="818" y="1288"/>
                  </a:lnTo>
                  <a:lnTo>
                    <a:pt x="810" y="1315"/>
                  </a:lnTo>
                  <a:lnTo>
                    <a:pt x="801" y="1341"/>
                  </a:lnTo>
                  <a:lnTo>
                    <a:pt x="789" y="1365"/>
                  </a:lnTo>
                  <a:lnTo>
                    <a:pt x="776" y="1387"/>
                  </a:lnTo>
                  <a:lnTo>
                    <a:pt x="759" y="1408"/>
                  </a:lnTo>
                  <a:lnTo>
                    <a:pt x="743" y="1428"/>
                  </a:lnTo>
                  <a:lnTo>
                    <a:pt x="723" y="1446"/>
                  </a:lnTo>
                  <a:lnTo>
                    <a:pt x="702" y="1461"/>
                  </a:lnTo>
                  <a:lnTo>
                    <a:pt x="678" y="1475"/>
                  </a:lnTo>
                  <a:lnTo>
                    <a:pt x="654" y="1487"/>
                  </a:lnTo>
                  <a:lnTo>
                    <a:pt x="630" y="1496"/>
                  </a:lnTo>
                  <a:lnTo>
                    <a:pt x="603" y="1503"/>
                  </a:lnTo>
                  <a:lnTo>
                    <a:pt x="576" y="1508"/>
                  </a:lnTo>
                  <a:lnTo>
                    <a:pt x="548" y="1509"/>
                  </a:lnTo>
                  <a:lnTo>
                    <a:pt x="274" y="1509"/>
                  </a:lnTo>
                  <a:lnTo>
                    <a:pt x="246" y="1508"/>
                  </a:lnTo>
                  <a:lnTo>
                    <a:pt x="219" y="1503"/>
                  </a:lnTo>
                  <a:lnTo>
                    <a:pt x="193" y="1496"/>
                  </a:lnTo>
                  <a:lnTo>
                    <a:pt x="168" y="1487"/>
                  </a:lnTo>
                  <a:lnTo>
                    <a:pt x="144" y="1475"/>
                  </a:lnTo>
                  <a:lnTo>
                    <a:pt x="121" y="1461"/>
                  </a:lnTo>
                  <a:lnTo>
                    <a:pt x="100" y="1446"/>
                  </a:lnTo>
                  <a:lnTo>
                    <a:pt x="81" y="1428"/>
                  </a:lnTo>
                  <a:lnTo>
                    <a:pt x="63" y="1408"/>
                  </a:lnTo>
                  <a:lnTo>
                    <a:pt x="46" y="1387"/>
                  </a:lnTo>
                  <a:lnTo>
                    <a:pt x="33" y="1365"/>
                  </a:lnTo>
                  <a:lnTo>
                    <a:pt x="21" y="1341"/>
                  </a:lnTo>
                  <a:lnTo>
                    <a:pt x="12" y="1315"/>
                  </a:lnTo>
                  <a:lnTo>
                    <a:pt x="6" y="1288"/>
                  </a:lnTo>
                  <a:lnTo>
                    <a:pt x="1" y="1261"/>
                  </a:lnTo>
                  <a:lnTo>
                    <a:pt x="0" y="1232"/>
                  </a:lnTo>
                  <a:lnTo>
                    <a:pt x="0" y="275"/>
                  </a:lnTo>
                  <a:lnTo>
                    <a:pt x="1" y="247"/>
                  </a:lnTo>
                  <a:lnTo>
                    <a:pt x="6" y="220"/>
                  </a:lnTo>
                  <a:lnTo>
                    <a:pt x="12" y="194"/>
                  </a:lnTo>
                  <a:lnTo>
                    <a:pt x="21" y="169"/>
                  </a:lnTo>
                  <a:lnTo>
                    <a:pt x="33" y="145"/>
                  </a:lnTo>
                  <a:lnTo>
                    <a:pt x="46" y="122"/>
                  </a:lnTo>
                  <a:lnTo>
                    <a:pt x="63" y="101"/>
                  </a:lnTo>
                  <a:lnTo>
                    <a:pt x="81" y="81"/>
                  </a:lnTo>
                  <a:lnTo>
                    <a:pt x="100" y="63"/>
                  </a:lnTo>
                  <a:lnTo>
                    <a:pt x="121" y="47"/>
                  </a:lnTo>
                  <a:lnTo>
                    <a:pt x="144" y="33"/>
                  </a:lnTo>
                  <a:lnTo>
                    <a:pt x="168" y="21"/>
                  </a:lnTo>
                  <a:lnTo>
                    <a:pt x="193" y="12"/>
                  </a:lnTo>
                  <a:lnTo>
                    <a:pt x="219" y="6"/>
                  </a:lnTo>
                  <a:lnTo>
                    <a:pt x="246" y="2"/>
                  </a:lnTo>
                  <a:lnTo>
                    <a:pt x="274" y="0"/>
                  </a:lnTo>
                </a:path>
              </a:pathLst>
            </a:custGeom>
            <a:noFill/>
            <a:ln w="1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70160" y="1542960"/>
              <a:ext cx="102960" cy="6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449360" y="167004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4468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461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41444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407960" y="167004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427040" y="167004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376280" y="167004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37016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389240" y="167004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49360" y="1692360"/>
              <a:ext cx="1908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44468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461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41444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407960" y="169236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427040" y="1692360"/>
              <a:ext cx="972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376280" y="1692360"/>
              <a:ext cx="17640" cy="1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37016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389240" y="1692360"/>
              <a:ext cx="1080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449360" y="1714680"/>
              <a:ext cx="1908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44468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461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41444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407960" y="1714680"/>
              <a:ext cx="1116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427040" y="1714680"/>
              <a:ext cx="972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76280" y="1714680"/>
              <a:ext cx="17640" cy="1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37016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389240" y="1714680"/>
              <a:ext cx="10800" cy="10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449360" y="1736640"/>
              <a:ext cx="1908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44468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461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41444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407960" y="173664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427040" y="1736640"/>
              <a:ext cx="972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6280" y="1736640"/>
              <a:ext cx="17640" cy="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37016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389240" y="1736640"/>
              <a:ext cx="1080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414440" y="1633680"/>
              <a:ext cx="17640" cy="1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40508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422360" y="1633680"/>
              <a:ext cx="19080" cy="19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37484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9" h="84">
                  <a:moveTo>
                    <a:pt x="74" y="84"/>
                  </a:moveTo>
                  <a:lnTo>
                    <a:pt x="99" y="42"/>
                  </a:lnTo>
                  <a:lnTo>
                    <a:pt x="26" y="0"/>
                  </a:lnTo>
                  <a:lnTo>
                    <a:pt x="0" y="42"/>
                  </a:lnTo>
                  <a:lnTo>
                    <a:pt x="74" y="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37160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38744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449360" y="1631880"/>
              <a:ext cx="20520" cy="17640"/>
            </a:xfrm>
            <a:custGeom>
              <a:avLst/>
              <a:gdLst/>
              <a:ahLst/>
              <a:rect l="l" t="t" r="r" b="b"/>
              <a:pathLst>
                <a:path w="98" h="86">
                  <a:moveTo>
                    <a:pt x="0" y="42"/>
                  </a:moveTo>
                  <a:lnTo>
                    <a:pt x="24" y="86"/>
                  </a:lnTo>
                  <a:lnTo>
                    <a:pt x="98" y="44"/>
                  </a:lnTo>
                  <a:lnTo>
                    <a:pt x="74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61960" y="1631880"/>
              <a:ext cx="11160" cy="9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6120" y="1639800"/>
              <a:ext cx="11160" cy="111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386960" y="1413000"/>
              <a:ext cx="13816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olu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891520" y="1400040"/>
              <a:ext cx="14335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Handsfr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or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769080" y="1200240"/>
              <a:ext cx="74124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045200" y="1490760"/>
              <a:ext cx="309600" cy="2397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186680" y="1609560"/>
              <a:ext cx="135000" cy="120960"/>
            </a:xfrm>
            <a:custGeom>
              <a:avLst/>
              <a:gdLst/>
              <a:ahLst/>
              <a:rect l="l" t="t" r="r" b="b"/>
              <a:pathLst>
                <a:path w="628" h="562">
                  <a:moveTo>
                    <a:pt x="0" y="549"/>
                  </a:moveTo>
                  <a:lnTo>
                    <a:pt x="72" y="546"/>
                  </a:lnTo>
                  <a:lnTo>
                    <a:pt x="107" y="543"/>
                  </a:lnTo>
                  <a:lnTo>
                    <a:pt x="140" y="538"/>
                  </a:lnTo>
                  <a:lnTo>
                    <a:pt x="173" y="532"/>
                  </a:lnTo>
                  <a:lnTo>
                    <a:pt x="203" y="525"/>
                  </a:lnTo>
                  <a:lnTo>
                    <a:pt x="261" y="505"/>
                  </a:lnTo>
                  <a:lnTo>
                    <a:pt x="317" y="483"/>
                  </a:lnTo>
                  <a:lnTo>
                    <a:pt x="368" y="454"/>
                  </a:lnTo>
                  <a:lnTo>
                    <a:pt x="413" y="424"/>
                  </a:lnTo>
                  <a:lnTo>
                    <a:pt x="455" y="388"/>
                  </a:lnTo>
                  <a:lnTo>
                    <a:pt x="493" y="349"/>
                  </a:lnTo>
                  <a:lnTo>
                    <a:pt x="523" y="305"/>
                  </a:lnTo>
                  <a:lnTo>
                    <a:pt x="551" y="262"/>
                  </a:lnTo>
                  <a:lnTo>
                    <a:pt x="563" y="238"/>
                  </a:lnTo>
                  <a:lnTo>
                    <a:pt x="574" y="213"/>
                  </a:lnTo>
                  <a:lnTo>
                    <a:pt x="584" y="188"/>
                  </a:lnTo>
                  <a:lnTo>
                    <a:pt x="593" y="164"/>
                  </a:lnTo>
                  <a:lnTo>
                    <a:pt x="605" y="110"/>
                  </a:lnTo>
                  <a:lnTo>
                    <a:pt x="613" y="54"/>
                  </a:lnTo>
                  <a:lnTo>
                    <a:pt x="616" y="0"/>
                  </a:lnTo>
                  <a:lnTo>
                    <a:pt x="628" y="0"/>
                  </a:lnTo>
                  <a:lnTo>
                    <a:pt x="625" y="57"/>
                  </a:lnTo>
                  <a:lnTo>
                    <a:pt x="617" y="114"/>
                  </a:lnTo>
                  <a:lnTo>
                    <a:pt x="605" y="168"/>
                  </a:lnTo>
                  <a:lnTo>
                    <a:pt x="596" y="194"/>
                  </a:lnTo>
                  <a:lnTo>
                    <a:pt x="586" y="219"/>
                  </a:lnTo>
                  <a:lnTo>
                    <a:pt x="575" y="244"/>
                  </a:lnTo>
                  <a:lnTo>
                    <a:pt x="562" y="269"/>
                  </a:lnTo>
                  <a:lnTo>
                    <a:pt x="533" y="314"/>
                  </a:lnTo>
                  <a:lnTo>
                    <a:pt x="502" y="359"/>
                  </a:lnTo>
                  <a:lnTo>
                    <a:pt x="464" y="399"/>
                  </a:lnTo>
                  <a:lnTo>
                    <a:pt x="422" y="435"/>
                  </a:lnTo>
                  <a:lnTo>
                    <a:pt x="374" y="466"/>
                  </a:lnTo>
                  <a:lnTo>
                    <a:pt x="323" y="495"/>
                  </a:lnTo>
                  <a:lnTo>
                    <a:pt x="267" y="517"/>
                  </a:lnTo>
                  <a:lnTo>
                    <a:pt x="206" y="538"/>
                  </a:lnTo>
                  <a:lnTo>
                    <a:pt x="174" y="546"/>
                  </a:lnTo>
                  <a:lnTo>
                    <a:pt x="141" y="552"/>
                  </a:lnTo>
                  <a:lnTo>
                    <a:pt x="108" y="556"/>
                  </a:lnTo>
                  <a:lnTo>
                    <a:pt x="72" y="559"/>
                  </a:lnTo>
                  <a:lnTo>
                    <a:pt x="0" y="562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186680" y="1488960"/>
              <a:ext cx="135000" cy="120600"/>
            </a:xfrm>
            <a:custGeom>
              <a:avLst/>
              <a:gdLst/>
              <a:ahLst/>
              <a:rect l="l" t="t" r="r" b="b"/>
              <a:pathLst>
                <a:path w="628" h="563">
                  <a:moveTo>
                    <a:pt x="616" y="563"/>
                  </a:moveTo>
                  <a:lnTo>
                    <a:pt x="613" y="506"/>
                  </a:lnTo>
                  <a:lnTo>
                    <a:pt x="605" y="451"/>
                  </a:lnTo>
                  <a:lnTo>
                    <a:pt x="599" y="426"/>
                  </a:lnTo>
                  <a:lnTo>
                    <a:pt x="593" y="400"/>
                  </a:lnTo>
                  <a:lnTo>
                    <a:pt x="584" y="375"/>
                  </a:lnTo>
                  <a:lnTo>
                    <a:pt x="574" y="349"/>
                  </a:lnTo>
                  <a:lnTo>
                    <a:pt x="551" y="301"/>
                  </a:lnTo>
                  <a:lnTo>
                    <a:pt x="523" y="256"/>
                  </a:lnTo>
                  <a:lnTo>
                    <a:pt x="493" y="214"/>
                  </a:lnTo>
                  <a:lnTo>
                    <a:pt x="455" y="175"/>
                  </a:lnTo>
                  <a:lnTo>
                    <a:pt x="413" y="139"/>
                  </a:lnTo>
                  <a:lnTo>
                    <a:pt x="390" y="122"/>
                  </a:lnTo>
                  <a:lnTo>
                    <a:pt x="366" y="107"/>
                  </a:lnTo>
                  <a:lnTo>
                    <a:pt x="317" y="80"/>
                  </a:lnTo>
                  <a:lnTo>
                    <a:pt x="261" y="56"/>
                  </a:lnTo>
                  <a:lnTo>
                    <a:pt x="231" y="45"/>
                  </a:lnTo>
                  <a:lnTo>
                    <a:pt x="201" y="38"/>
                  </a:lnTo>
                  <a:lnTo>
                    <a:pt x="171" y="30"/>
                  </a:lnTo>
                  <a:lnTo>
                    <a:pt x="138" y="24"/>
                  </a:lnTo>
                  <a:lnTo>
                    <a:pt x="72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2" y="3"/>
                  </a:lnTo>
                  <a:lnTo>
                    <a:pt x="141" y="12"/>
                  </a:lnTo>
                  <a:lnTo>
                    <a:pt x="174" y="18"/>
                  </a:lnTo>
                  <a:lnTo>
                    <a:pt x="206" y="26"/>
                  </a:lnTo>
                  <a:lnTo>
                    <a:pt x="236" y="33"/>
                  </a:lnTo>
                  <a:lnTo>
                    <a:pt x="267" y="44"/>
                  </a:lnTo>
                  <a:lnTo>
                    <a:pt x="323" y="68"/>
                  </a:lnTo>
                  <a:lnTo>
                    <a:pt x="374" y="96"/>
                  </a:lnTo>
                  <a:lnTo>
                    <a:pt x="399" y="111"/>
                  </a:lnTo>
                  <a:lnTo>
                    <a:pt x="422" y="128"/>
                  </a:lnTo>
                  <a:lnTo>
                    <a:pt x="464" y="164"/>
                  </a:lnTo>
                  <a:lnTo>
                    <a:pt x="502" y="205"/>
                  </a:lnTo>
                  <a:lnTo>
                    <a:pt x="533" y="247"/>
                  </a:lnTo>
                  <a:lnTo>
                    <a:pt x="562" y="294"/>
                  </a:lnTo>
                  <a:lnTo>
                    <a:pt x="586" y="343"/>
                  </a:lnTo>
                  <a:lnTo>
                    <a:pt x="596" y="369"/>
                  </a:lnTo>
                  <a:lnTo>
                    <a:pt x="605" y="396"/>
                  </a:lnTo>
                  <a:lnTo>
                    <a:pt x="611" y="421"/>
                  </a:lnTo>
                  <a:lnTo>
                    <a:pt x="617" y="448"/>
                  </a:lnTo>
                  <a:lnTo>
                    <a:pt x="625" y="506"/>
                  </a:lnTo>
                  <a:lnTo>
                    <a:pt x="628" y="563"/>
                  </a:lnTo>
                  <a:lnTo>
                    <a:pt x="616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080120" y="1609560"/>
              <a:ext cx="136800" cy="120960"/>
            </a:xfrm>
            <a:custGeom>
              <a:avLst/>
              <a:gdLst/>
              <a:ahLst/>
              <a:rect l="l" t="t" r="r" b="b"/>
              <a:pathLst>
                <a:path w="627" h="561">
                  <a:moveTo>
                    <a:pt x="627" y="561"/>
                  </a:moveTo>
                  <a:lnTo>
                    <a:pt x="555" y="558"/>
                  </a:lnTo>
                  <a:lnTo>
                    <a:pt x="519" y="555"/>
                  </a:lnTo>
                  <a:lnTo>
                    <a:pt x="485" y="550"/>
                  </a:lnTo>
                  <a:lnTo>
                    <a:pt x="453" y="544"/>
                  </a:lnTo>
                  <a:lnTo>
                    <a:pt x="420" y="537"/>
                  </a:lnTo>
                  <a:lnTo>
                    <a:pt x="360" y="517"/>
                  </a:lnTo>
                  <a:lnTo>
                    <a:pt x="304" y="495"/>
                  </a:lnTo>
                  <a:lnTo>
                    <a:pt x="252" y="466"/>
                  </a:lnTo>
                  <a:lnTo>
                    <a:pt x="205" y="435"/>
                  </a:lnTo>
                  <a:lnTo>
                    <a:pt x="163" y="399"/>
                  </a:lnTo>
                  <a:lnTo>
                    <a:pt x="126" y="358"/>
                  </a:lnTo>
                  <a:lnTo>
                    <a:pt x="91" y="314"/>
                  </a:lnTo>
                  <a:lnTo>
                    <a:pt x="64" y="269"/>
                  </a:lnTo>
                  <a:lnTo>
                    <a:pt x="52" y="244"/>
                  </a:lnTo>
                  <a:lnTo>
                    <a:pt x="40" y="219"/>
                  </a:lnTo>
                  <a:lnTo>
                    <a:pt x="31" y="194"/>
                  </a:lnTo>
                  <a:lnTo>
                    <a:pt x="22" y="168"/>
                  </a:lnTo>
                  <a:lnTo>
                    <a:pt x="10" y="113"/>
                  </a:lnTo>
                  <a:lnTo>
                    <a:pt x="1" y="55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3" y="55"/>
                  </a:lnTo>
                  <a:lnTo>
                    <a:pt x="22" y="110"/>
                  </a:lnTo>
                  <a:lnTo>
                    <a:pt x="34" y="164"/>
                  </a:lnTo>
                  <a:lnTo>
                    <a:pt x="43" y="188"/>
                  </a:lnTo>
                  <a:lnTo>
                    <a:pt x="52" y="213"/>
                  </a:lnTo>
                  <a:lnTo>
                    <a:pt x="64" y="238"/>
                  </a:lnTo>
                  <a:lnTo>
                    <a:pt x="75" y="262"/>
                  </a:lnTo>
                  <a:lnTo>
                    <a:pt x="102" y="305"/>
                  </a:lnTo>
                  <a:lnTo>
                    <a:pt x="135" y="349"/>
                  </a:lnTo>
                  <a:lnTo>
                    <a:pt x="172" y="388"/>
                  </a:lnTo>
                  <a:lnTo>
                    <a:pt x="214" y="424"/>
                  </a:lnTo>
                  <a:lnTo>
                    <a:pt x="259" y="456"/>
                  </a:lnTo>
                  <a:lnTo>
                    <a:pt x="310" y="483"/>
                  </a:lnTo>
                  <a:lnTo>
                    <a:pt x="366" y="505"/>
                  </a:lnTo>
                  <a:lnTo>
                    <a:pt x="424" y="525"/>
                  </a:lnTo>
                  <a:lnTo>
                    <a:pt x="456" y="532"/>
                  </a:lnTo>
                  <a:lnTo>
                    <a:pt x="488" y="538"/>
                  </a:lnTo>
                  <a:lnTo>
                    <a:pt x="522" y="543"/>
                  </a:lnTo>
                  <a:lnTo>
                    <a:pt x="555" y="546"/>
                  </a:lnTo>
                  <a:lnTo>
                    <a:pt x="627" y="549"/>
                  </a:lnTo>
                  <a:lnTo>
                    <a:pt x="627" y="561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080120" y="1488960"/>
              <a:ext cx="136800" cy="120600"/>
            </a:xfrm>
            <a:custGeom>
              <a:avLst/>
              <a:gdLst/>
              <a:ahLst/>
              <a:rect l="l" t="t" r="r" b="b"/>
              <a:pathLst>
                <a:path w="627" h="563">
                  <a:moveTo>
                    <a:pt x="0" y="563"/>
                  </a:moveTo>
                  <a:lnTo>
                    <a:pt x="1" y="504"/>
                  </a:lnTo>
                  <a:lnTo>
                    <a:pt x="10" y="448"/>
                  </a:lnTo>
                  <a:lnTo>
                    <a:pt x="15" y="421"/>
                  </a:lnTo>
                  <a:lnTo>
                    <a:pt x="22" y="394"/>
                  </a:lnTo>
                  <a:lnTo>
                    <a:pt x="31" y="369"/>
                  </a:lnTo>
                  <a:lnTo>
                    <a:pt x="40" y="343"/>
                  </a:lnTo>
                  <a:lnTo>
                    <a:pt x="64" y="294"/>
                  </a:lnTo>
                  <a:lnTo>
                    <a:pt x="91" y="247"/>
                  </a:lnTo>
                  <a:lnTo>
                    <a:pt x="126" y="205"/>
                  </a:lnTo>
                  <a:lnTo>
                    <a:pt x="163" y="164"/>
                  </a:lnTo>
                  <a:lnTo>
                    <a:pt x="205" y="128"/>
                  </a:lnTo>
                  <a:lnTo>
                    <a:pt x="228" y="111"/>
                  </a:lnTo>
                  <a:lnTo>
                    <a:pt x="253" y="95"/>
                  </a:lnTo>
                  <a:lnTo>
                    <a:pt x="304" y="68"/>
                  </a:lnTo>
                  <a:lnTo>
                    <a:pt x="360" y="44"/>
                  </a:lnTo>
                  <a:lnTo>
                    <a:pt x="391" y="33"/>
                  </a:lnTo>
                  <a:lnTo>
                    <a:pt x="421" y="26"/>
                  </a:lnTo>
                  <a:lnTo>
                    <a:pt x="455" y="18"/>
                  </a:lnTo>
                  <a:lnTo>
                    <a:pt x="486" y="12"/>
                  </a:lnTo>
                  <a:lnTo>
                    <a:pt x="555" y="3"/>
                  </a:lnTo>
                  <a:lnTo>
                    <a:pt x="627" y="0"/>
                  </a:lnTo>
                  <a:lnTo>
                    <a:pt x="627" y="14"/>
                  </a:lnTo>
                  <a:lnTo>
                    <a:pt x="555" y="17"/>
                  </a:lnTo>
                  <a:lnTo>
                    <a:pt x="488" y="26"/>
                  </a:lnTo>
                  <a:lnTo>
                    <a:pt x="456" y="32"/>
                  </a:lnTo>
                  <a:lnTo>
                    <a:pt x="424" y="39"/>
                  </a:lnTo>
                  <a:lnTo>
                    <a:pt x="394" y="47"/>
                  </a:lnTo>
                  <a:lnTo>
                    <a:pt x="366" y="56"/>
                  </a:lnTo>
                  <a:lnTo>
                    <a:pt x="310" y="80"/>
                  </a:lnTo>
                  <a:lnTo>
                    <a:pt x="259" y="107"/>
                  </a:lnTo>
                  <a:lnTo>
                    <a:pt x="237" y="122"/>
                  </a:lnTo>
                  <a:lnTo>
                    <a:pt x="214" y="139"/>
                  </a:lnTo>
                  <a:lnTo>
                    <a:pt x="172" y="175"/>
                  </a:lnTo>
                  <a:lnTo>
                    <a:pt x="135" y="215"/>
                  </a:lnTo>
                  <a:lnTo>
                    <a:pt x="102" y="256"/>
                  </a:lnTo>
                  <a:lnTo>
                    <a:pt x="75" y="301"/>
                  </a:lnTo>
                  <a:lnTo>
                    <a:pt x="52" y="349"/>
                  </a:lnTo>
                  <a:lnTo>
                    <a:pt x="43" y="375"/>
                  </a:lnTo>
                  <a:lnTo>
                    <a:pt x="34" y="400"/>
                  </a:lnTo>
                  <a:lnTo>
                    <a:pt x="27" y="426"/>
                  </a:lnTo>
                  <a:lnTo>
                    <a:pt x="22" y="451"/>
                  </a:lnTo>
                  <a:lnTo>
                    <a:pt x="13" y="507"/>
                  </a:lnTo>
                  <a:lnTo>
                    <a:pt x="12" y="563"/>
                  </a:lnTo>
                  <a:lnTo>
                    <a:pt x="0" y="563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124760" y="1490760"/>
              <a:ext cx="154080" cy="237960"/>
            </a:xfrm>
            <a:prstGeom prst="ellipse">
              <a:avLst/>
            </a:prstGeom>
            <a:noFill/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199280" y="167004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18">
                  <a:moveTo>
                    <a:pt x="516" y="118"/>
                  </a:moveTo>
                  <a:lnTo>
                    <a:pt x="465" y="96"/>
                  </a:lnTo>
                  <a:lnTo>
                    <a:pt x="410" y="75"/>
                  </a:lnTo>
                  <a:lnTo>
                    <a:pt x="348" y="57"/>
                  </a:lnTo>
                  <a:lnTo>
                    <a:pt x="286" y="40"/>
                  </a:lnTo>
                  <a:lnTo>
                    <a:pt x="219" y="28"/>
                  </a:lnTo>
                  <a:lnTo>
                    <a:pt x="150" y="19"/>
                  </a:lnTo>
                  <a:lnTo>
                    <a:pt x="76" y="15"/>
                  </a:lnTo>
                  <a:lnTo>
                    <a:pt x="0" y="12"/>
                  </a:lnTo>
                  <a:lnTo>
                    <a:pt x="0" y="0"/>
                  </a:lnTo>
                  <a:lnTo>
                    <a:pt x="76" y="3"/>
                  </a:lnTo>
                  <a:lnTo>
                    <a:pt x="150" y="7"/>
                  </a:lnTo>
                  <a:lnTo>
                    <a:pt x="222" y="16"/>
                  </a:lnTo>
                  <a:lnTo>
                    <a:pt x="289" y="28"/>
                  </a:lnTo>
                  <a:lnTo>
                    <a:pt x="352" y="45"/>
                  </a:lnTo>
                  <a:lnTo>
                    <a:pt x="414" y="63"/>
                  </a:lnTo>
                  <a:lnTo>
                    <a:pt x="471" y="84"/>
                  </a:lnTo>
                  <a:lnTo>
                    <a:pt x="522" y="106"/>
                  </a:lnTo>
                  <a:lnTo>
                    <a:pt x="516" y="118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086600" y="1670040"/>
              <a:ext cx="112680" cy="237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518" y="12"/>
                  </a:moveTo>
                  <a:lnTo>
                    <a:pt x="443" y="13"/>
                  </a:lnTo>
                  <a:lnTo>
                    <a:pt x="372" y="19"/>
                  </a:lnTo>
                  <a:lnTo>
                    <a:pt x="301" y="28"/>
                  </a:lnTo>
                  <a:lnTo>
                    <a:pt x="234" y="40"/>
                  </a:lnTo>
                  <a:lnTo>
                    <a:pt x="171" y="55"/>
                  </a:lnTo>
                  <a:lnTo>
                    <a:pt x="112" y="73"/>
                  </a:lnTo>
                  <a:lnTo>
                    <a:pt x="57" y="93"/>
                  </a:lnTo>
                  <a:lnTo>
                    <a:pt x="6" y="117"/>
                  </a:lnTo>
                  <a:lnTo>
                    <a:pt x="0" y="105"/>
                  </a:lnTo>
                  <a:lnTo>
                    <a:pt x="51" y="81"/>
                  </a:lnTo>
                  <a:lnTo>
                    <a:pt x="106" y="61"/>
                  </a:lnTo>
                  <a:lnTo>
                    <a:pt x="166" y="43"/>
                  </a:lnTo>
                  <a:lnTo>
                    <a:pt x="229" y="28"/>
                  </a:lnTo>
                  <a:lnTo>
                    <a:pt x="298" y="16"/>
                  </a:lnTo>
                  <a:lnTo>
                    <a:pt x="369" y="7"/>
                  </a:lnTo>
                  <a:lnTo>
                    <a:pt x="443" y="1"/>
                  </a:lnTo>
                  <a:lnTo>
                    <a:pt x="518" y="0"/>
                  </a:lnTo>
                  <a:lnTo>
                    <a:pt x="518" y="12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86600" y="1523880"/>
              <a:ext cx="114480" cy="25560"/>
            </a:xfrm>
            <a:custGeom>
              <a:avLst/>
              <a:gdLst/>
              <a:ahLst/>
              <a:rect l="l" t="t" r="r" b="b"/>
              <a:pathLst>
                <a:path w="522" h="120">
                  <a:moveTo>
                    <a:pt x="6" y="0"/>
                  </a:moveTo>
                  <a:lnTo>
                    <a:pt x="57" y="24"/>
                  </a:lnTo>
                  <a:lnTo>
                    <a:pt x="111" y="44"/>
                  </a:lnTo>
                  <a:lnTo>
                    <a:pt x="171" y="63"/>
                  </a:lnTo>
                  <a:lnTo>
                    <a:pt x="235" y="78"/>
                  </a:lnTo>
                  <a:lnTo>
                    <a:pt x="301" y="90"/>
                  </a:lnTo>
                  <a:lnTo>
                    <a:pt x="372" y="99"/>
                  </a:lnTo>
                  <a:lnTo>
                    <a:pt x="446" y="105"/>
                  </a:lnTo>
                  <a:lnTo>
                    <a:pt x="522" y="107"/>
                  </a:lnTo>
                  <a:lnTo>
                    <a:pt x="522" y="120"/>
                  </a:lnTo>
                  <a:lnTo>
                    <a:pt x="446" y="119"/>
                  </a:lnTo>
                  <a:lnTo>
                    <a:pt x="370" y="113"/>
                  </a:lnTo>
                  <a:lnTo>
                    <a:pt x="300" y="104"/>
                  </a:lnTo>
                  <a:lnTo>
                    <a:pt x="232" y="92"/>
                  </a:lnTo>
                  <a:lnTo>
                    <a:pt x="168" y="77"/>
                  </a:lnTo>
                  <a:lnTo>
                    <a:pt x="108" y="57"/>
                  </a:lnTo>
                  <a:lnTo>
                    <a:pt x="51" y="36"/>
                  </a:lnTo>
                  <a:lnTo>
                    <a:pt x="0" y="1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201080" y="1523880"/>
              <a:ext cx="112680" cy="25560"/>
            </a:xfrm>
            <a:custGeom>
              <a:avLst/>
              <a:gdLst/>
              <a:ahLst/>
              <a:rect l="l" t="t" r="r" b="b"/>
              <a:pathLst>
                <a:path w="518" h="117">
                  <a:moveTo>
                    <a:pt x="0" y="104"/>
                  </a:moveTo>
                  <a:lnTo>
                    <a:pt x="75" y="102"/>
                  </a:lnTo>
                  <a:lnTo>
                    <a:pt x="147" y="96"/>
                  </a:lnTo>
                  <a:lnTo>
                    <a:pt x="218" y="87"/>
                  </a:lnTo>
                  <a:lnTo>
                    <a:pt x="284" y="75"/>
                  </a:lnTo>
                  <a:lnTo>
                    <a:pt x="347" y="60"/>
                  </a:lnTo>
                  <a:lnTo>
                    <a:pt x="407" y="42"/>
                  </a:lnTo>
                  <a:lnTo>
                    <a:pt x="461" y="23"/>
                  </a:lnTo>
                  <a:lnTo>
                    <a:pt x="512" y="0"/>
                  </a:lnTo>
                  <a:lnTo>
                    <a:pt x="518" y="12"/>
                  </a:lnTo>
                  <a:lnTo>
                    <a:pt x="467" y="35"/>
                  </a:lnTo>
                  <a:lnTo>
                    <a:pt x="410" y="56"/>
                  </a:lnTo>
                  <a:lnTo>
                    <a:pt x="350" y="74"/>
                  </a:lnTo>
                  <a:lnTo>
                    <a:pt x="285" y="89"/>
                  </a:lnTo>
                  <a:lnTo>
                    <a:pt x="219" y="101"/>
                  </a:lnTo>
                  <a:lnTo>
                    <a:pt x="147" y="110"/>
                  </a:lnTo>
                  <a:lnTo>
                    <a:pt x="75" y="116"/>
                  </a:lnTo>
                  <a:lnTo>
                    <a:pt x="0" y="11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203960" y="1627200"/>
              <a:ext cx="149400" cy="15840"/>
            </a:xfrm>
            <a:custGeom>
              <a:avLst/>
              <a:gdLst/>
              <a:ahLst/>
              <a:rect l="l" t="t" r="r" b="b"/>
              <a:pathLst>
                <a:path w="681" h="75">
                  <a:moveTo>
                    <a:pt x="677" y="75"/>
                  </a:moveTo>
                  <a:lnTo>
                    <a:pt x="602" y="56"/>
                  </a:lnTo>
                  <a:lnTo>
                    <a:pt x="527" y="41"/>
                  </a:lnTo>
                  <a:lnTo>
                    <a:pt x="446" y="29"/>
                  </a:lnTo>
                  <a:lnTo>
                    <a:pt x="363" y="21"/>
                  </a:lnTo>
                  <a:lnTo>
                    <a:pt x="276" y="15"/>
                  </a:lnTo>
                  <a:lnTo>
                    <a:pt x="186" y="14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86" y="2"/>
                  </a:lnTo>
                  <a:lnTo>
                    <a:pt x="276" y="3"/>
                  </a:lnTo>
                  <a:lnTo>
                    <a:pt x="363" y="9"/>
                  </a:lnTo>
                  <a:lnTo>
                    <a:pt x="449" y="17"/>
                  </a:lnTo>
                  <a:lnTo>
                    <a:pt x="530" y="29"/>
                  </a:lnTo>
                  <a:lnTo>
                    <a:pt x="606" y="44"/>
                  </a:lnTo>
                  <a:lnTo>
                    <a:pt x="681" y="63"/>
                  </a:lnTo>
                  <a:lnTo>
                    <a:pt x="677" y="75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50240" y="1627200"/>
              <a:ext cx="153720" cy="17280"/>
            </a:xfrm>
            <a:custGeom>
              <a:avLst/>
              <a:gdLst/>
              <a:ahLst/>
              <a:rect l="l" t="t" r="r" b="b"/>
              <a:pathLst>
                <a:path w="703" h="81">
                  <a:moveTo>
                    <a:pt x="703" y="14"/>
                  </a:moveTo>
                  <a:lnTo>
                    <a:pt x="510" y="14"/>
                  </a:lnTo>
                  <a:lnTo>
                    <a:pt x="419" y="17"/>
                  </a:lnTo>
                  <a:lnTo>
                    <a:pt x="329" y="23"/>
                  </a:lnTo>
                  <a:lnTo>
                    <a:pt x="242" y="32"/>
                  </a:lnTo>
                  <a:lnTo>
                    <a:pt x="159" y="44"/>
                  </a:lnTo>
                  <a:lnTo>
                    <a:pt x="79" y="60"/>
                  </a:lnTo>
                  <a:lnTo>
                    <a:pt x="4" y="81"/>
                  </a:lnTo>
                  <a:lnTo>
                    <a:pt x="0" y="69"/>
                  </a:lnTo>
                  <a:lnTo>
                    <a:pt x="75" y="48"/>
                  </a:lnTo>
                  <a:lnTo>
                    <a:pt x="155" y="32"/>
                  </a:lnTo>
                  <a:lnTo>
                    <a:pt x="239" y="20"/>
                  </a:lnTo>
                  <a:lnTo>
                    <a:pt x="326" y="11"/>
                  </a:lnTo>
                  <a:lnTo>
                    <a:pt x="416" y="5"/>
                  </a:lnTo>
                  <a:lnTo>
                    <a:pt x="510" y="2"/>
                  </a:lnTo>
                  <a:lnTo>
                    <a:pt x="703" y="0"/>
                  </a:lnTo>
                  <a:lnTo>
                    <a:pt x="703" y="14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051680" y="1576440"/>
              <a:ext cx="147600" cy="19080"/>
            </a:xfrm>
            <a:custGeom>
              <a:avLst/>
              <a:gdLst/>
              <a:ahLst/>
              <a:rect l="l" t="t" r="r" b="b"/>
              <a:pathLst>
                <a:path w="682" h="78">
                  <a:moveTo>
                    <a:pt x="3" y="0"/>
                  </a:moveTo>
                  <a:lnTo>
                    <a:pt x="77" y="21"/>
                  </a:lnTo>
                  <a:lnTo>
                    <a:pt x="154" y="36"/>
                  </a:lnTo>
                  <a:lnTo>
                    <a:pt x="235" y="47"/>
                  </a:lnTo>
                  <a:lnTo>
                    <a:pt x="319" y="54"/>
                  </a:lnTo>
                  <a:lnTo>
                    <a:pt x="406" y="60"/>
                  </a:lnTo>
                  <a:lnTo>
                    <a:pt x="496" y="63"/>
                  </a:lnTo>
                  <a:lnTo>
                    <a:pt x="682" y="65"/>
                  </a:lnTo>
                  <a:lnTo>
                    <a:pt x="682" y="78"/>
                  </a:lnTo>
                  <a:lnTo>
                    <a:pt x="496" y="77"/>
                  </a:lnTo>
                  <a:lnTo>
                    <a:pt x="406" y="74"/>
                  </a:lnTo>
                  <a:lnTo>
                    <a:pt x="317" y="68"/>
                  </a:lnTo>
                  <a:lnTo>
                    <a:pt x="233" y="60"/>
                  </a:lnTo>
                  <a:lnTo>
                    <a:pt x="152" y="50"/>
                  </a:lnTo>
                  <a:lnTo>
                    <a:pt x="74" y="34"/>
                  </a:lnTo>
                  <a:lnTo>
                    <a:pt x="0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199280" y="1576440"/>
              <a:ext cx="154080" cy="19080"/>
            </a:xfrm>
            <a:custGeom>
              <a:avLst/>
              <a:gdLst/>
              <a:ahLst/>
              <a:rect l="l" t="t" r="r" b="b"/>
              <a:pathLst>
                <a:path w="701" h="83">
                  <a:moveTo>
                    <a:pt x="0" y="70"/>
                  </a:moveTo>
                  <a:lnTo>
                    <a:pt x="192" y="67"/>
                  </a:lnTo>
                  <a:lnTo>
                    <a:pt x="285" y="64"/>
                  </a:lnTo>
                  <a:lnTo>
                    <a:pt x="374" y="58"/>
                  </a:lnTo>
                  <a:lnTo>
                    <a:pt x="461" y="50"/>
                  </a:lnTo>
                  <a:lnTo>
                    <a:pt x="545" y="36"/>
                  </a:lnTo>
                  <a:lnTo>
                    <a:pt x="622" y="21"/>
                  </a:lnTo>
                  <a:lnTo>
                    <a:pt x="698" y="0"/>
                  </a:lnTo>
                  <a:lnTo>
                    <a:pt x="701" y="14"/>
                  </a:lnTo>
                  <a:lnTo>
                    <a:pt x="625" y="35"/>
                  </a:lnTo>
                  <a:lnTo>
                    <a:pt x="547" y="50"/>
                  </a:lnTo>
                  <a:lnTo>
                    <a:pt x="463" y="64"/>
                  </a:lnTo>
                  <a:lnTo>
                    <a:pt x="374" y="71"/>
                  </a:lnTo>
                  <a:lnTo>
                    <a:pt x="285" y="77"/>
                  </a:lnTo>
                  <a:lnTo>
                    <a:pt x="192" y="80"/>
                  </a:lnTo>
                  <a:lnTo>
                    <a:pt x="0" y="83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199280" y="1490760"/>
              <a:ext cx="3240" cy="239760"/>
            </a:xfrm>
            <a:prstGeom prst="rect">
              <a:avLst/>
            </a:prstGeom>
            <a:solidFill>
              <a:srgbClr val="42677e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232760" y="1503360"/>
              <a:ext cx="149040" cy="293760"/>
            </a:xfrm>
            <a:custGeom>
              <a:avLst/>
              <a:gdLst>
                <a:gd name="textAreaLeft" fmla="*/ 13680 w 149040"/>
                <a:gd name="textAreaRight" fmla="*/ 135360 w 149040"/>
                <a:gd name="textAreaTop" fmla="*/ 13680 h 293760"/>
                <a:gd name="textAreaBottom" fmla="*/ 280080 h 293760"/>
              </a:gdLst>
              <a:ahLst/>
              <a:rect l="textAreaLeft" t="textAreaTop" r="textAreaRight" b="textAreaBottom"/>
              <a:pathLst>
                <a:path w="21600" h="42523">
                  <a:moveTo>
                    <a:pt x="6840" y="0"/>
                  </a:moveTo>
                  <a:arcTo wR="6840" hR="6840" stAng="16200000" swAng="-5400000"/>
                  <a:lnTo>
                    <a:pt x="0" y="35683"/>
                  </a:lnTo>
                  <a:arcTo wR="6840" hR="6840" stAng="10800000" swAng="-5400000"/>
                  <a:lnTo>
                    <a:pt x="14760" y="42523"/>
                  </a:lnTo>
                  <a:arcTo wR="6840" hR="6840" stAng="5400000" swAng="-5400000"/>
                  <a:lnTo>
                    <a:pt x="21600" y="6840"/>
                  </a:lnTo>
                  <a:arcTo wR="6840" hR="6840" stAng="0" swAng="-5400000"/>
                  <a:close/>
                </a:path>
              </a:pathLst>
            </a:custGeom>
            <a:solidFill>
              <a:srgbClr val="4267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1" name=""/>
            <p:cNvGrpSpPr/>
            <p:nvPr/>
          </p:nvGrpSpPr>
          <p:grpSpPr>
            <a:xfrm>
              <a:off x="7224840" y="1495440"/>
              <a:ext cx="169560" cy="309600"/>
              <a:chOff x="7224840" y="1495440"/>
              <a:chExt cx="169560" cy="309600"/>
            </a:xfrm>
          </p:grpSpPr>
          <p:sp>
            <p:nvSpPr>
              <p:cNvPr id="552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80" y="89"/>
                    </a:moveTo>
                    <a:lnTo>
                      <a:pt x="259" y="90"/>
                    </a:lnTo>
                    <a:lnTo>
                      <a:pt x="250" y="92"/>
                    </a:lnTo>
                    <a:lnTo>
                      <a:pt x="241" y="93"/>
                    </a:lnTo>
                    <a:lnTo>
                      <a:pt x="232" y="95"/>
                    </a:lnTo>
                    <a:lnTo>
                      <a:pt x="222" y="98"/>
                    </a:lnTo>
                    <a:lnTo>
                      <a:pt x="205" y="105"/>
                    </a:lnTo>
                    <a:lnTo>
                      <a:pt x="196" y="108"/>
                    </a:lnTo>
                    <a:lnTo>
                      <a:pt x="187" y="113"/>
                    </a:lnTo>
                    <a:lnTo>
                      <a:pt x="180" y="117"/>
                    </a:lnTo>
                    <a:lnTo>
                      <a:pt x="172" y="122"/>
                    </a:lnTo>
                    <a:lnTo>
                      <a:pt x="165" y="128"/>
                    </a:lnTo>
                    <a:lnTo>
                      <a:pt x="157" y="134"/>
                    </a:lnTo>
                    <a:lnTo>
                      <a:pt x="150" y="140"/>
                    </a:lnTo>
                    <a:lnTo>
                      <a:pt x="144" y="146"/>
                    </a:lnTo>
                    <a:lnTo>
                      <a:pt x="132" y="160"/>
                    </a:lnTo>
                    <a:lnTo>
                      <a:pt x="120" y="175"/>
                    </a:lnTo>
                    <a:lnTo>
                      <a:pt x="111" y="191"/>
                    </a:lnTo>
                    <a:lnTo>
                      <a:pt x="102" y="208"/>
                    </a:lnTo>
                    <a:lnTo>
                      <a:pt x="96" y="226"/>
                    </a:lnTo>
                    <a:lnTo>
                      <a:pt x="91" y="244"/>
                    </a:lnTo>
                    <a:lnTo>
                      <a:pt x="88" y="263"/>
                    </a:lnTo>
                    <a:lnTo>
                      <a:pt x="87" y="283"/>
                    </a:lnTo>
                    <a:lnTo>
                      <a:pt x="87" y="1226"/>
                    </a:lnTo>
                    <a:lnTo>
                      <a:pt x="88" y="1237"/>
                    </a:lnTo>
                    <a:lnTo>
                      <a:pt x="88" y="1246"/>
                    </a:lnTo>
                    <a:lnTo>
                      <a:pt x="90" y="1256"/>
                    </a:lnTo>
                    <a:lnTo>
                      <a:pt x="91" y="1265"/>
                    </a:lnTo>
                    <a:lnTo>
                      <a:pt x="93" y="1274"/>
                    </a:lnTo>
                    <a:lnTo>
                      <a:pt x="96" y="1283"/>
                    </a:lnTo>
                    <a:lnTo>
                      <a:pt x="102" y="1302"/>
                    </a:lnTo>
                    <a:lnTo>
                      <a:pt x="106" y="1311"/>
                    </a:lnTo>
                    <a:lnTo>
                      <a:pt x="111" y="1318"/>
                    </a:lnTo>
                    <a:lnTo>
                      <a:pt x="115" y="1327"/>
                    </a:lnTo>
                    <a:lnTo>
                      <a:pt x="120" y="1335"/>
                    </a:lnTo>
                    <a:lnTo>
                      <a:pt x="126" y="1342"/>
                    </a:lnTo>
                    <a:lnTo>
                      <a:pt x="132" y="1350"/>
                    </a:lnTo>
                    <a:lnTo>
                      <a:pt x="138" y="1356"/>
                    </a:lnTo>
                    <a:lnTo>
                      <a:pt x="144" y="1363"/>
                    </a:lnTo>
                    <a:lnTo>
                      <a:pt x="157" y="1375"/>
                    </a:lnTo>
                    <a:lnTo>
                      <a:pt x="172" y="1386"/>
                    </a:lnTo>
                    <a:lnTo>
                      <a:pt x="187" y="1396"/>
                    </a:lnTo>
                    <a:lnTo>
                      <a:pt x="205" y="1404"/>
                    </a:lnTo>
                    <a:lnTo>
                      <a:pt x="222" y="1411"/>
                    </a:lnTo>
                    <a:lnTo>
                      <a:pt x="241" y="1416"/>
                    </a:lnTo>
                    <a:lnTo>
                      <a:pt x="259" y="1419"/>
                    </a:lnTo>
                    <a:lnTo>
                      <a:pt x="280" y="1419"/>
                    </a:lnTo>
                    <a:lnTo>
                      <a:pt x="543" y="1419"/>
                    </a:lnTo>
                    <a:lnTo>
                      <a:pt x="563" y="1419"/>
                    </a:lnTo>
                    <a:lnTo>
                      <a:pt x="572" y="1417"/>
                    </a:lnTo>
                    <a:lnTo>
                      <a:pt x="582" y="1416"/>
                    </a:lnTo>
                    <a:lnTo>
                      <a:pt x="591" y="1413"/>
                    </a:lnTo>
                    <a:lnTo>
                      <a:pt x="600" y="1411"/>
                    </a:lnTo>
                    <a:lnTo>
                      <a:pt x="618" y="1404"/>
                    </a:lnTo>
                    <a:lnTo>
                      <a:pt x="626" y="1401"/>
                    </a:lnTo>
                    <a:lnTo>
                      <a:pt x="635" y="1396"/>
                    </a:lnTo>
                    <a:lnTo>
                      <a:pt x="642" y="1392"/>
                    </a:lnTo>
                    <a:lnTo>
                      <a:pt x="651" y="1386"/>
                    </a:lnTo>
                    <a:lnTo>
                      <a:pt x="659" y="1381"/>
                    </a:lnTo>
                    <a:lnTo>
                      <a:pt x="665" y="1375"/>
                    </a:lnTo>
                    <a:lnTo>
                      <a:pt x="672" y="1369"/>
                    </a:lnTo>
                    <a:lnTo>
                      <a:pt x="678" y="1363"/>
                    </a:lnTo>
                    <a:lnTo>
                      <a:pt x="692" y="1350"/>
                    </a:lnTo>
                    <a:lnTo>
                      <a:pt x="702" y="1335"/>
                    </a:lnTo>
                    <a:lnTo>
                      <a:pt x="713" y="1318"/>
                    </a:lnTo>
                    <a:lnTo>
                      <a:pt x="720" y="1302"/>
                    </a:lnTo>
                    <a:lnTo>
                      <a:pt x="726" y="1283"/>
                    </a:lnTo>
                    <a:lnTo>
                      <a:pt x="731" y="1265"/>
                    </a:lnTo>
                    <a:lnTo>
                      <a:pt x="734" y="1246"/>
                    </a:lnTo>
                    <a:lnTo>
                      <a:pt x="735" y="1226"/>
                    </a:lnTo>
                    <a:lnTo>
                      <a:pt x="735" y="283"/>
                    </a:lnTo>
                    <a:lnTo>
                      <a:pt x="735" y="272"/>
                    </a:lnTo>
                    <a:lnTo>
                      <a:pt x="734" y="263"/>
                    </a:lnTo>
                    <a:lnTo>
                      <a:pt x="734" y="253"/>
                    </a:lnTo>
                    <a:lnTo>
                      <a:pt x="731" y="244"/>
                    </a:lnTo>
                    <a:lnTo>
                      <a:pt x="729" y="235"/>
                    </a:lnTo>
                    <a:lnTo>
                      <a:pt x="726" y="226"/>
                    </a:lnTo>
                    <a:lnTo>
                      <a:pt x="720" y="208"/>
                    </a:lnTo>
                    <a:lnTo>
                      <a:pt x="716" y="199"/>
                    </a:lnTo>
                    <a:lnTo>
                      <a:pt x="713" y="191"/>
                    </a:lnTo>
                    <a:lnTo>
                      <a:pt x="707" y="182"/>
                    </a:lnTo>
                    <a:lnTo>
                      <a:pt x="702" y="175"/>
                    </a:lnTo>
                    <a:lnTo>
                      <a:pt x="698" y="167"/>
                    </a:lnTo>
                    <a:lnTo>
                      <a:pt x="692" y="160"/>
                    </a:lnTo>
                    <a:lnTo>
                      <a:pt x="686" y="152"/>
                    </a:lnTo>
                    <a:lnTo>
                      <a:pt x="678" y="146"/>
                    </a:lnTo>
                    <a:lnTo>
                      <a:pt x="665" y="134"/>
                    </a:lnTo>
                    <a:lnTo>
                      <a:pt x="651" y="122"/>
                    </a:lnTo>
                    <a:lnTo>
                      <a:pt x="635" y="113"/>
                    </a:lnTo>
                    <a:lnTo>
                      <a:pt x="618" y="105"/>
                    </a:lnTo>
                    <a:lnTo>
                      <a:pt x="600" y="98"/>
                    </a:lnTo>
                    <a:lnTo>
                      <a:pt x="582" y="93"/>
                    </a:lnTo>
                    <a:lnTo>
                      <a:pt x="563" y="90"/>
                    </a:lnTo>
                    <a:lnTo>
                      <a:pt x="543" y="89"/>
                    </a:lnTo>
                    <a:lnTo>
                      <a:pt x="280" y="89"/>
                    </a:lnTo>
                    <a:close/>
                    <a:moveTo>
                      <a:pt x="274" y="0"/>
                    </a:moveTo>
                    <a:lnTo>
                      <a:pt x="548" y="0"/>
                    </a:lnTo>
                    <a:lnTo>
                      <a:pt x="563" y="0"/>
                    </a:lnTo>
                    <a:lnTo>
                      <a:pt x="576" y="2"/>
                    </a:lnTo>
                    <a:lnTo>
                      <a:pt x="590" y="3"/>
                    </a:lnTo>
                    <a:lnTo>
                      <a:pt x="603" y="6"/>
                    </a:lnTo>
                    <a:lnTo>
                      <a:pt x="617" y="9"/>
                    </a:lnTo>
                    <a:lnTo>
                      <a:pt x="630" y="12"/>
                    </a:lnTo>
                    <a:lnTo>
                      <a:pt x="642" y="17"/>
                    </a:lnTo>
                    <a:lnTo>
                      <a:pt x="656" y="23"/>
                    </a:lnTo>
                    <a:lnTo>
                      <a:pt x="668" y="27"/>
                    </a:lnTo>
                    <a:lnTo>
                      <a:pt x="680" y="33"/>
                    </a:lnTo>
                    <a:lnTo>
                      <a:pt x="690" y="41"/>
                    </a:lnTo>
                    <a:lnTo>
                      <a:pt x="702" y="47"/>
                    </a:lnTo>
                    <a:lnTo>
                      <a:pt x="713" y="56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2" y="90"/>
                    </a:lnTo>
                    <a:lnTo>
                      <a:pt x="761" y="101"/>
                    </a:lnTo>
                    <a:lnTo>
                      <a:pt x="768" y="11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795" y="157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5" y="208"/>
                    </a:lnTo>
                    <a:lnTo>
                      <a:pt x="818" y="220"/>
                    </a:lnTo>
                    <a:lnTo>
                      <a:pt x="819" y="233"/>
                    </a:lnTo>
                    <a:lnTo>
                      <a:pt x="821" y="248"/>
                    </a:lnTo>
                    <a:lnTo>
                      <a:pt x="822" y="262"/>
                    </a:lnTo>
                    <a:lnTo>
                      <a:pt x="822" y="275"/>
                    </a:lnTo>
                    <a:lnTo>
                      <a:pt x="822" y="1234"/>
                    </a:lnTo>
                    <a:lnTo>
                      <a:pt x="822" y="1247"/>
                    </a:lnTo>
                    <a:lnTo>
                      <a:pt x="821" y="1261"/>
                    </a:lnTo>
                    <a:lnTo>
                      <a:pt x="819" y="1274"/>
                    </a:lnTo>
                    <a:lnTo>
                      <a:pt x="818" y="1288"/>
                    </a:lnTo>
                    <a:lnTo>
                      <a:pt x="815" y="1302"/>
                    </a:lnTo>
                    <a:lnTo>
                      <a:pt x="810" y="1315"/>
                    </a:lnTo>
                    <a:lnTo>
                      <a:pt x="806" y="1329"/>
                    </a:lnTo>
                    <a:lnTo>
                      <a:pt x="801" y="1341"/>
                    </a:lnTo>
                    <a:lnTo>
                      <a:pt x="795" y="1353"/>
                    </a:lnTo>
                    <a:lnTo>
                      <a:pt x="789" y="1365"/>
                    </a:lnTo>
                    <a:lnTo>
                      <a:pt x="783" y="1377"/>
                    </a:lnTo>
                    <a:lnTo>
                      <a:pt x="776" y="1387"/>
                    </a:lnTo>
                    <a:lnTo>
                      <a:pt x="768" y="1398"/>
                    </a:lnTo>
                    <a:lnTo>
                      <a:pt x="761" y="1408"/>
                    </a:lnTo>
                    <a:lnTo>
                      <a:pt x="743" y="1428"/>
                    </a:lnTo>
                    <a:lnTo>
                      <a:pt x="732" y="1437"/>
                    </a:lnTo>
                    <a:lnTo>
                      <a:pt x="723" y="1446"/>
                    </a:lnTo>
                    <a:lnTo>
                      <a:pt x="713" y="1453"/>
                    </a:lnTo>
                    <a:lnTo>
                      <a:pt x="702" y="1461"/>
                    </a:lnTo>
                    <a:lnTo>
                      <a:pt x="680" y="1476"/>
                    </a:lnTo>
                    <a:lnTo>
                      <a:pt x="668" y="1482"/>
                    </a:lnTo>
                    <a:lnTo>
                      <a:pt x="656" y="1487"/>
                    </a:lnTo>
                    <a:lnTo>
                      <a:pt x="630" y="1496"/>
                    </a:lnTo>
                    <a:lnTo>
                      <a:pt x="617" y="1500"/>
                    </a:lnTo>
                    <a:lnTo>
                      <a:pt x="603" y="1503"/>
                    </a:lnTo>
                    <a:lnTo>
                      <a:pt x="590" y="1506"/>
                    </a:lnTo>
                    <a:lnTo>
                      <a:pt x="576" y="1508"/>
                    </a:lnTo>
                    <a:lnTo>
                      <a:pt x="563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61" y="1508"/>
                    </a:lnTo>
                    <a:lnTo>
                      <a:pt x="246" y="1508"/>
                    </a:lnTo>
                    <a:lnTo>
                      <a:pt x="232" y="1506"/>
                    </a:lnTo>
                    <a:lnTo>
                      <a:pt x="219" y="1503"/>
                    </a:lnTo>
                    <a:lnTo>
                      <a:pt x="205" y="1500"/>
                    </a:lnTo>
                    <a:lnTo>
                      <a:pt x="193" y="1496"/>
                    </a:lnTo>
                    <a:lnTo>
                      <a:pt x="180" y="1493"/>
                    </a:lnTo>
                    <a:lnTo>
                      <a:pt x="168" y="1487"/>
                    </a:lnTo>
                    <a:lnTo>
                      <a:pt x="156" y="1482"/>
                    </a:lnTo>
                    <a:lnTo>
                      <a:pt x="144" y="1476"/>
                    </a:lnTo>
                    <a:lnTo>
                      <a:pt x="132" y="1469"/>
                    </a:lnTo>
                    <a:lnTo>
                      <a:pt x="121" y="1461"/>
                    </a:lnTo>
                    <a:lnTo>
                      <a:pt x="111" y="1453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72" y="1419"/>
                    </a:lnTo>
                    <a:lnTo>
                      <a:pt x="63" y="1408"/>
                    </a:lnTo>
                    <a:lnTo>
                      <a:pt x="54" y="139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7" y="1353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9" y="1302"/>
                    </a:lnTo>
                    <a:lnTo>
                      <a:pt x="6" y="1288"/>
                    </a:lnTo>
                    <a:lnTo>
                      <a:pt x="3" y="1274"/>
                    </a:lnTo>
                    <a:lnTo>
                      <a:pt x="1" y="1261"/>
                    </a:lnTo>
                    <a:lnTo>
                      <a:pt x="0" y="1247"/>
                    </a:lnTo>
                    <a:lnTo>
                      <a:pt x="0" y="1234"/>
                    </a:lnTo>
                    <a:lnTo>
                      <a:pt x="0" y="275"/>
                    </a:lnTo>
                    <a:lnTo>
                      <a:pt x="0" y="262"/>
                    </a:lnTo>
                    <a:lnTo>
                      <a:pt x="1" y="248"/>
                    </a:lnTo>
                    <a:lnTo>
                      <a:pt x="3" y="233"/>
                    </a:lnTo>
                    <a:lnTo>
                      <a:pt x="6" y="220"/>
                    </a:lnTo>
                    <a:lnTo>
                      <a:pt x="9" y="208"/>
                    </a:lnTo>
                    <a:lnTo>
                      <a:pt x="12" y="194"/>
                    </a:lnTo>
                    <a:lnTo>
                      <a:pt x="16" y="181"/>
                    </a:lnTo>
                    <a:lnTo>
                      <a:pt x="21" y="169"/>
                    </a:lnTo>
                    <a:lnTo>
                      <a:pt x="27" y="157"/>
                    </a:lnTo>
                    <a:lnTo>
                      <a:pt x="33" y="145"/>
                    </a:lnTo>
                    <a:lnTo>
                      <a:pt x="40" y="133"/>
                    </a:lnTo>
                    <a:lnTo>
                      <a:pt x="46" y="122"/>
                    </a:lnTo>
                    <a:lnTo>
                      <a:pt x="54" y="111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90" y="72"/>
                    </a:lnTo>
                    <a:lnTo>
                      <a:pt x="100" y="63"/>
                    </a:lnTo>
                    <a:lnTo>
                      <a:pt x="111" y="56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56" y="27"/>
                    </a:lnTo>
                    <a:lnTo>
                      <a:pt x="168" y="23"/>
                    </a:lnTo>
                    <a:lnTo>
                      <a:pt x="193" y="12"/>
                    </a:lnTo>
                    <a:lnTo>
                      <a:pt x="205" y="9"/>
                    </a:lnTo>
                    <a:lnTo>
                      <a:pt x="219" y="6"/>
                    </a:lnTo>
                    <a:lnTo>
                      <a:pt x="232" y="3"/>
                    </a:lnTo>
                    <a:lnTo>
                      <a:pt x="246" y="2"/>
                    </a:lnTo>
                    <a:lnTo>
                      <a:pt x="261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42840" y="1513440"/>
                <a:ext cx="133560" cy="272880"/>
              </a:xfrm>
              <a:custGeom>
                <a:avLst/>
                <a:gdLst/>
                <a:ahLst/>
                <a:rect l="l" t="t" r="r" b="b"/>
                <a:pathLst>
                  <a:path w="648" h="1330">
                    <a:moveTo>
                      <a:pt x="192" y="0"/>
                    </a:moveTo>
                    <a:lnTo>
                      <a:pt x="154" y="4"/>
                    </a:lnTo>
                    <a:lnTo>
                      <a:pt x="118" y="15"/>
                    </a:lnTo>
                    <a:lnTo>
                      <a:pt x="100" y="24"/>
                    </a:lnTo>
                    <a:lnTo>
                      <a:pt x="85" y="33"/>
                    </a:lnTo>
                    <a:lnTo>
                      <a:pt x="57" y="57"/>
                    </a:lnTo>
                    <a:lnTo>
                      <a:pt x="33" y="86"/>
                    </a:lnTo>
                    <a:lnTo>
                      <a:pt x="24" y="101"/>
                    </a:lnTo>
                    <a:lnTo>
                      <a:pt x="15" y="119"/>
                    </a:lnTo>
                    <a:lnTo>
                      <a:pt x="9" y="135"/>
                    </a:lnTo>
                    <a:lnTo>
                      <a:pt x="4" y="155"/>
                    </a:lnTo>
                    <a:lnTo>
                      <a:pt x="1" y="173"/>
                    </a:lnTo>
                    <a:lnTo>
                      <a:pt x="0" y="194"/>
                    </a:lnTo>
                    <a:lnTo>
                      <a:pt x="0" y="1137"/>
                    </a:lnTo>
                    <a:lnTo>
                      <a:pt x="4" y="1176"/>
                    </a:lnTo>
                    <a:lnTo>
                      <a:pt x="15" y="1213"/>
                    </a:lnTo>
                    <a:lnTo>
                      <a:pt x="24" y="1229"/>
                    </a:lnTo>
                    <a:lnTo>
                      <a:pt x="33" y="1246"/>
                    </a:lnTo>
                    <a:lnTo>
                      <a:pt x="57" y="1274"/>
                    </a:lnTo>
                    <a:lnTo>
                      <a:pt x="85" y="1297"/>
                    </a:lnTo>
                    <a:lnTo>
                      <a:pt x="100" y="1307"/>
                    </a:lnTo>
                    <a:lnTo>
                      <a:pt x="118" y="1315"/>
                    </a:lnTo>
                    <a:lnTo>
                      <a:pt x="135" y="1321"/>
                    </a:lnTo>
                    <a:lnTo>
                      <a:pt x="154" y="1327"/>
                    </a:lnTo>
                    <a:lnTo>
                      <a:pt x="192" y="1330"/>
                    </a:lnTo>
                    <a:lnTo>
                      <a:pt x="456" y="1330"/>
                    </a:lnTo>
                    <a:lnTo>
                      <a:pt x="495" y="1327"/>
                    </a:lnTo>
                    <a:lnTo>
                      <a:pt x="531" y="1315"/>
                    </a:lnTo>
                    <a:lnTo>
                      <a:pt x="548" y="1307"/>
                    </a:lnTo>
                    <a:lnTo>
                      <a:pt x="563" y="1297"/>
                    </a:lnTo>
                    <a:lnTo>
                      <a:pt x="591" y="1274"/>
                    </a:lnTo>
                    <a:lnTo>
                      <a:pt x="615" y="1246"/>
                    </a:lnTo>
                    <a:lnTo>
                      <a:pt x="624" y="1229"/>
                    </a:lnTo>
                    <a:lnTo>
                      <a:pt x="633" y="1213"/>
                    </a:lnTo>
                    <a:lnTo>
                      <a:pt x="639" y="1194"/>
                    </a:lnTo>
                    <a:lnTo>
                      <a:pt x="644" y="1176"/>
                    </a:lnTo>
                    <a:lnTo>
                      <a:pt x="647" y="1157"/>
                    </a:lnTo>
                    <a:lnTo>
                      <a:pt x="648" y="1137"/>
                    </a:lnTo>
                    <a:lnTo>
                      <a:pt x="648" y="194"/>
                    </a:lnTo>
                    <a:lnTo>
                      <a:pt x="644" y="155"/>
                    </a:lnTo>
                    <a:lnTo>
                      <a:pt x="633" y="119"/>
                    </a:lnTo>
                    <a:lnTo>
                      <a:pt x="624" y="101"/>
                    </a:lnTo>
                    <a:lnTo>
                      <a:pt x="615" y="86"/>
                    </a:lnTo>
                    <a:lnTo>
                      <a:pt x="591" y="57"/>
                    </a:lnTo>
                    <a:lnTo>
                      <a:pt x="563" y="33"/>
                    </a:lnTo>
                    <a:lnTo>
                      <a:pt x="548" y="24"/>
                    </a:lnTo>
                    <a:lnTo>
                      <a:pt x="531" y="15"/>
                    </a:lnTo>
                    <a:lnTo>
                      <a:pt x="513" y="9"/>
                    </a:lnTo>
                    <a:lnTo>
                      <a:pt x="495" y="4"/>
                    </a:lnTo>
                    <a:lnTo>
                      <a:pt x="456" y="0"/>
                    </a:lnTo>
                    <a:lnTo>
                      <a:pt x="192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224840" y="1495440"/>
                <a:ext cx="169560" cy="309600"/>
              </a:xfrm>
              <a:custGeom>
                <a:avLst/>
                <a:gdLst/>
                <a:ahLst/>
                <a:rect l="l" t="t" r="r" b="b"/>
                <a:pathLst>
                  <a:path w="822" h="1509">
                    <a:moveTo>
                      <a:pt x="274" y="0"/>
                    </a:moveTo>
                    <a:lnTo>
                      <a:pt x="548" y="0"/>
                    </a:lnTo>
                    <a:lnTo>
                      <a:pt x="576" y="2"/>
                    </a:lnTo>
                    <a:lnTo>
                      <a:pt x="603" y="6"/>
                    </a:lnTo>
                    <a:lnTo>
                      <a:pt x="630" y="12"/>
                    </a:lnTo>
                    <a:lnTo>
                      <a:pt x="654" y="21"/>
                    </a:lnTo>
                    <a:lnTo>
                      <a:pt x="678" y="33"/>
                    </a:lnTo>
                    <a:lnTo>
                      <a:pt x="702" y="47"/>
                    </a:lnTo>
                    <a:lnTo>
                      <a:pt x="723" y="63"/>
                    </a:lnTo>
                    <a:lnTo>
                      <a:pt x="743" y="81"/>
                    </a:lnTo>
                    <a:lnTo>
                      <a:pt x="759" y="101"/>
                    </a:lnTo>
                    <a:lnTo>
                      <a:pt x="776" y="122"/>
                    </a:lnTo>
                    <a:lnTo>
                      <a:pt x="789" y="145"/>
                    </a:lnTo>
                    <a:lnTo>
                      <a:pt x="801" y="169"/>
                    </a:lnTo>
                    <a:lnTo>
                      <a:pt x="810" y="194"/>
                    </a:lnTo>
                    <a:lnTo>
                      <a:pt x="818" y="220"/>
                    </a:lnTo>
                    <a:lnTo>
                      <a:pt x="821" y="247"/>
                    </a:lnTo>
                    <a:lnTo>
                      <a:pt x="822" y="275"/>
                    </a:lnTo>
                    <a:lnTo>
                      <a:pt x="822" y="1232"/>
                    </a:lnTo>
                    <a:lnTo>
                      <a:pt x="821" y="1261"/>
                    </a:lnTo>
                    <a:lnTo>
                      <a:pt x="818" y="1288"/>
                    </a:lnTo>
                    <a:lnTo>
                      <a:pt x="810" y="1315"/>
                    </a:lnTo>
                    <a:lnTo>
                      <a:pt x="801" y="1341"/>
                    </a:lnTo>
                    <a:lnTo>
                      <a:pt x="789" y="1365"/>
                    </a:lnTo>
                    <a:lnTo>
                      <a:pt x="776" y="1387"/>
                    </a:lnTo>
                    <a:lnTo>
                      <a:pt x="759" y="1408"/>
                    </a:lnTo>
                    <a:lnTo>
                      <a:pt x="743" y="1428"/>
                    </a:lnTo>
                    <a:lnTo>
                      <a:pt x="723" y="1446"/>
                    </a:lnTo>
                    <a:lnTo>
                      <a:pt x="702" y="1461"/>
                    </a:lnTo>
                    <a:lnTo>
                      <a:pt x="678" y="1475"/>
                    </a:lnTo>
                    <a:lnTo>
                      <a:pt x="654" y="1487"/>
                    </a:lnTo>
                    <a:lnTo>
                      <a:pt x="630" y="1496"/>
                    </a:lnTo>
                    <a:lnTo>
                      <a:pt x="603" y="1503"/>
                    </a:lnTo>
                    <a:lnTo>
                      <a:pt x="576" y="1508"/>
                    </a:lnTo>
                    <a:lnTo>
                      <a:pt x="548" y="1509"/>
                    </a:lnTo>
                    <a:lnTo>
                      <a:pt x="274" y="1509"/>
                    </a:lnTo>
                    <a:lnTo>
                      <a:pt x="246" y="1508"/>
                    </a:lnTo>
                    <a:lnTo>
                      <a:pt x="219" y="1503"/>
                    </a:lnTo>
                    <a:lnTo>
                      <a:pt x="193" y="1496"/>
                    </a:lnTo>
                    <a:lnTo>
                      <a:pt x="168" y="1487"/>
                    </a:lnTo>
                    <a:lnTo>
                      <a:pt x="144" y="1475"/>
                    </a:lnTo>
                    <a:lnTo>
                      <a:pt x="121" y="1461"/>
                    </a:lnTo>
                    <a:lnTo>
                      <a:pt x="100" y="1446"/>
                    </a:lnTo>
                    <a:lnTo>
                      <a:pt x="81" y="1428"/>
                    </a:lnTo>
                    <a:lnTo>
                      <a:pt x="63" y="1408"/>
                    </a:lnTo>
                    <a:lnTo>
                      <a:pt x="46" y="1387"/>
                    </a:lnTo>
                    <a:lnTo>
                      <a:pt x="33" y="1365"/>
                    </a:lnTo>
                    <a:lnTo>
                      <a:pt x="21" y="1341"/>
                    </a:lnTo>
                    <a:lnTo>
                      <a:pt x="12" y="1315"/>
                    </a:lnTo>
                    <a:lnTo>
                      <a:pt x="6" y="1288"/>
                    </a:lnTo>
                    <a:lnTo>
                      <a:pt x="1" y="1261"/>
                    </a:lnTo>
                    <a:lnTo>
                      <a:pt x="0" y="1232"/>
                    </a:lnTo>
                    <a:lnTo>
                      <a:pt x="0" y="275"/>
                    </a:lnTo>
                    <a:lnTo>
                      <a:pt x="1" y="247"/>
                    </a:lnTo>
                    <a:lnTo>
                      <a:pt x="6" y="220"/>
                    </a:lnTo>
                    <a:lnTo>
                      <a:pt x="12" y="194"/>
                    </a:lnTo>
                    <a:lnTo>
                      <a:pt x="21" y="169"/>
                    </a:lnTo>
                    <a:lnTo>
                      <a:pt x="33" y="145"/>
                    </a:lnTo>
                    <a:lnTo>
                      <a:pt x="46" y="122"/>
                    </a:lnTo>
                    <a:lnTo>
                      <a:pt x="63" y="101"/>
                    </a:lnTo>
                    <a:lnTo>
                      <a:pt x="81" y="81"/>
                    </a:lnTo>
                    <a:lnTo>
                      <a:pt x="100" y="63"/>
                    </a:lnTo>
                    <a:lnTo>
                      <a:pt x="121" y="47"/>
                    </a:lnTo>
                    <a:lnTo>
                      <a:pt x="144" y="33"/>
                    </a:lnTo>
                    <a:lnTo>
                      <a:pt x="168" y="21"/>
                    </a:lnTo>
                    <a:lnTo>
                      <a:pt x="193" y="12"/>
                    </a:lnTo>
                    <a:lnTo>
                      <a:pt x="219" y="6"/>
                    </a:lnTo>
                    <a:lnTo>
                      <a:pt x="246" y="2"/>
                    </a:lnTo>
                    <a:lnTo>
                      <a:pt x="274" y="0"/>
                    </a:lnTo>
                  </a:path>
                </a:pathLst>
              </a:custGeom>
              <a:noFill/>
              <a:ln w="1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260120" y="1549440"/>
                <a:ext cx="9972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733680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733176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34904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302240" y="167184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29720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314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265520" y="167184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6048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7278120" y="167184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33680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3176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4904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302240" y="169308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29720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314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7265520" y="169308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26048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278120" y="169308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3680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33176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34904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02240" y="17143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729720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14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7265520" y="17143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26048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278120" y="17143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3680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33176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34904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302240" y="1735920"/>
                <a:ext cx="1728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29720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314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65520" y="1735920"/>
                <a:ext cx="17640" cy="10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26048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278120" y="1735920"/>
                <a:ext cx="10080" cy="100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302240" y="1636560"/>
                <a:ext cx="17280" cy="18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7293240" y="1636560"/>
                <a:ext cx="1800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310520" y="1636560"/>
                <a:ext cx="18360" cy="180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264080" y="1634760"/>
                <a:ext cx="20160" cy="16920"/>
              </a:xfrm>
              <a:custGeom>
                <a:avLst/>
                <a:gdLst/>
                <a:ahLst/>
                <a:rect l="l" t="t" r="r" b="b"/>
                <a:pathLst>
                  <a:path w="99" h="84">
                    <a:moveTo>
                      <a:pt x="74" y="84"/>
                    </a:moveTo>
                    <a:lnTo>
                      <a:pt x="99" y="42"/>
                    </a:lnTo>
                    <a:lnTo>
                      <a:pt x="26" y="0"/>
                    </a:lnTo>
                    <a:lnTo>
                      <a:pt x="0" y="42"/>
                    </a:lnTo>
                    <a:lnTo>
                      <a:pt x="74" y="8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26192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7277040" y="164304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36440" y="1634760"/>
                <a:ext cx="19800" cy="17640"/>
              </a:xfrm>
              <a:custGeom>
                <a:avLst/>
                <a:gdLst/>
                <a:ahLst/>
                <a:rect l="l" t="t" r="r" b="b"/>
                <a:pathLst>
                  <a:path w="98" h="86">
                    <a:moveTo>
                      <a:pt x="0" y="42"/>
                    </a:moveTo>
                    <a:lnTo>
                      <a:pt x="24" y="86"/>
                    </a:lnTo>
                    <a:lnTo>
                      <a:pt x="98" y="44"/>
                    </a:lnTo>
                    <a:lnTo>
                      <a:pt x="74" y="0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48680" y="1634400"/>
                <a:ext cx="1008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7333920" y="1643040"/>
                <a:ext cx="9720" cy="97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5860440" y="1400040"/>
              <a:ext cx="13222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Multi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ain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28BF2-EBE9-465F-BAA6-9D368138FC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IQP-500 QuickPic came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4360" y="1413000"/>
            <a:ext cx="5091120" cy="35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pture situations and emotions by taking a snapshot. Share pictures instantly by sending them from mobile to mobile via MMS, vendor-independentl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ntegrated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 check on mobile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MS resolution mobile to mobile with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60 x 12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GA resolution mobile to PC over the air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with 640 x 480 pixel, colou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QuickPic camera clips on to the mobi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ictures stored and managed in the phon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mall and light to carry (approx. 35 g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5468760" y="1363680"/>
            <a:ext cx="3429000" cy="4270680"/>
            <a:chOff x="5468760" y="1363680"/>
            <a:chExt cx="3429000" cy="4270680"/>
          </a:xfrm>
        </p:grpSpPr>
        <p:pic>
          <p:nvPicPr>
            <p:cNvPr id="605" name="" descr=""/>
            <p:cNvPicPr/>
            <p:nvPr/>
          </p:nvPicPr>
          <p:blipFill>
            <a:blip r:embed="rId1"/>
            <a:stretch/>
          </p:blipFill>
          <p:spPr>
            <a:xfrm>
              <a:off x="7520040" y="1770120"/>
              <a:ext cx="1377720" cy="26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6" name="" descr=""/>
            <p:cNvPicPr/>
            <p:nvPr/>
          </p:nvPicPr>
          <p:blipFill>
            <a:blip r:embed="rId2"/>
            <a:stretch/>
          </p:blipFill>
          <p:spPr>
            <a:xfrm>
              <a:off x="5468760" y="1363680"/>
              <a:ext cx="1378080" cy="26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7" name=""/>
            <p:cNvSpPr/>
            <p:nvPr/>
          </p:nvSpPr>
          <p:spPr>
            <a:xfrm>
              <a:off x="5897520" y="5359680"/>
              <a:ext cx="162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Colour preliminary an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"/>
                </a:rPr>
                <a:t>subject to chan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5667480" y="4029120"/>
              <a:ext cx="1006200" cy="1195560"/>
              <a:chOff x="5667480" y="4029120"/>
              <a:chExt cx="1006200" cy="1195560"/>
            </a:xfrm>
          </p:grpSpPr>
          <p:sp>
            <p:nvSpPr>
              <p:cNvPr id="609" name=""/>
              <p:cNvSpPr/>
              <p:nvPr/>
            </p:nvSpPr>
            <p:spPr>
              <a:xfrm>
                <a:off x="6513840" y="4118400"/>
                <a:ext cx="151920" cy="748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3840" y="4037760"/>
                <a:ext cx="151920" cy="4302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90000" tIns="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611" name=""/>
              <p:cNvGraphicFramePr/>
              <p:nvPr/>
            </p:nvGraphicFramePr>
            <p:xfrm>
              <a:off x="5667480" y="4029120"/>
              <a:ext cx="1006200" cy="11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61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5667480" y="4029120"/>
                        <a:ext cx="1006200" cy="11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pic>
          <p:nvPicPr>
            <p:cNvPr id="613" name="" descr=""/>
            <p:cNvPicPr/>
            <p:nvPr/>
          </p:nvPicPr>
          <p:blipFill>
            <a:blip r:embed="rId5"/>
            <a:stretch/>
          </p:blipFill>
          <p:spPr>
            <a:xfrm>
              <a:off x="5734080" y="189072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4" name="" descr=""/>
            <p:cNvPicPr/>
            <p:nvPr/>
          </p:nvPicPr>
          <p:blipFill>
            <a:blip r:embed="rId6"/>
            <a:stretch/>
          </p:blipFill>
          <p:spPr>
            <a:xfrm>
              <a:off x="6000840" y="197676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5" name="" descr=""/>
            <p:cNvPicPr/>
            <p:nvPr/>
          </p:nvPicPr>
          <p:blipFill>
            <a:blip r:embed="rId7"/>
            <a:stretch/>
          </p:blipFill>
          <p:spPr>
            <a:xfrm>
              <a:off x="6377040" y="2059200"/>
              <a:ext cx="88272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6" name="" descr=""/>
            <p:cNvPicPr/>
            <p:nvPr/>
          </p:nvPicPr>
          <p:blipFill>
            <a:blip r:embed="rId8"/>
            <a:stretch/>
          </p:blipFill>
          <p:spPr>
            <a:xfrm>
              <a:off x="6789600" y="2122560"/>
              <a:ext cx="882720" cy="66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7" name="" descr=""/>
            <p:cNvPicPr/>
            <p:nvPr/>
          </p:nvPicPr>
          <p:blipFill>
            <a:blip r:embed="rId9"/>
            <a:stretch/>
          </p:blipFill>
          <p:spPr>
            <a:xfrm>
              <a:off x="7224840" y="2222640"/>
              <a:ext cx="882360" cy="663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8" name="" descr=""/>
            <p:cNvPicPr/>
            <p:nvPr/>
          </p:nvPicPr>
          <p:blipFill>
            <a:blip r:embed="rId10"/>
            <a:stretch/>
          </p:blipFill>
          <p:spPr>
            <a:xfrm>
              <a:off x="7736040" y="2308320"/>
              <a:ext cx="882360" cy="66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9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FE1A2-BED5-45B6-900A-2A30F610FC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3b200"/>
                </a:solidFill>
                <a:latin typeface="Arial"/>
              </a:rPr>
              <a:t>Original Accessories</a:t>
            </a:r>
            <a:r>
              <a:rPr b="1" lang="en-GB" sz="2000" spc="-1" strike="noStrike">
                <a:solidFill>
                  <a:srgbClr val="9e1d3e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e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414360" y="1413000"/>
            <a:ext cx="6299280" cy="19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optimised wearing comfort with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4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093080" y="1160640"/>
            <a:ext cx="1888920" cy="4794120"/>
          </a:xfrm>
          <a:prstGeom prst="rect">
            <a:avLst/>
          </a:prstGeom>
          <a:ln w="0">
            <a:noFill/>
          </a:ln>
        </p:spPr>
      </p:pic>
      <p:sp>
        <p:nvSpPr>
          <p:cNvPr id="625" name=""/>
          <p:cNvSpPr/>
          <p:nvPr/>
        </p:nvSpPr>
        <p:spPr>
          <a:xfrm>
            <a:off x="7093080" y="154080"/>
            <a:ext cx="91584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Accessory De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f3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A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© Siemens ICM MP; July 2004; Confidential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273F1-D54A-4919-973F-D0A07472DF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 </cp:lastModifiedBy>
  <dcterms:modified xsi:type="dcterms:W3CDTF">2005-09-15T07:47:06Z</dcterms:modified>
  <cp:revision>2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4077167</vt:r8>
  </property>
  <property fmtid="{D5CDD505-2E9C-101B-9397-08002B2CF9AE}" pid="3" name="_AuthorEmail">
    <vt:lpwstr>anja.thiel@siemens.com</vt:lpwstr>
  </property>
  <property fmtid="{D5CDD505-2E9C-101B-9397-08002B2CF9AE}" pid="4" name="_AuthorEmailDisplayName">
    <vt:lpwstr>Thiel Anja Karina ICM MP CCQ SLI</vt:lpwstr>
  </property>
  <property fmtid="{D5CDD505-2E9C-101B-9397-08002B2CF9AE}" pid="5" name="_EmailSubject">
    <vt:lpwstr>Puma zum 1. Review</vt:lpwstr>
  </property>
  <property fmtid="{D5CDD505-2E9C-101B-9397-08002B2CF9AE}" pid="6" name="_ReviewingToolsShownOnce">
    <vt:lpwstr/>
  </property>
</Properties>
</file>