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63E3-B0F7-4CE1-870C-1DA72421A1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5 offers the operator the same customisation options as A55. ARPU can be generated via EMS traffic, WAP and by downloading bitmaps, EMS-animations and ring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92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5 is addressing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try leve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the market, targeting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ice-conscious follow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general, they adopt trends rather late, being quit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servative &amp; mainstre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ith a low willingness to take r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ir interest in technology is very low – it even makes them slightly uncomfortable. They therefore seek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mple, intuitive devic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The main purpose of their mobile phone i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ing reach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their families – the most important thing in their lives. More features become only interesting if the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hance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once they have becom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instre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they dispose of a rath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ow bud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price is a key buying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65 therefore offers an attractive and easy-to-use bundle of proven features at an attractive pr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61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grpSp>
        <p:nvGrpSpPr>
          <p:cNvPr id="665" name=""/>
          <p:cNvGrpSpPr/>
          <p:nvPr/>
        </p:nvGrpSpPr>
        <p:grpSpPr>
          <a:xfrm>
            <a:off x="671400" y="4678200"/>
            <a:ext cx="5283000" cy="4134240"/>
            <a:chOff x="671400" y="4678200"/>
            <a:chExt cx="5283000" cy="4134240"/>
          </a:xfrm>
        </p:grpSpPr>
        <p:sp>
          <p:nvSpPr>
            <p:cNvPr id="666" name=""/>
            <p:cNvSpPr/>
            <p:nvPr/>
          </p:nvSpPr>
          <p:spPr>
            <a:xfrm>
              <a:off x="671400" y="5514840"/>
              <a:ext cx="2333520" cy="17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y follow the trends that are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set by other groups. However being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rendy is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not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of key importance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raditional values,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open minded, main focus in life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is on their family, close friends 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and home, very sociable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Strive for a balance between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 rational and the emotional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Products they own have to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e easy, reliable &amp; functional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It is a “me too” Lifestyl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333800" y="5247720"/>
              <a:ext cx="68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iemens Sans SC"/>
                </a:rPr>
                <a:t>Lifesty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74840" y="5266800"/>
              <a:ext cx="127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iemens Sans SC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82560" y="5514840"/>
              <a:ext cx="2571840" cy="16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Slightly uncomfortable with new technologies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Preference for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basic functions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,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reliability, security &amp;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ease of use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.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y don’t use technology very intensively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In this regard they are second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uyers but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late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adopters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of new technolog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y represent the</a:t>
              </a:r>
              <a:br>
                <a:rPr sz="900"/>
              </a:b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mass market 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for everything that is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really successful on a low-tech level (e.g. Digital cam, DVD playe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83400" y="7530840"/>
              <a:ext cx="139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iemens Sans SC"/>
                </a:rPr>
                <a:t>Decision-ma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87560" y="7761240"/>
              <a:ext cx="1635840" cy="10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230040" indent="-228600">
                <a:lnSpc>
                  <a:spcPct val="10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Decision-making is driven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y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economic factors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–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y price and condition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10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Hence their decision is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driven by getting the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est price /design ratio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no experi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06200" y="4678200"/>
              <a:ext cx="450216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5360" anchor="t">
              <a:spAutoFit/>
            </a:bodyPr>
            <a:p>
              <a:pPr>
                <a:lnSpc>
                  <a:spcPts val="1587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65 is a basic phone targeting emerging market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74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5 focuses mainly on basic applic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ice, EMS, polyphonic ringtones (16 voices) and WAP, all embodying ease of use – an essential requirement of the entry-level low-interest target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80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 78 g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86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33D2-F9D0-43C8-95AE-336851449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BC35-ECF1-4375-8B2D-47ECB59AD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6608-31A1-4AD5-9931-710EB42E2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DC2B-EA44-4C3C-B284-ECB5B7F88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BA16-3B40-4D21-8A6A-9605CB0C1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113B-CE9C-4CF0-A845-287DB0841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BA5B-9189-480D-B846-F6B98A5B5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D025-4DE5-4D05-90E9-23BD0F089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6BD0-FD67-4722-813D-1EC38D7F5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65E9-1011-4A58-9904-7D7460550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45A8-B995-423F-9D22-AC60D3668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F4EA-9473-497A-BD29-0B71EB399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12560" y="6568200"/>
            <a:ext cx="32065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9A4F1877-1333-4129-8650-9BE339414174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5240" y="149400"/>
            <a:ext cx="8813520" cy="2654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mens Mobile Phones</a:t>
            </a:r>
            <a:br>
              <a:rPr sz="3200"/>
            </a:br>
            <a:r>
              <a:rPr b="1" lang="en-GB" sz="3200" spc="-1" strike="noStrike">
                <a:solidFill>
                  <a:srgbClr val="f3b200"/>
                </a:solidFill>
                <a:latin typeface="Arial"/>
              </a:rPr>
              <a:t>A65 Pre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July 200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rcRect l="0" t="3072" r="0" b="0"/>
          <a:stretch/>
        </p:blipFill>
        <p:spPr>
          <a:xfrm>
            <a:off x="7094520" y="4460760"/>
            <a:ext cx="1887480" cy="14940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414360" y="1413000"/>
            <a:ext cx="6299280" cy="27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rsonal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logos and animations available make the A65 a stylish and trendy companion reflecting the user's personality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lyphonic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 wide range of polyphonic ringtones provides a new dimension in sound and offers many ways to express emotions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un &amp; enter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phone becomes a very personal device with new applications: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gic Picture puzzle and Stack Attack Junior Ed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Application pro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83000" y="2440080"/>
            <a:ext cx="39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83000" y="5141880"/>
            <a:ext cx="39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83000" y="3795840"/>
            <a:ext cx="39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rcRect l="0" t="0" r="0" b="8645"/>
          <a:stretch/>
        </p:blipFill>
        <p:spPr>
          <a:xfrm>
            <a:off x="7095960" y="1160640"/>
            <a:ext cx="1886040" cy="1492200"/>
          </a:xfrm>
          <a:prstGeom prst="rect">
            <a:avLst/>
          </a:prstGeom>
          <a:ln w="0">
            <a:noFill/>
          </a:ln>
        </p:spPr>
      </p:pic>
      <p:pic>
        <p:nvPicPr>
          <p:cNvPr id="636" name="sample_screens_03" descr=""/>
          <p:cNvPicPr/>
          <p:nvPr/>
        </p:nvPicPr>
        <p:blipFill>
          <a:blip r:embed="rId3"/>
          <a:stretch/>
        </p:blipFill>
        <p:spPr>
          <a:xfrm>
            <a:off x="7095960" y="2806560"/>
            <a:ext cx="1887840" cy="15004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D52E-B6C3-407F-A4E8-D367470D82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onsumer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4360" y="1413000"/>
            <a:ext cx="629928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est Price / Performance Rat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k CSTN colour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ull E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MS incl. AMR recor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.6 MB user memory for pictures, animations &amp;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upports attachable QuickPic Camera with flash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ll-structured keypad layou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ood feedback on key press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rge navy-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tuitive M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rcRect l="40632" t="0" r="10442" b="0"/>
          <a:stretch/>
        </p:blipFill>
        <p:spPr>
          <a:xfrm>
            <a:off x="7093080" y="1160640"/>
            <a:ext cx="1888920" cy="4789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Consumer 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D37C-7A48-4D27-A8DA-168A95E0C8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ustomer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360" y="1413000"/>
            <a:ext cx="633564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ature 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MS with voice recor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MS, SMS, 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PRS class 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i-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chable QuickPic Camera with flash as access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ustom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 log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urf&amp;fun ic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-specific hotkey setting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ser experie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TA-download of ringtones, bitmaps and anim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touch access to operator portal and services via hotke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ur-way navigation 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ll-known coloured Siemens M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rcRect l="34557" t="0" r="30915" b="0"/>
          <a:stretch/>
        </p:blipFill>
        <p:spPr>
          <a:xfrm>
            <a:off x="7093080" y="1160640"/>
            <a:ext cx="1888920" cy="4790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Customer 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B99C-AEAA-4EA6-A995-5288FFFC8B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7094520" y="1160640"/>
            <a:ext cx="1886040" cy="149364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pport of </a:t>
            </a: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perator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14360" y="1413000"/>
            <a:ext cx="6299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xperience the world of data ser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e Internet access via 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ata download over the air (OTA) via SMS or 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ast data transfer thanks to GPRS class 8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vide content for the phone's Java platfor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e advantage of the phone's Java platform to run vivid 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ownload content from the operator portal via WAP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nd more supporting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k colour display with 101 x 80 pix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achable QuickPic Camera with integrated flash access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7297560" y="3825720"/>
            <a:ext cx="1640160" cy="21243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Customer 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3F55-D1F2-4A31-BA0C-7C9064BF96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2000" y="4129200"/>
            <a:ext cx="1981080" cy="760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2000" y="2432160"/>
            <a:ext cx="1981080" cy="760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2000" y="1165320"/>
            <a:ext cx="1981080" cy="760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5480" y="1434960"/>
            <a:ext cx="2189160" cy="4283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Simply Colour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22440" y="1413000"/>
            <a:ext cx="429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ntry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360" y="1413000"/>
            <a:ext cx="172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2556000"/>
            <a:ext cx="42912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emale = Male (50:5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r all age grou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cus on mainstream functiona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4360" y="2556000"/>
            <a:ext cx="1728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cio-demograph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22440" y="4286160"/>
            <a:ext cx="42912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most important things in my life are my family &amp; a few close friend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y mobile must be easy &amp; intuitive to handl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 mostly use my phone for calls &amp; messaging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 cannot afford an expensive pho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360" y="4286160"/>
            <a:ext cx="1728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hat makes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hem ti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8AAB-6F49-4D26-9480-742075B4D7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Key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040" y="1163520"/>
            <a:ext cx="1879920" cy="2387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57760" y="1163520"/>
            <a:ext cx="1986120" cy="238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409840" y="1160640"/>
            <a:ext cx="19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099200" y="1163520"/>
            <a:ext cx="1879560" cy="238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Key Featu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0600" y="3648240"/>
            <a:ext cx="366228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4k colour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ear structured keyp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lyphonic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igh-value finish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Voice recor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uickPic Camera with integrat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5C9B3-9F36-409E-83BC-72167BBB6D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360" y="4344840"/>
            <a:ext cx="30225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citing on-board game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gic Pic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ack Attack Jun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ownload of new Java 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8000" y="4344840"/>
            <a:ext cx="27828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achable QuickPic camera with integrat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2000" y="356076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256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5640" y="356076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55840" y="3807000"/>
            <a:ext cx="174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2000" y="1165320"/>
            <a:ext cx="8818560" cy="4332240"/>
            <a:chOff x="162000" y="1165320"/>
            <a:chExt cx="8818560" cy="4332240"/>
          </a:xfrm>
        </p:grpSpPr>
        <p:sp>
          <p:nvSpPr>
            <p:cNvPr id="130" name=""/>
            <p:cNvSpPr/>
            <p:nvPr/>
          </p:nvSpPr>
          <p:spPr>
            <a:xfrm>
              <a:off x="414360" y="1947960"/>
              <a:ext cx="3022560" cy="9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Up-to-date candy bar desig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igh-quality finis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Clear structured keypa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Good feedback on key pressu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200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4000" y="1413000"/>
              <a:ext cx="63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0564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56920" y="1413000"/>
              <a:ext cx="106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58000" y="1947960"/>
              <a:ext cx="3022560" cy="17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isplay: 101 x 80 pixel,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k colou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ri-ba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hite display back-light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olyphonics (16 chord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Java, M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567240" y="1568520"/>
              <a:ext cx="2008080" cy="39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8A4A-6B15-44CB-AEB0-9F1E3CEEEE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01920" y="3562200"/>
            <a:ext cx="1994040" cy="2387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onsumer oriented &amp; sophisti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4080" y="3562200"/>
            <a:ext cx="1890720" cy="238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46600" y="3562200"/>
            <a:ext cx="1987560" cy="238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1280" y="3562200"/>
            <a:ext cx="1890720" cy="238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4920" y="1413000"/>
            <a:ext cx="74286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verall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lear and straight forward design with large and precise keys </a:t>
            </a:r>
            <a:br>
              <a:rPr sz="1500"/>
            </a:b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orm Factor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tremely compact yet refined proportions and athletic surfaces</a:t>
            </a:r>
            <a:br>
              <a:rPr sz="1500"/>
            </a:b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aterial &amp; Finishing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wo-tone metallic paint for a richer colour scheme, chrome detailing for a boost in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4080" y="3562200"/>
            <a:ext cx="1890720" cy="238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093080" y="3562200"/>
            <a:ext cx="1888920" cy="2387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746600" y="3562200"/>
            <a:ext cx="1987560" cy="238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107B-E1F1-4980-8345-9D4032D048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70560" y="1165320"/>
            <a:ext cx="8910000" cy="5414040"/>
            <a:chOff x="70560" y="1165320"/>
            <a:chExt cx="8910000" cy="5414040"/>
          </a:xfrm>
        </p:grpSpPr>
        <p:sp>
          <p:nvSpPr>
            <p:cNvPr id="152" name=""/>
            <p:cNvSpPr/>
            <p:nvPr/>
          </p:nvSpPr>
          <p:spPr>
            <a:xfrm>
              <a:off x="414360" y="1947960"/>
              <a:ext cx="3022560" cy="46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eight/Volume/Dimens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74.8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71.8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cm</a:t>
              </a:r>
              <a:r>
                <a:rPr b="0" lang="en-GB" sz="15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: 100 x 44 x 19 mm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tandby / Talk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 to 250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h /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min (standard battery)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Camer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ttachable QuickPic camera with flash accesso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1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x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pixel, 4k colours,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li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-Ion 700 mAh 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200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560" y="1413000"/>
              <a:ext cx="161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ardwar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0564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13840" y="1413000"/>
              <a:ext cx="149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58000" y="1947960"/>
              <a:ext cx="3022560" cy="37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icture messaging (EM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xtra-long S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MS to grou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MR 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MS to E-mail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ata Transf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GPRS multislot class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Internet Acces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AP 1.2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AP 2.0 content provision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3567240" y="1568520"/>
              <a:ext cx="2008080" cy="39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26F2-3824-4567-8A32-479D419053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riginal Accesso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portfolio EM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31880" y="2081160"/>
            <a:ext cx="1468440" cy="57168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55640" y="2184480"/>
            <a:ext cx="1444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B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00320" y="2081160"/>
            <a:ext cx="14716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49080" y="2184480"/>
            <a:ext cx="98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Bas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2000" y="2652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5280" y="2755800"/>
            <a:ext cx="663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t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L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31880" y="2652840"/>
            <a:ext cx="14684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0200" y="2755800"/>
            <a:ext cx="101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00320" y="2652840"/>
            <a:ext cx="14716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25120" y="275580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081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89440" y="218448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31880" y="3224160"/>
            <a:ext cx="14684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88840" y="3327480"/>
            <a:ext cx="118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31880" y="3795840"/>
            <a:ext cx="146844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120" y="3898800"/>
            <a:ext cx="1248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k Top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C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81560" y="546264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05560" y="5460840"/>
            <a:ext cx="200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ducts compatible with 6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81560" y="568332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05200" y="568152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2000" y="2081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5120" y="2184480"/>
            <a:ext cx="71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ur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00320" y="3224160"/>
            <a:ext cx="14716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16600" y="3327480"/>
            <a:ext cx="125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31880" y="4367160"/>
            <a:ext cx="14684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6640" y="456084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k Top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41880" y="2081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11080" y="2184480"/>
            <a:ext cx="118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ckPic Camer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Q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12120" y="2081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93000" y="218448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1880" y="4929120"/>
            <a:ext cx="14684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53000" y="512280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62480" y="589104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2120" y="2652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15880" y="265284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 USB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5222880"/>
            <a:ext cx="250920" cy="14760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05560" y="5221440"/>
            <a:ext cx="200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ducts compatible with 5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y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7560" y="1413000"/>
            <a:ext cx="1416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ashion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&amp; Car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9560" y="1527120"/>
            <a:ext cx="133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00320" y="1165320"/>
            <a:ext cx="14716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26520" y="1413000"/>
            <a:ext cx="162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ndsfree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00880" y="1413000"/>
            <a:ext cx="12110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r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1212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1640" y="1527120"/>
            <a:ext cx="12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1880" y="1165320"/>
            <a:ext cx="14702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82280" y="1413000"/>
            <a:ext cx="1195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-44640" y="1165320"/>
            <a:ext cx="9026640" cy="788760"/>
            <a:chOff x="-44640" y="1165320"/>
            <a:chExt cx="9026640" cy="788760"/>
          </a:xfrm>
        </p:grpSpPr>
        <p:sp>
          <p:nvSpPr>
            <p:cNvPr id="217" name=""/>
            <p:cNvSpPr/>
            <p:nvPr/>
          </p:nvSpPr>
          <p:spPr>
            <a:xfrm>
              <a:off x="1620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44640" y="1387440"/>
              <a:ext cx="1272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sh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amp; Car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318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6120" y="1476360"/>
              <a:ext cx="120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00320" y="1165320"/>
              <a:ext cx="14716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418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121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317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544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60760" y="1569960"/>
              <a:ext cx="91800" cy="179640"/>
            </a:xfrm>
            <a:custGeom>
              <a:avLst/>
              <a:gdLst/>
              <a:ahLst/>
              <a:rect l="l" t="t" r="r" b="b"/>
              <a:pathLst>
                <a:path w="424" h="831">
                  <a:moveTo>
                    <a:pt x="88" y="689"/>
                  </a:moveTo>
                  <a:lnTo>
                    <a:pt x="235" y="689"/>
                  </a:lnTo>
                  <a:lnTo>
                    <a:pt x="239" y="689"/>
                  </a:lnTo>
                  <a:lnTo>
                    <a:pt x="242" y="688"/>
                  </a:lnTo>
                  <a:lnTo>
                    <a:pt x="245" y="686"/>
                  </a:lnTo>
                  <a:lnTo>
                    <a:pt x="248" y="683"/>
                  </a:lnTo>
                  <a:lnTo>
                    <a:pt x="253" y="677"/>
                  </a:lnTo>
                  <a:lnTo>
                    <a:pt x="253" y="674"/>
                  </a:lnTo>
                  <a:lnTo>
                    <a:pt x="254" y="671"/>
                  </a:lnTo>
                  <a:lnTo>
                    <a:pt x="253" y="665"/>
                  </a:lnTo>
                  <a:lnTo>
                    <a:pt x="253" y="661"/>
                  </a:lnTo>
                  <a:lnTo>
                    <a:pt x="251" y="658"/>
                  </a:lnTo>
                  <a:lnTo>
                    <a:pt x="248" y="655"/>
                  </a:lnTo>
                  <a:lnTo>
                    <a:pt x="245" y="652"/>
                  </a:lnTo>
                  <a:lnTo>
                    <a:pt x="242" y="650"/>
                  </a:lnTo>
                  <a:lnTo>
                    <a:pt x="239" y="649"/>
                  </a:lnTo>
                  <a:lnTo>
                    <a:pt x="235" y="649"/>
                  </a:lnTo>
                  <a:lnTo>
                    <a:pt x="88" y="649"/>
                  </a:lnTo>
                  <a:lnTo>
                    <a:pt x="83" y="649"/>
                  </a:lnTo>
                  <a:lnTo>
                    <a:pt x="80" y="650"/>
                  </a:lnTo>
                  <a:lnTo>
                    <a:pt x="77" y="652"/>
                  </a:lnTo>
                  <a:lnTo>
                    <a:pt x="74" y="655"/>
                  </a:lnTo>
                  <a:lnTo>
                    <a:pt x="70" y="661"/>
                  </a:lnTo>
                  <a:lnTo>
                    <a:pt x="70" y="664"/>
                  </a:lnTo>
                  <a:lnTo>
                    <a:pt x="68" y="667"/>
                  </a:lnTo>
                  <a:lnTo>
                    <a:pt x="70" y="673"/>
                  </a:lnTo>
                  <a:lnTo>
                    <a:pt x="70" y="676"/>
                  </a:lnTo>
                  <a:lnTo>
                    <a:pt x="71" y="680"/>
                  </a:lnTo>
                  <a:lnTo>
                    <a:pt x="74" y="683"/>
                  </a:lnTo>
                  <a:lnTo>
                    <a:pt x="77" y="686"/>
                  </a:lnTo>
                  <a:lnTo>
                    <a:pt x="80" y="688"/>
                  </a:lnTo>
                  <a:lnTo>
                    <a:pt x="83" y="689"/>
                  </a:lnTo>
                  <a:lnTo>
                    <a:pt x="88" y="689"/>
                  </a:lnTo>
                  <a:close/>
                  <a:moveTo>
                    <a:pt x="419" y="0"/>
                  </a:moveTo>
                  <a:lnTo>
                    <a:pt x="109" y="0"/>
                  </a:lnTo>
                  <a:lnTo>
                    <a:pt x="98" y="2"/>
                  </a:lnTo>
                  <a:lnTo>
                    <a:pt x="88" y="3"/>
                  </a:lnTo>
                  <a:lnTo>
                    <a:pt x="77" y="5"/>
                  </a:lnTo>
                  <a:lnTo>
                    <a:pt x="67" y="9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0" y="26"/>
                  </a:lnTo>
                  <a:lnTo>
                    <a:pt x="32" y="33"/>
                  </a:lnTo>
                  <a:lnTo>
                    <a:pt x="24" y="41"/>
                  </a:lnTo>
                  <a:lnTo>
                    <a:pt x="18" y="48"/>
                  </a:lnTo>
                  <a:lnTo>
                    <a:pt x="14" y="57"/>
                  </a:lnTo>
                  <a:lnTo>
                    <a:pt x="9" y="68"/>
                  </a:lnTo>
                  <a:lnTo>
                    <a:pt x="5" y="77"/>
                  </a:lnTo>
                  <a:lnTo>
                    <a:pt x="2" y="87"/>
                  </a:lnTo>
                  <a:lnTo>
                    <a:pt x="0" y="99"/>
                  </a:lnTo>
                  <a:lnTo>
                    <a:pt x="0" y="110"/>
                  </a:lnTo>
                  <a:lnTo>
                    <a:pt x="0" y="722"/>
                  </a:lnTo>
                  <a:lnTo>
                    <a:pt x="0" y="733"/>
                  </a:lnTo>
                  <a:lnTo>
                    <a:pt x="2" y="743"/>
                  </a:lnTo>
                  <a:lnTo>
                    <a:pt x="5" y="754"/>
                  </a:lnTo>
                  <a:lnTo>
                    <a:pt x="9" y="764"/>
                  </a:lnTo>
                  <a:lnTo>
                    <a:pt x="14" y="773"/>
                  </a:lnTo>
                  <a:lnTo>
                    <a:pt x="18" y="782"/>
                  </a:lnTo>
                  <a:lnTo>
                    <a:pt x="24" y="792"/>
                  </a:lnTo>
                  <a:lnTo>
                    <a:pt x="32" y="799"/>
                  </a:lnTo>
                  <a:lnTo>
                    <a:pt x="40" y="807"/>
                  </a:lnTo>
                  <a:lnTo>
                    <a:pt x="49" y="813"/>
                  </a:lnTo>
                  <a:lnTo>
                    <a:pt x="58" y="819"/>
                  </a:lnTo>
                  <a:lnTo>
                    <a:pt x="67" y="823"/>
                  </a:lnTo>
                  <a:lnTo>
                    <a:pt x="77" y="826"/>
                  </a:lnTo>
                  <a:lnTo>
                    <a:pt x="88" y="829"/>
                  </a:lnTo>
                  <a:lnTo>
                    <a:pt x="98" y="831"/>
                  </a:lnTo>
                  <a:lnTo>
                    <a:pt x="109" y="831"/>
                  </a:lnTo>
                  <a:lnTo>
                    <a:pt x="419" y="831"/>
                  </a:lnTo>
                  <a:lnTo>
                    <a:pt x="419" y="822"/>
                  </a:lnTo>
                  <a:lnTo>
                    <a:pt x="421" y="796"/>
                  </a:lnTo>
                  <a:lnTo>
                    <a:pt x="422" y="703"/>
                  </a:lnTo>
                  <a:lnTo>
                    <a:pt x="424" y="570"/>
                  </a:lnTo>
                  <a:lnTo>
                    <a:pt x="424" y="418"/>
                  </a:lnTo>
                  <a:lnTo>
                    <a:pt x="424" y="266"/>
                  </a:lnTo>
                  <a:lnTo>
                    <a:pt x="422" y="133"/>
                  </a:lnTo>
                  <a:lnTo>
                    <a:pt x="422" y="80"/>
                  </a:lnTo>
                  <a:lnTo>
                    <a:pt x="421" y="38"/>
                  </a:lnTo>
                  <a:lnTo>
                    <a:pt x="419" y="1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0760" y="1481040"/>
              <a:ext cx="25200" cy="2376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19" y="18"/>
                  </a:moveTo>
                  <a:lnTo>
                    <a:pt x="99" y="19"/>
                  </a:lnTo>
                  <a:lnTo>
                    <a:pt x="80" y="27"/>
                  </a:lnTo>
                  <a:lnTo>
                    <a:pt x="63" y="34"/>
                  </a:lnTo>
                  <a:lnTo>
                    <a:pt x="48" y="48"/>
                  </a:lnTo>
                  <a:lnTo>
                    <a:pt x="36" y="61"/>
                  </a:lnTo>
                  <a:lnTo>
                    <a:pt x="27" y="79"/>
                  </a:lnTo>
                  <a:lnTo>
                    <a:pt x="21" y="96"/>
                  </a:lnTo>
                  <a:lnTo>
                    <a:pt x="19" y="115"/>
                  </a:lnTo>
                  <a:lnTo>
                    <a:pt x="0" y="114"/>
                  </a:lnTo>
                  <a:lnTo>
                    <a:pt x="1" y="93"/>
                  </a:lnTo>
                  <a:lnTo>
                    <a:pt x="9" y="72"/>
                  </a:lnTo>
                  <a:lnTo>
                    <a:pt x="19" y="51"/>
                  </a:lnTo>
                  <a:lnTo>
                    <a:pt x="35" y="33"/>
                  </a:lnTo>
                  <a:lnTo>
                    <a:pt x="51" y="19"/>
                  </a:lnTo>
                  <a:lnTo>
                    <a:pt x="71" y="10"/>
                  </a:lnTo>
                  <a:lnTo>
                    <a:pt x="93" y="1"/>
                  </a:lnTo>
                  <a:lnTo>
                    <a:pt x="116" y="0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0760" y="1504800"/>
              <a:ext cx="4680" cy="21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0760" y="1720800"/>
              <a:ext cx="25200" cy="255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19" y="0"/>
                  </a:moveTo>
                  <a:lnTo>
                    <a:pt x="21" y="21"/>
                  </a:lnTo>
                  <a:lnTo>
                    <a:pt x="27" y="39"/>
                  </a:lnTo>
                  <a:lnTo>
                    <a:pt x="36" y="56"/>
                  </a:lnTo>
                  <a:lnTo>
                    <a:pt x="48" y="70"/>
                  </a:lnTo>
                  <a:lnTo>
                    <a:pt x="62" y="83"/>
                  </a:lnTo>
                  <a:lnTo>
                    <a:pt x="78" y="91"/>
                  </a:lnTo>
                  <a:lnTo>
                    <a:pt x="98" y="97"/>
                  </a:lnTo>
                  <a:lnTo>
                    <a:pt x="117" y="100"/>
                  </a:lnTo>
                  <a:lnTo>
                    <a:pt x="116" y="119"/>
                  </a:lnTo>
                  <a:lnTo>
                    <a:pt x="95" y="116"/>
                  </a:lnTo>
                  <a:lnTo>
                    <a:pt x="71" y="109"/>
                  </a:lnTo>
                  <a:lnTo>
                    <a:pt x="51" y="100"/>
                  </a:lnTo>
                  <a:lnTo>
                    <a:pt x="35" y="85"/>
                  </a:lnTo>
                  <a:lnTo>
                    <a:pt x="19" y="67"/>
                  </a:lnTo>
                  <a:lnTo>
                    <a:pt x="9" y="47"/>
                  </a:lnTo>
                  <a:lnTo>
                    <a:pt x="1" y="24"/>
                  </a:lnTo>
                  <a:lnTo>
                    <a:pt x="0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2677e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60760" y="1720800"/>
              <a:ext cx="4680" cy="3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1" y="0"/>
                  </a:moveTo>
                  <a:lnTo>
                    <a:pt x="0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4640" y="1535040"/>
              <a:ext cx="6480" cy="208080"/>
            </a:xfrm>
            <a:custGeom>
              <a:avLst/>
              <a:gdLst/>
              <a:ahLst/>
              <a:rect l="l" t="t" r="r" b="b"/>
              <a:pathLst>
                <a:path w="27" h="972">
                  <a:moveTo>
                    <a:pt x="8" y="972"/>
                  </a:moveTo>
                  <a:lnTo>
                    <a:pt x="8" y="931"/>
                  </a:lnTo>
                  <a:lnTo>
                    <a:pt x="8" y="823"/>
                  </a:lnTo>
                  <a:lnTo>
                    <a:pt x="6" y="48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6" y="487"/>
                  </a:lnTo>
                  <a:lnTo>
                    <a:pt x="27" y="823"/>
                  </a:lnTo>
                  <a:lnTo>
                    <a:pt x="27" y="931"/>
                  </a:lnTo>
                  <a:lnTo>
                    <a:pt x="26" y="972"/>
                  </a:lnTo>
                  <a:lnTo>
                    <a:pt x="8" y="9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6440" y="1741320"/>
              <a:ext cx="468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19"/>
                  </a:moveTo>
                  <a:lnTo>
                    <a:pt x="18" y="19"/>
                  </a:lnTo>
                  <a:lnTo>
                    <a:pt x="18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44640" y="1509840"/>
              <a:ext cx="16200" cy="27000"/>
            </a:xfrm>
            <a:custGeom>
              <a:avLst/>
              <a:gdLst/>
              <a:ahLst/>
              <a:rect l="l" t="t" r="r" b="b"/>
              <a:pathLst>
                <a:path w="73" h="122">
                  <a:moveTo>
                    <a:pt x="0" y="111"/>
                  </a:moveTo>
                  <a:lnTo>
                    <a:pt x="16" y="122"/>
                  </a:lnTo>
                  <a:lnTo>
                    <a:pt x="73" y="10"/>
                  </a:lnTo>
                  <a:lnTo>
                    <a:pt x="57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4640" y="1533600"/>
              <a:ext cx="5040" cy="32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18" y="11"/>
                  </a:lnTo>
                  <a:lnTo>
                    <a:pt x="2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59040" y="1496880"/>
              <a:ext cx="19080" cy="1440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54"/>
                  </a:moveTo>
                  <a:lnTo>
                    <a:pt x="10" y="70"/>
                  </a:lnTo>
                  <a:lnTo>
                    <a:pt x="95" y="16"/>
                  </a:lnTo>
                  <a:lnTo>
                    <a:pt x="8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7600" y="1509840"/>
              <a:ext cx="3240" cy="1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1490760"/>
              <a:ext cx="7920" cy="79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6" y="35"/>
                  </a:moveTo>
                  <a:lnTo>
                    <a:pt x="15" y="24"/>
                  </a:lnTo>
                  <a:lnTo>
                    <a:pt x="15" y="24"/>
                  </a:lnTo>
                  <a:lnTo>
                    <a:pt x="7" y="21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21" y="8"/>
                  </a:lnTo>
                  <a:lnTo>
                    <a:pt x="27" y="9"/>
                  </a:lnTo>
                  <a:lnTo>
                    <a:pt x="33" y="18"/>
                  </a:lnTo>
                  <a:lnTo>
                    <a:pt x="34" y="32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76680" y="1496880"/>
              <a:ext cx="2880" cy="3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4" y="16"/>
                  </a:moveTo>
                  <a:lnTo>
                    <a:pt x="18" y="13"/>
                  </a:lnTo>
                  <a:lnTo>
                    <a:pt x="18" y="6"/>
                  </a:lnTo>
                  <a:lnTo>
                    <a:pt x="0" y="9"/>
                  </a:lnTo>
                  <a:lnTo>
                    <a:pt x="3" y="0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54360" y="1481040"/>
              <a:ext cx="20520" cy="14400"/>
            </a:xfrm>
            <a:custGeom>
              <a:avLst/>
              <a:gdLst/>
              <a:ahLst/>
              <a:rect l="l" t="t" r="r" b="b"/>
              <a:pathLst>
                <a:path w="95" h="66">
                  <a:moveTo>
                    <a:pt x="82" y="66"/>
                  </a:moveTo>
                  <a:lnTo>
                    <a:pt x="65" y="45"/>
                  </a:lnTo>
                  <a:lnTo>
                    <a:pt x="45" y="31"/>
                  </a:lnTo>
                  <a:lnTo>
                    <a:pt x="23" y="21"/>
                  </a:lnTo>
                  <a:lnTo>
                    <a:pt x="12" y="1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3"/>
                  </a:lnTo>
                  <a:lnTo>
                    <a:pt x="56" y="15"/>
                  </a:lnTo>
                  <a:lnTo>
                    <a:pt x="79" y="31"/>
                  </a:lnTo>
                  <a:lnTo>
                    <a:pt x="95" y="52"/>
                  </a:lnTo>
                  <a:lnTo>
                    <a:pt x="82" y="6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71640" y="1490760"/>
              <a:ext cx="3240" cy="46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43200" y="1481040"/>
              <a:ext cx="111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9960" y="148104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19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0600" y="1457280"/>
              <a:ext cx="14040" cy="126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48" y="65"/>
                  </a:moveTo>
                  <a:lnTo>
                    <a:pt x="47" y="54"/>
                  </a:lnTo>
                  <a:lnTo>
                    <a:pt x="44" y="47"/>
                  </a:lnTo>
                  <a:lnTo>
                    <a:pt x="41" y="39"/>
                  </a:lnTo>
                  <a:lnTo>
                    <a:pt x="36" y="32"/>
                  </a:lnTo>
                  <a:lnTo>
                    <a:pt x="20" y="23"/>
                  </a:lnTo>
                  <a:lnTo>
                    <a:pt x="0" y="18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8" y="17"/>
                  </a:lnTo>
                  <a:lnTo>
                    <a:pt x="56" y="27"/>
                  </a:lnTo>
                  <a:lnTo>
                    <a:pt x="60" y="38"/>
                  </a:lnTo>
                  <a:lnTo>
                    <a:pt x="65" y="50"/>
                  </a:lnTo>
                  <a:lnTo>
                    <a:pt x="66" y="62"/>
                  </a:lnTo>
                  <a:lnTo>
                    <a:pt x="48" y="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9960" y="1469880"/>
              <a:ext cx="4680" cy="36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20" y="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09720" y="1457280"/>
              <a:ext cx="2232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0600" y="1457280"/>
              <a:ext cx="1440" cy="32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3" y="0"/>
                  </a:lnTo>
                  <a:lnTo>
                    <a:pt x="3" y="20"/>
                  </a:lnTo>
                  <a:lnTo>
                    <a:pt x="0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95680" y="1457280"/>
              <a:ext cx="15840" cy="1260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68" y="18"/>
                  </a:moveTo>
                  <a:lnTo>
                    <a:pt x="47" y="23"/>
                  </a:lnTo>
                  <a:lnTo>
                    <a:pt x="41" y="26"/>
                  </a:lnTo>
                  <a:lnTo>
                    <a:pt x="35" y="30"/>
                  </a:lnTo>
                  <a:lnTo>
                    <a:pt x="23" y="48"/>
                  </a:lnTo>
                  <a:lnTo>
                    <a:pt x="21" y="53"/>
                  </a:lnTo>
                  <a:lnTo>
                    <a:pt x="20" y="6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20" y="18"/>
                  </a:lnTo>
                  <a:lnTo>
                    <a:pt x="29" y="11"/>
                  </a:lnTo>
                  <a:lnTo>
                    <a:pt x="39" y="5"/>
                  </a:lnTo>
                  <a:lnTo>
                    <a:pt x="62" y="0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09720" y="1457280"/>
              <a:ext cx="1800" cy="324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3" y="0"/>
                  </a:moveTo>
                  <a:lnTo>
                    <a:pt x="0" y="0"/>
                  </a:lnTo>
                  <a:lnTo>
                    <a:pt x="6" y="18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95680" y="1469880"/>
              <a:ext cx="46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1469880"/>
              <a:ext cx="4680" cy="36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0" y="1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85960" y="1481040"/>
              <a:ext cx="129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95680" y="148104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9"/>
                  </a:moveTo>
                  <a:lnTo>
                    <a:pt x="20" y="19"/>
                  </a:lnTo>
                  <a:lnTo>
                    <a:pt x="11" y="19"/>
                  </a:lnTo>
                  <a:lnTo>
                    <a:pt x="11" y="0"/>
                  </a:lnTo>
                  <a:lnTo>
                    <a:pt x="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85960" y="1481040"/>
              <a:ext cx="360" cy="32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0"/>
                  </a:moveTo>
                  <a:lnTo>
                    <a:pt x="0" y="0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76600" y="1506600"/>
              <a:ext cx="39600" cy="39600"/>
            </a:xfrm>
            <a:custGeom>
              <a:avLst/>
              <a:gdLst/>
              <a:ahLst/>
              <a:rect l="l" t="t" r="r" b="b"/>
              <a:pathLst>
                <a:path w="184" h="187">
                  <a:moveTo>
                    <a:pt x="112" y="169"/>
                  </a:moveTo>
                  <a:lnTo>
                    <a:pt x="112" y="115"/>
                  </a:lnTo>
                  <a:lnTo>
                    <a:pt x="166" y="115"/>
                  </a:lnTo>
                  <a:lnTo>
                    <a:pt x="169" y="113"/>
                  </a:lnTo>
                  <a:lnTo>
                    <a:pt x="174" y="113"/>
                  </a:lnTo>
                  <a:lnTo>
                    <a:pt x="177" y="110"/>
                  </a:lnTo>
                  <a:lnTo>
                    <a:pt x="180" y="109"/>
                  </a:lnTo>
                  <a:lnTo>
                    <a:pt x="183" y="103"/>
                  </a:lnTo>
                  <a:lnTo>
                    <a:pt x="184" y="100"/>
                  </a:lnTo>
                  <a:lnTo>
                    <a:pt x="184" y="95"/>
                  </a:lnTo>
                  <a:lnTo>
                    <a:pt x="184" y="92"/>
                  </a:lnTo>
                  <a:lnTo>
                    <a:pt x="184" y="88"/>
                  </a:lnTo>
                  <a:lnTo>
                    <a:pt x="183" y="85"/>
                  </a:lnTo>
                  <a:lnTo>
                    <a:pt x="181" y="82"/>
                  </a:lnTo>
                  <a:lnTo>
                    <a:pt x="180" y="79"/>
                  </a:lnTo>
                  <a:lnTo>
                    <a:pt x="174" y="76"/>
                  </a:lnTo>
                  <a:lnTo>
                    <a:pt x="169" y="74"/>
                  </a:lnTo>
                  <a:lnTo>
                    <a:pt x="166" y="74"/>
                  </a:lnTo>
                  <a:lnTo>
                    <a:pt x="112" y="74"/>
                  </a:lnTo>
                  <a:lnTo>
                    <a:pt x="112" y="20"/>
                  </a:lnTo>
                  <a:lnTo>
                    <a:pt x="112" y="15"/>
                  </a:lnTo>
                  <a:lnTo>
                    <a:pt x="111" y="12"/>
                  </a:lnTo>
                  <a:lnTo>
                    <a:pt x="109" y="9"/>
                  </a:lnTo>
                  <a:lnTo>
                    <a:pt x="106" y="6"/>
                  </a:lnTo>
                  <a:lnTo>
                    <a:pt x="102" y="2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81" y="3"/>
                  </a:lnTo>
                  <a:lnTo>
                    <a:pt x="78" y="6"/>
                  </a:lnTo>
                  <a:lnTo>
                    <a:pt x="73" y="12"/>
                  </a:lnTo>
                  <a:lnTo>
                    <a:pt x="73" y="15"/>
                  </a:lnTo>
                  <a:lnTo>
                    <a:pt x="72" y="20"/>
                  </a:lnTo>
                  <a:lnTo>
                    <a:pt x="72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10" y="76"/>
                  </a:lnTo>
                  <a:lnTo>
                    <a:pt x="7" y="77"/>
                  </a:lnTo>
                  <a:lnTo>
                    <a:pt x="4" y="79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3" y="106"/>
                  </a:lnTo>
                  <a:lnTo>
                    <a:pt x="4" y="109"/>
                  </a:lnTo>
                  <a:lnTo>
                    <a:pt x="10" y="113"/>
                  </a:lnTo>
                  <a:lnTo>
                    <a:pt x="15" y="113"/>
                  </a:lnTo>
                  <a:lnTo>
                    <a:pt x="18" y="115"/>
                  </a:lnTo>
                  <a:lnTo>
                    <a:pt x="72" y="115"/>
                  </a:lnTo>
                  <a:lnTo>
                    <a:pt x="72" y="169"/>
                  </a:lnTo>
                  <a:lnTo>
                    <a:pt x="73" y="172"/>
                  </a:lnTo>
                  <a:lnTo>
                    <a:pt x="73" y="176"/>
                  </a:lnTo>
                  <a:lnTo>
                    <a:pt x="75" y="179"/>
                  </a:lnTo>
                  <a:lnTo>
                    <a:pt x="78" y="181"/>
                  </a:lnTo>
                  <a:lnTo>
                    <a:pt x="84" y="185"/>
                  </a:lnTo>
                  <a:lnTo>
                    <a:pt x="87" y="187"/>
                  </a:lnTo>
                  <a:lnTo>
                    <a:pt x="91" y="187"/>
                  </a:lnTo>
                  <a:lnTo>
                    <a:pt x="94" y="187"/>
                  </a:lnTo>
                  <a:lnTo>
                    <a:pt x="97" y="187"/>
                  </a:lnTo>
                  <a:lnTo>
                    <a:pt x="102" y="185"/>
                  </a:lnTo>
                  <a:lnTo>
                    <a:pt x="105" y="184"/>
                  </a:lnTo>
                  <a:lnTo>
                    <a:pt x="106" y="181"/>
                  </a:lnTo>
                  <a:lnTo>
                    <a:pt x="111" y="176"/>
                  </a:lnTo>
                  <a:lnTo>
                    <a:pt x="112" y="172"/>
                  </a:lnTo>
                  <a:lnTo>
                    <a:pt x="112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1760" y="1469880"/>
              <a:ext cx="28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52560" y="1488960"/>
              <a:ext cx="149400" cy="293760"/>
            </a:xfrm>
            <a:custGeom>
              <a:avLst/>
              <a:gdLst>
                <a:gd name="textAreaLeft" fmla="*/ 13680 w 149400"/>
                <a:gd name="textAreaRight" fmla="*/ 135720 w 14940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421">
                  <a:moveTo>
                    <a:pt x="6840" y="0"/>
                  </a:moveTo>
                  <a:arcTo wR="6840" hR="6840" stAng="16200000" swAng="-5400000"/>
                  <a:lnTo>
                    <a:pt x="0" y="35581"/>
                  </a:lnTo>
                  <a:arcTo wR="6840" hR="6840" stAng="10800000" swAng="-5400000"/>
                  <a:lnTo>
                    <a:pt x="14760" y="4242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44640" y="147960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62280" y="1496880"/>
              <a:ext cx="135000" cy="27324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4640" y="147960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9560" y="153360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7680" y="165564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5120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6848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22400" y="165564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17720" y="16556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3356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84600" y="16556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7956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98640" y="16556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57680" y="1676520"/>
              <a:ext cx="158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120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6848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22400" y="1676520"/>
              <a:ext cx="162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7720" y="167652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3356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84600" y="1676520"/>
              <a:ext cx="1908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7956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8640" y="167652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5768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5120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684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22400" y="169848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17720" y="169848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3356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84600" y="169848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956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98640" y="169848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5768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120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84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22400" y="1720800"/>
              <a:ext cx="1620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17720" y="1720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3356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84600" y="172080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7956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98640" y="1720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22400" y="1620720"/>
              <a:ext cx="162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13040" y="1620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30680" y="1620720"/>
              <a:ext cx="187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84600" y="1619280"/>
              <a:ext cx="20520" cy="172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81360" y="161928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97200" y="1627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55880" y="1619280"/>
              <a:ext cx="20520" cy="172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68480" y="161928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54440" y="1627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3544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67360" y="1557360"/>
              <a:ext cx="55440" cy="522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237" y="126"/>
                  </a:moveTo>
                  <a:lnTo>
                    <a:pt x="118" y="15"/>
                  </a:lnTo>
                  <a:lnTo>
                    <a:pt x="100" y="5"/>
                  </a:lnTo>
                  <a:lnTo>
                    <a:pt x="90" y="2"/>
                  </a:lnTo>
                  <a:lnTo>
                    <a:pt x="79" y="0"/>
                  </a:lnTo>
                  <a:lnTo>
                    <a:pt x="58" y="6"/>
                  </a:lnTo>
                  <a:lnTo>
                    <a:pt x="42" y="18"/>
                  </a:lnTo>
                  <a:lnTo>
                    <a:pt x="15" y="47"/>
                  </a:lnTo>
                  <a:lnTo>
                    <a:pt x="3" y="66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4" y="107"/>
                  </a:lnTo>
                  <a:lnTo>
                    <a:pt x="18" y="125"/>
                  </a:lnTo>
                  <a:lnTo>
                    <a:pt x="135" y="235"/>
                  </a:lnTo>
                  <a:lnTo>
                    <a:pt x="154" y="247"/>
                  </a:lnTo>
                  <a:lnTo>
                    <a:pt x="163" y="250"/>
                  </a:lnTo>
                  <a:lnTo>
                    <a:pt x="174" y="250"/>
                  </a:lnTo>
                  <a:lnTo>
                    <a:pt x="195" y="245"/>
                  </a:lnTo>
                  <a:lnTo>
                    <a:pt x="213" y="233"/>
                  </a:lnTo>
                  <a:lnTo>
                    <a:pt x="238" y="203"/>
                  </a:lnTo>
                  <a:lnTo>
                    <a:pt x="250" y="185"/>
                  </a:lnTo>
                  <a:lnTo>
                    <a:pt x="253" y="175"/>
                  </a:lnTo>
                  <a:lnTo>
                    <a:pt x="253" y="164"/>
                  </a:lnTo>
                  <a:lnTo>
                    <a:pt x="249" y="145"/>
                  </a:lnTo>
                  <a:lnTo>
                    <a:pt x="237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25760" y="1803240"/>
              <a:ext cx="52560" cy="25560"/>
            </a:xfrm>
            <a:custGeom>
              <a:avLst/>
              <a:gdLst/>
              <a:ahLst/>
              <a:rect l="l" t="t" r="r" b="b"/>
              <a:pathLst>
                <a:path w="244" h="109">
                  <a:moveTo>
                    <a:pt x="244" y="4"/>
                  </a:moveTo>
                  <a:lnTo>
                    <a:pt x="236" y="35"/>
                  </a:lnTo>
                  <a:lnTo>
                    <a:pt x="229" y="52"/>
                  </a:lnTo>
                  <a:lnTo>
                    <a:pt x="220" y="62"/>
                  </a:lnTo>
                  <a:lnTo>
                    <a:pt x="209" y="74"/>
                  </a:lnTo>
                  <a:lnTo>
                    <a:pt x="197" y="82"/>
                  </a:lnTo>
                  <a:lnTo>
                    <a:pt x="169" y="97"/>
                  </a:lnTo>
                  <a:lnTo>
                    <a:pt x="134" y="104"/>
                  </a:lnTo>
                  <a:lnTo>
                    <a:pt x="97" y="109"/>
                  </a:lnTo>
                  <a:lnTo>
                    <a:pt x="50" y="10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50" y="94"/>
                  </a:lnTo>
                  <a:lnTo>
                    <a:pt x="94" y="95"/>
                  </a:lnTo>
                  <a:lnTo>
                    <a:pt x="130" y="91"/>
                  </a:lnTo>
                  <a:lnTo>
                    <a:pt x="163" y="83"/>
                  </a:lnTo>
                  <a:lnTo>
                    <a:pt x="188" y="70"/>
                  </a:lnTo>
                  <a:lnTo>
                    <a:pt x="199" y="64"/>
                  </a:lnTo>
                  <a:lnTo>
                    <a:pt x="208" y="53"/>
                  </a:lnTo>
                  <a:lnTo>
                    <a:pt x="217" y="43"/>
                  </a:lnTo>
                  <a:lnTo>
                    <a:pt x="221" y="32"/>
                  </a:lnTo>
                  <a:lnTo>
                    <a:pt x="229" y="0"/>
                  </a:lnTo>
                  <a:lnTo>
                    <a:pt x="244" y="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54400" y="1463760"/>
              <a:ext cx="4680" cy="61920"/>
            </a:xfrm>
            <a:custGeom>
              <a:avLst/>
              <a:gdLst/>
              <a:ahLst/>
              <a:rect l="l" t="t" r="r" b="b"/>
              <a:pathLst>
                <a:path w="24" h="288">
                  <a:moveTo>
                    <a:pt x="15" y="0"/>
                  </a:moveTo>
                  <a:lnTo>
                    <a:pt x="16" y="77"/>
                  </a:lnTo>
                  <a:lnTo>
                    <a:pt x="24" y="288"/>
                  </a:lnTo>
                  <a:lnTo>
                    <a:pt x="9" y="288"/>
                  </a:lnTo>
                  <a:lnTo>
                    <a:pt x="1" y="77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56200" y="1525680"/>
              <a:ext cx="102960" cy="122040"/>
            </a:xfrm>
            <a:custGeom>
              <a:avLst/>
              <a:gdLst/>
              <a:ahLst/>
              <a:rect l="l" t="t" r="r" b="b"/>
              <a:pathLst>
                <a:path w="468" h="564">
                  <a:moveTo>
                    <a:pt x="15" y="0"/>
                  </a:moveTo>
                  <a:lnTo>
                    <a:pt x="18" y="15"/>
                  </a:lnTo>
                  <a:lnTo>
                    <a:pt x="19" y="31"/>
                  </a:lnTo>
                  <a:lnTo>
                    <a:pt x="34" y="64"/>
                  </a:lnTo>
                  <a:lnTo>
                    <a:pt x="54" y="97"/>
                  </a:lnTo>
                  <a:lnTo>
                    <a:pt x="79" y="131"/>
                  </a:lnTo>
                  <a:lnTo>
                    <a:pt x="145" y="200"/>
                  </a:lnTo>
                  <a:lnTo>
                    <a:pt x="223" y="269"/>
                  </a:lnTo>
                  <a:lnTo>
                    <a:pt x="301" y="340"/>
                  </a:lnTo>
                  <a:lnTo>
                    <a:pt x="339" y="374"/>
                  </a:lnTo>
                  <a:lnTo>
                    <a:pt x="375" y="410"/>
                  </a:lnTo>
                  <a:lnTo>
                    <a:pt x="408" y="446"/>
                  </a:lnTo>
                  <a:lnTo>
                    <a:pt x="434" y="483"/>
                  </a:lnTo>
                  <a:lnTo>
                    <a:pt x="455" y="520"/>
                  </a:lnTo>
                  <a:lnTo>
                    <a:pt x="468" y="558"/>
                  </a:lnTo>
                  <a:lnTo>
                    <a:pt x="455" y="564"/>
                  </a:lnTo>
                  <a:lnTo>
                    <a:pt x="441" y="526"/>
                  </a:lnTo>
                  <a:lnTo>
                    <a:pt x="422" y="492"/>
                  </a:lnTo>
                  <a:lnTo>
                    <a:pt x="396" y="456"/>
                  </a:lnTo>
                  <a:lnTo>
                    <a:pt x="365" y="421"/>
                  </a:lnTo>
                  <a:lnTo>
                    <a:pt x="328" y="385"/>
                  </a:lnTo>
                  <a:lnTo>
                    <a:pt x="291" y="350"/>
                  </a:lnTo>
                  <a:lnTo>
                    <a:pt x="213" y="279"/>
                  </a:lnTo>
                  <a:lnTo>
                    <a:pt x="135" y="210"/>
                  </a:lnTo>
                  <a:lnTo>
                    <a:pt x="69" y="141"/>
                  </a:lnTo>
                  <a:lnTo>
                    <a:pt x="42" y="106"/>
                  </a:lnTo>
                  <a:lnTo>
                    <a:pt x="21" y="70"/>
                  </a:lnTo>
                  <a:lnTo>
                    <a:pt x="6" y="37"/>
                  </a:lnTo>
                  <a:lnTo>
                    <a:pt x="3" y="18"/>
                  </a:lnTo>
                  <a:lnTo>
                    <a:pt x="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56200" y="1525680"/>
              <a:ext cx="288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0" y="1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55920" y="1647720"/>
              <a:ext cx="11160" cy="128520"/>
            </a:xfrm>
            <a:custGeom>
              <a:avLst/>
              <a:gdLst/>
              <a:ahLst/>
              <a:rect l="l" t="t" r="r" b="b"/>
              <a:pathLst>
                <a:path w="57" h="604">
                  <a:moveTo>
                    <a:pt x="15" y="0"/>
                  </a:moveTo>
                  <a:lnTo>
                    <a:pt x="31" y="77"/>
                  </a:lnTo>
                  <a:lnTo>
                    <a:pt x="40" y="161"/>
                  </a:lnTo>
                  <a:lnTo>
                    <a:pt x="46" y="247"/>
                  </a:lnTo>
                  <a:lnTo>
                    <a:pt x="48" y="330"/>
                  </a:lnTo>
                  <a:lnTo>
                    <a:pt x="49" y="485"/>
                  </a:lnTo>
                  <a:lnTo>
                    <a:pt x="51" y="549"/>
                  </a:lnTo>
                  <a:lnTo>
                    <a:pt x="57" y="602"/>
                  </a:lnTo>
                  <a:lnTo>
                    <a:pt x="42" y="604"/>
                  </a:lnTo>
                  <a:lnTo>
                    <a:pt x="36" y="551"/>
                  </a:lnTo>
                  <a:lnTo>
                    <a:pt x="34" y="485"/>
                  </a:lnTo>
                  <a:lnTo>
                    <a:pt x="33" y="330"/>
                  </a:lnTo>
                  <a:lnTo>
                    <a:pt x="31" y="247"/>
                  </a:lnTo>
                  <a:lnTo>
                    <a:pt x="25" y="163"/>
                  </a:lnTo>
                  <a:lnTo>
                    <a:pt x="16" y="80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55920" y="1646280"/>
              <a:ext cx="3240" cy="14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3" y="0"/>
                  </a:moveTo>
                  <a:lnTo>
                    <a:pt x="15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5640" y="1776240"/>
              <a:ext cx="60120" cy="51120"/>
            </a:xfrm>
            <a:custGeom>
              <a:avLst/>
              <a:gdLst/>
              <a:ahLst/>
              <a:rect l="l" t="t" r="r" b="b"/>
              <a:pathLst>
                <a:path w="285" h="236">
                  <a:moveTo>
                    <a:pt x="15" y="0"/>
                  </a:moveTo>
                  <a:lnTo>
                    <a:pt x="27" y="43"/>
                  </a:lnTo>
                  <a:lnTo>
                    <a:pt x="37" y="64"/>
                  </a:lnTo>
                  <a:lnTo>
                    <a:pt x="49" y="84"/>
                  </a:lnTo>
                  <a:lnTo>
                    <a:pt x="79" y="121"/>
                  </a:lnTo>
                  <a:lnTo>
                    <a:pt x="96" y="140"/>
                  </a:lnTo>
                  <a:lnTo>
                    <a:pt x="114" y="153"/>
                  </a:lnTo>
                  <a:lnTo>
                    <a:pt x="154" y="182"/>
                  </a:lnTo>
                  <a:lnTo>
                    <a:pt x="175" y="194"/>
                  </a:lnTo>
                  <a:lnTo>
                    <a:pt x="196" y="203"/>
                  </a:lnTo>
                  <a:lnTo>
                    <a:pt x="241" y="216"/>
                  </a:lnTo>
                  <a:lnTo>
                    <a:pt x="285" y="221"/>
                  </a:lnTo>
                  <a:lnTo>
                    <a:pt x="283" y="236"/>
                  </a:lnTo>
                  <a:lnTo>
                    <a:pt x="238" y="231"/>
                  </a:lnTo>
                  <a:lnTo>
                    <a:pt x="190" y="216"/>
                  </a:lnTo>
                  <a:lnTo>
                    <a:pt x="169" y="207"/>
                  </a:lnTo>
                  <a:lnTo>
                    <a:pt x="145" y="194"/>
                  </a:lnTo>
                  <a:lnTo>
                    <a:pt x="105" y="165"/>
                  </a:lnTo>
                  <a:lnTo>
                    <a:pt x="85" y="150"/>
                  </a:lnTo>
                  <a:lnTo>
                    <a:pt x="67" y="130"/>
                  </a:lnTo>
                  <a:lnTo>
                    <a:pt x="37" y="93"/>
                  </a:lnTo>
                  <a:lnTo>
                    <a:pt x="24" y="70"/>
                  </a:lnTo>
                  <a:lnTo>
                    <a:pt x="13" y="49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5040" y="1459080"/>
              <a:ext cx="22320" cy="31680"/>
            </a:xfrm>
            <a:custGeom>
              <a:avLst/>
              <a:gdLst/>
              <a:ahLst/>
              <a:rect l="l" t="t" r="r" b="b"/>
              <a:pathLst>
                <a:path w="110" h="146">
                  <a:moveTo>
                    <a:pt x="23" y="0"/>
                  </a:moveTo>
                  <a:lnTo>
                    <a:pt x="89" y="0"/>
                  </a:lnTo>
                  <a:lnTo>
                    <a:pt x="96" y="2"/>
                  </a:lnTo>
                  <a:lnTo>
                    <a:pt x="104" y="6"/>
                  </a:lnTo>
                  <a:lnTo>
                    <a:pt x="108" y="14"/>
                  </a:lnTo>
                  <a:lnTo>
                    <a:pt x="110" y="23"/>
                  </a:lnTo>
                  <a:lnTo>
                    <a:pt x="110" y="124"/>
                  </a:lnTo>
                  <a:lnTo>
                    <a:pt x="108" y="133"/>
                  </a:lnTo>
                  <a:lnTo>
                    <a:pt x="104" y="140"/>
                  </a:lnTo>
                  <a:lnTo>
                    <a:pt x="96" y="145"/>
                  </a:lnTo>
                  <a:lnTo>
                    <a:pt x="89" y="146"/>
                  </a:lnTo>
                  <a:lnTo>
                    <a:pt x="23" y="146"/>
                  </a:lnTo>
                  <a:lnTo>
                    <a:pt x="14" y="145"/>
                  </a:lnTo>
                  <a:lnTo>
                    <a:pt x="8" y="140"/>
                  </a:lnTo>
                  <a:lnTo>
                    <a:pt x="3" y="133"/>
                  </a:lnTo>
                  <a:lnTo>
                    <a:pt x="0" y="124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52760" y="1789200"/>
              <a:ext cx="41400" cy="20520"/>
            </a:xfrm>
            <a:custGeom>
              <a:avLst/>
              <a:gdLst/>
              <a:ahLst/>
              <a:rect l="l" t="t" r="r" b="b"/>
              <a:pathLst>
                <a:path w="191" h="100">
                  <a:moveTo>
                    <a:pt x="0" y="29"/>
                  </a:moveTo>
                  <a:lnTo>
                    <a:pt x="0" y="69"/>
                  </a:lnTo>
                  <a:lnTo>
                    <a:pt x="3" y="82"/>
                  </a:lnTo>
                  <a:lnTo>
                    <a:pt x="9" y="91"/>
                  </a:lnTo>
                  <a:lnTo>
                    <a:pt x="20" y="97"/>
                  </a:lnTo>
                  <a:lnTo>
                    <a:pt x="32" y="100"/>
                  </a:lnTo>
                  <a:lnTo>
                    <a:pt x="159" y="100"/>
                  </a:lnTo>
                  <a:lnTo>
                    <a:pt x="171" y="97"/>
                  </a:lnTo>
                  <a:lnTo>
                    <a:pt x="182" y="91"/>
                  </a:lnTo>
                  <a:lnTo>
                    <a:pt x="189" y="82"/>
                  </a:lnTo>
                  <a:lnTo>
                    <a:pt x="191" y="69"/>
                  </a:lnTo>
                  <a:lnTo>
                    <a:pt x="191" y="29"/>
                  </a:lnTo>
                  <a:lnTo>
                    <a:pt x="188" y="18"/>
                  </a:lnTo>
                  <a:lnTo>
                    <a:pt x="182" y="9"/>
                  </a:lnTo>
                  <a:lnTo>
                    <a:pt x="171" y="2"/>
                  </a:lnTo>
                  <a:lnTo>
                    <a:pt x="159" y="0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33880" y="1415880"/>
              <a:ext cx="46080" cy="46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46480" y="1428840"/>
              <a:ext cx="208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284720" y="1471680"/>
              <a:ext cx="177840" cy="325440"/>
              <a:chOff x="4284720" y="1471680"/>
              <a:chExt cx="177840" cy="325440"/>
            </a:xfrm>
          </p:grpSpPr>
          <p:sp>
            <p:nvSpPr>
              <p:cNvPr id="321" name=""/>
              <p:cNvSpPr/>
              <p:nvPr/>
            </p:nvSpPr>
            <p:spPr>
              <a:xfrm>
                <a:off x="4284720" y="147168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303440" y="1490400"/>
                <a:ext cx="140040" cy="28656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84720" y="147168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21800" y="1528560"/>
                <a:ext cx="104400" cy="5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02080" y="1657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97040" y="1657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1504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65720" y="1657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6068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78680" y="1657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27200" y="165708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2216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34088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402080" y="167940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97040" y="167940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1504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65720" y="167940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6068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378680" y="167940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327200" y="1679400"/>
                <a:ext cx="183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2216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4088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02080" y="1702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97040" y="1702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41504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65720" y="1702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36068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78680" y="1702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27200" y="170208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32216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4088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02080" y="172440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397040" y="172440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1504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65720" y="172440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6068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78680" y="172440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327200" y="172440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2216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4088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65720" y="1620000"/>
                <a:ext cx="180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56360" y="1620000"/>
                <a:ext cx="1872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374360" y="1620000"/>
                <a:ext cx="1944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26120" y="1618200"/>
                <a:ext cx="20880" cy="1800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323600" y="161784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339440" y="162684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01720" y="161820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4680" y="1617840"/>
                <a:ext cx="1080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399200" y="1626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2912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658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339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737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784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056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243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56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420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230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183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356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862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816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992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484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434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610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230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83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356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862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816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92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484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434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610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30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83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356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862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816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92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484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34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610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230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83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56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862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816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992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84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434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610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862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769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960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466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434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610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230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356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197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296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5374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5644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5374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979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6882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7073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6882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7249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8012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962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8138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678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7613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789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96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249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422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8012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962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8138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7678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7613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7789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7296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7249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7422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8012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7962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8138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7678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7613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789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7296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7249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422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8012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962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138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7678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7613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789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7296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7249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7422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7678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7580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7742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7282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264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7408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8012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8138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7994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8272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1400" y="1504800"/>
              <a:ext cx="139680" cy="284400"/>
            </a:xfrm>
            <a:custGeom>
              <a:avLst/>
              <a:gdLst/>
              <a:ahLst/>
              <a:rect l="l" t="t" r="r" b="b"/>
              <a:pathLst>
                <a:path w="642" h="1318">
                  <a:moveTo>
                    <a:pt x="85" y="176"/>
                  </a:moveTo>
                  <a:lnTo>
                    <a:pt x="85" y="446"/>
                  </a:lnTo>
                  <a:lnTo>
                    <a:pt x="558" y="446"/>
                  </a:lnTo>
                  <a:lnTo>
                    <a:pt x="558" y="175"/>
                  </a:lnTo>
                  <a:lnTo>
                    <a:pt x="85" y="176"/>
                  </a:lnTo>
                  <a:close/>
                  <a:moveTo>
                    <a:pt x="91" y="587"/>
                  </a:moveTo>
                  <a:lnTo>
                    <a:pt x="86" y="596"/>
                  </a:lnTo>
                  <a:lnTo>
                    <a:pt x="85" y="605"/>
                  </a:lnTo>
                  <a:lnTo>
                    <a:pt x="88" y="619"/>
                  </a:lnTo>
                  <a:lnTo>
                    <a:pt x="94" y="628"/>
                  </a:lnTo>
                  <a:lnTo>
                    <a:pt x="97" y="631"/>
                  </a:lnTo>
                  <a:lnTo>
                    <a:pt x="173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7" y="577"/>
                  </a:lnTo>
                  <a:lnTo>
                    <a:pt x="115" y="575"/>
                  </a:lnTo>
                  <a:lnTo>
                    <a:pt x="103" y="578"/>
                  </a:lnTo>
                  <a:lnTo>
                    <a:pt x="91" y="587"/>
                  </a:lnTo>
                  <a:close/>
                  <a:moveTo>
                    <a:pt x="558" y="587"/>
                  </a:moveTo>
                  <a:lnTo>
                    <a:pt x="546" y="578"/>
                  </a:lnTo>
                  <a:lnTo>
                    <a:pt x="534" y="575"/>
                  </a:lnTo>
                  <a:lnTo>
                    <a:pt x="522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3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2" y="631"/>
                  </a:lnTo>
                  <a:lnTo>
                    <a:pt x="556" y="628"/>
                  </a:lnTo>
                  <a:lnTo>
                    <a:pt x="561" y="619"/>
                  </a:lnTo>
                  <a:lnTo>
                    <a:pt x="564" y="605"/>
                  </a:lnTo>
                  <a:lnTo>
                    <a:pt x="562" y="596"/>
                  </a:lnTo>
                  <a:lnTo>
                    <a:pt x="558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6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1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2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6" y="759"/>
                  </a:lnTo>
                  <a:lnTo>
                    <a:pt x="103" y="759"/>
                  </a:lnTo>
                  <a:lnTo>
                    <a:pt x="94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80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3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8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6" y="820"/>
                  </a:lnTo>
                  <a:lnTo>
                    <a:pt x="534" y="820"/>
                  </a:lnTo>
                  <a:lnTo>
                    <a:pt x="538" y="820"/>
                  </a:lnTo>
                  <a:lnTo>
                    <a:pt x="550" y="816"/>
                  </a:lnTo>
                  <a:lnTo>
                    <a:pt x="555" y="813"/>
                  </a:lnTo>
                  <a:lnTo>
                    <a:pt x="561" y="807"/>
                  </a:lnTo>
                  <a:lnTo>
                    <a:pt x="564" y="799"/>
                  </a:lnTo>
                  <a:lnTo>
                    <a:pt x="565" y="790"/>
                  </a:lnTo>
                  <a:lnTo>
                    <a:pt x="564" y="780"/>
                  </a:lnTo>
                  <a:lnTo>
                    <a:pt x="561" y="772"/>
                  </a:lnTo>
                  <a:lnTo>
                    <a:pt x="552" y="763"/>
                  </a:lnTo>
                  <a:lnTo>
                    <a:pt x="541" y="759"/>
                  </a:lnTo>
                  <a:lnTo>
                    <a:pt x="537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4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6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1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2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6" y="859"/>
                  </a:lnTo>
                  <a:lnTo>
                    <a:pt x="103" y="861"/>
                  </a:lnTo>
                  <a:lnTo>
                    <a:pt x="94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80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3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8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6" y="923"/>
                  </a:lnTo>
                  <a:lnTo>
                    <a:pt x="534" y="923"/>
                  </a:lnTo>
                  <a:lnTo>
                    <a:pt x="538" y="923"/>
                  </a:lnTo>
                  <a:lnTo>
                    <a:pt x="550" y="918"/>
                  </a:lnTo>
                  <a:lnTo>
                    <a:pt x="555" y="914"/>
                  </a:lnTo>
                  <a:lnTo>
                    <a:pt x="561" y="909"/>
                  </a:lnTo>
                  <a:lnTo>
                    <a:pt x="564" y="902"/>
                  </a:lnTo>
                  <a:lnTo>
                    <a:pt x="565" y="891"/>
                  </a:lnTo>
                  <a:lnTo>
                    <a:pt x="564" y="882"/>
                  </a:lnTo>
                  <a:lnTo>
                    <a:pt x="561" y="874"/>
                  </a:lnTo>
                  <a:lnTo>
                    <a:pt x="552" y="865"/>
                  </a:lnTo>
                  <a:lnTo>
                    <a:pt x="541" y="861"/>
                  </a:lnTo>
                  <a:lnTo>
                    <a:pt x="537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4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6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6" y="963"/>
                  </a:lnTo>
                  <a:lnTo>
                    <a:pt x="101" y="963"/>
                  </a:lnTo>
                  <a:lnTo>
                    <a:pt x="94" y="966"/>
                  </a:lnTo>
                  <a:lnTo>
                    <a:pt x="85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4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5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5" y="963"/>
                  </a:lnTo>
                  <a:lnTo>
                    <a:pt x="266" y="966"/>
                  </a:lnTo>
                  <a:lnTo>
                    <a:pt x="259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4" y="1025"/>
                  </a:lnTo>
                  <a:lnTo>
                    <a:pt x="538" y="1025"/>
                  </a:lnTo>
                  <a:lnTo>
                    <a:pt x="549" y="1020"/>
                  </a:lnTo>
                  <a:lnTo>
                    <a:pt x="555" y="1016"/>
                  </a:lnTo>
                  <a:lnTo>
                    <a:pt x="561" y="1011"/>
                  </a:lnTo>
                  <a:lnTo>
                    <a:pt x="564" y="1004"/>
                  </a:lnTo>
                  <a:lnTo>
                    <a:pt x="565" y="993"/>
                  </a:lnTo>
                  <a:lnTo>
                    <a:pt x="564" y="984"/>
                  </a:lnTo>
                  <a:lnTo>
                    <a:pt x="561" y="977"/>
                  </a:lnTo>
                  <a:lnTo>
                    <a:pt x="552" y="968"/>
                  </a:lnTo>
                  <a:lnTo>
                    <a:pt x="541" y="963"/>
                  </a:lnTo>
                  <a:lnTo>
                    <a:pt x="537" y="962"/>
                  </a:lnTo>
                  <a:lnTo>
                    <a:pt x="445" y="963"/>
                  </a:lnTo>
                  <a:lnTo>
                    <a:pt x="442" y="963"/>
                  </a:lnTo>
                  <a:lnTo>
                    <a:pt x="433" y="966"/>
                  </a:lnTo>
                  <a:lnTo>
                    <a:pt x="425" y="975"/>
                  </a:lnTo>
                  <a:lnTo>
                    <a:pt x="419" y="989"/>
                  </a:lnTo>
                  <a:close/>
                  <a:moveTo>
                    <a:pt x="281" y="595"/>
                  </a:moveTo>
                  <a:lnTo>
                    <a:pt x="275" y="595"/>
                  </a:lnTo>
                  <a:lnTo>
                    <a:pt x="262" y="601"/>
                  </a:lnTo>
                  <a:lnTo>
                    <a:pt x="248" y="613"/>
                  </a:lnTo>
                  <a:lnTo>
                    <a:pt x="244" y="623"/>
                  </a:lnTo>
                  <a:lnTo>
                    <a:pt x="242" y="635"/>
                  </a:lnTo>
                  <a:lnTo>
                    <a:pt x="244" y="649"/>
                  </a:lnTo>
                  <a:lnTo>
                    <a:pt x="248" y="659"/>
                  </a:lnTo>
                  <a:lnTo>
                    <a:pt x="254" y="667"/>
                  </a:lnTo>
                  <a:lnTo>
                    <a:pt x="262" y="671"/>
                  </a:lnTo>
                  <a:lnTo>
                    <a:pt x="275" y="677"/>
                  </a:lnTo>
                  <a:lnTo>
                    <a:pt x="281" y="679"/>
                  </a:lnTo>
                  <a:lnTo>
                    <a:pt x="371" y="679"/>
                  </a:lnTo>
                  <a:lnTo>
                    <a:pt x="377" y="677"/>
                  </a:lnTo>
                  <a:lnTo>
                    <a:pt x="391" y="671"/>
                  </a:lnTo>
                  <a:lnTo>
                    <a:pt x="403" y="659"/>
                  </a:lnTo>
                  <a:lnTo>
                    <a:pt x="407" y="649"/>
                  </a:lnTo>
                  <a:lnTo>
                    <a:pt x="409" y="637"/>
                  </a:lnTo>
                  <a:lnTo>
                    <a:pt x="407" y="623"/>
                  </a:lnTo>
                  <a:lnTo>
                    <a:pt x="403" y="614"/>
                  </a:lnTo>
                  <a:lnTo>
                    <a:pt x="397" y="607"/>
                  </a:lnTo>
                  <a:lnTo>
                    <a:pt x="389" y="601"/>
                  </a:lnTo>
                  <a:lnTo>
                    <a:pt x="377" y="595"/>
                  </a:lnTo>
                  <a:lnTo>
                    <a:pt x="371" y="595"/>
                  </a:lnTo>
                  <a:lnTo>
                    <a:pt x="281" y="595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6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6" y="1066"/>
                  </a:lnTo>
                  <a:lnTo>
                    <a:pt x="101" y="1066"/>
                  </a:lnTo>
                  <a:lnTo>
                    <a:pt x="94" y="1069"/>
                  </a:lnTo>
                  <a:lnTo>
                    <a:pt x="85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4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5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5" y="1066"/>
                  </a:lnTo>
                  <a:lnTo>
                    <a:pt x="266" y="1069"/>
                  </a:lnTo>
                  <a:lnTo>
                    <a:pt x="259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4" y="1127"/>
                  </a:lnTo>
                  <a:lnTo>
                    <a:pt x="538" y="1127"/>
                  </a:lnTo>
                  <a:lnTo>
                    <a:pt x="549" y="1123"/>
                  </a:lnTo>
                  <a:lnTo>
                    <a:pt x="555" y="1118"/>
                  </a:lnTo>
                  <a:lnTo>
                    <a:pt x="561" y="1114"/>
                  </a:lnTo>
                  <a:lnTo>
                    <a:pt x="564" y="1106"/>
                  </a:lnTo>
                  <a:lnTo>
                    <a:pt x="565" y="1096"/>
                  </a:lnTo>
                  <a:lnTo>
                    <a:pt x="564" y="1087"/>
                  </a:lnTo>
                  <a:lnTo>
                    <a:pt x="561" y="1079"/>
                  </a:lnTo>
                  <a:lnTo>
                    <a:pt x="552" y="1070"/>
                  </a:lnTo>
                  <a:lnTo>
                    <a:pt x="541" y="1066"/>
                  </a:lnTo>
                  <a:lnTo>
                    <a:pt x="537" y="1064"/>
                  </a:lnTo>
                  <a:lnTo>
                    <a:pt x="445" y="1066"/>
                  </a:lnTo>
                  <a:lnTo>
                    <a:pt x="442" y="1066"/>
                  </a:lnTo>
                  <a:lnTo>
                    <a:pt x="433" y="1069"/>
                  </a:lnTo>
                  <a:lnTo>
                    <a:pt x="425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3" y="26"/>
                  </a:lnTo>
                  <a:lnTo>
                    <a:pt x="535" y="38"/>
                  </a:lnTo>
                  <a:lnTo>
                    <a:pt x="558" y="55"/>
                  </a:lnTo>
                  <a:lnTo>
                    <a:pt x="576" y="74"/>
                  </a:lnTo>
                  <a:lnTo>
                    <a:pt x="591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3" y="176"/>
                  </a:lnTo>
                  <a:lnTo>
                    <a:pt x="637" y="200"/>
                  </a:lnTo>
                  <a:lnTo>
                    <a:pt x="642" y="229"/>
                  </a:lnTo>
                  <a:lnTo>
                    <a:pt x="642" y="1094"/>
                  </a:lnTo>
                  <a:lnTo>
                    <a:pt x="640" y="1111"/>
                  </a:lnTo>
                  <a:lnTo>
                    <a:pt x="633" y="1150"/>
                  </a:lnTo>
                  <a:lnTo>
                    <a:pt x="624" y="1174"/>
                  </a:lnTo>
                  <a:lnTo>
                    <a:pt x="612" y="1199"/>
                  </a:lnTo>
                  <a:lnTo>
                    <a:pt x="595" y="1224"/>
                  </a:lnTo>
                  <a:lnTo>
                    <a:pt x="576" y="1246"/>
                  </a:lnTo>
                  <a:lnTo>
                    <a:pt x="532" y="1281"/>
                  </a:lnTo>
                  <a:lnTo>
                    <a:pt x="513" y="1293"/>
                  </a:lnTo>
                  <a:lnTo>
                    <a:pt x="495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3" y="1308"/>
                  </a:lnTo>
                  <a:lnTo>
                    <a:pt x="140" y="1299"/>
                  </a:lnTo>
                  <a:lnTo>
                    <a:pt x="115" y="1285"/>
                  </a:lnTo>
                  <a:lnTo>
                    <a:pt x="89" y="1267"/>
                  </a:lnTo>
                  <a:lnTo>
                    <a:pt x="65" y="1243"/>
                  </a:lnTo>
                  <a:lnTo>
                    <a:pt x="43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2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8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3" y="68"/>
                  </a:lnTo>
                  <a:lnTo>
                    <a:pt x="88" y="55"/>
                  </a:lnTo>
                  <a:lnTo>
                    <a:pt x="103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66840" y="1496880"/>
              <a:ext cx="139680" cy="300240"/>
            </a:xfrm>
            <a:custGeom>
              <a:avLst/>
              <a:gdLst>
                <a:gd name="textAreaLeft" fmla="*/ 15480 w 139680"/>
                <a:gd name="textAreaRight" fmla="*/ 124200 w 139680"/>
                <a:gd name="textAreaTop" fmla="*/ 15480 h 300240"/>
                <a:gd name="textAreaBottom" fmla="*/ 284760 h 300240"/>
              </a:gdLst>
              <a:ahLst/>
              <a:rect l="textAreaLeft" t="textAreaTop" r="textAreaRight" b="textAreaBottom"/>
              <a:pathLst>
                <a:path w="21600" h="46365">
                  <a:moveTo>
                    <a:pt x="8209" y="0"/>
                  </a:moveTo>
                  <a:arcTo wR="8209" hR="8209" stAng="16200000" swAng="-5400000"/>
                  <a:lnTo>
                    <a:pt x="0" y="38156"/>
                  </a:lnTo>
                  <a:arcTo wR="8209" hR="8209" stAng="10800000" swAng="-5400000"/>
                  <a:lnTo>
                    <a:pt x="13391" y="46365"/>
                  </a:lnTo>
                  <a:arcTo wR="8209" hR="8209" stAng="5400000" swAng="-5400000"/>
                  <a:lnTo>
                    <a:pt x="21600" y="8209"/>
                  </a:lnTo>
                  <a:arcTo wR="8209" hR="8209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81240" y="1504800"/>
              <a:ext cx="139680" cy="284400"/>
            </a:xfrm>
            <a:custGeom>
              <a:avLst/>
              <a:gdLst/>
              <a:ahLst/>
              <a:rect l="l" t="t" r="r" b="b"/>
              <a:pathLst>
                <a:path w="641" h="1318">
                  <a:moveTo>
                    <a:pt x="84" y="176"/>
                  </a:moveTo>
                  <a:lnTo>
                    <a:pt x="84" y="446"/>
                  </a:lnTo>
                  <a:lnTo>
                    <a:pt x="557" y="446"/>
                  </a:lnTo>
                  <a:lnTo>
                    <a:pt x="557" y="175"/>
                  </a:lnTo>
                  <a:lnTo>
                    <a:pt x="84" y="176"/>
                  </a:lnTo>
                  <a:close/>
                  <a:moveTo>
                    <a:pt x="90" y="587"/>
                  </a:moveTo>
                  <a:lnTo>
                    <a:pt x="86" y="596"/>
                  </a:lnTo>
                  <a:lnTo>
                    <a:pt x="84" y="605"/>
                  </a:lnTo>
                  <a:lnTo>
                    <a:pt x="87" y="619"/>
                  </a:lnTo>
                  <a:lnTo>
                    <a:pt x="93" y="628"/>
                  </a:lnTo>
                  <a:lnTo>
                    <a:pt x="96" y="631"/>
                  </a:lnTo>
                  <a:lnTo>
                    <a:pt x="172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6" y="577"/>
                  </a:lnTo>
                  <a:lnTo>
                    <a:pt x="114" y="575"/>
                  </a:lnTo>
                  <a:lnTo>
                    <a:pt x="102" y="578"/>
                  </a:lnTo>
                  <a:lnTo>
                    <a:pt x="90" y="587"/>
                  </a:lnTo>
                  <a:close/>
                  <a:moveTo>
                    <a:pt x="557" y="587"/>
                  </a:moveTo>
                  <a:lnTo>
                    <a:pt x="545" y="578"/>
                  </a:lnTo>
                  <a:lnTo>
                    <a:pt x="533" y="575"/>
                  </a:lnTo>
                  <a:lnTo>
                    <a:pt x="521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1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1" y="631"/>
                  </a:lnTo>
                  <a:lnTo>
                    <a:pt x="554" y="628"/>
                  </a:lnTo>
                  <a:lnTo>
                    <a:pt x="560" y="619"/>
                  </a:lnTo>
                  <a:lnTo>
                    <a:pt x="563" y="605"/>
                  </a:lnTo>
                  <a:lnTo>
                    <a:pt x="562" y="596"/>
                  </a:lnTo>
                  <a:lnTo>
                    <a:pt x="557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5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0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1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5" y="759"/>
                  </a:lnTo>
                  <a:lnTo>
                    <a:pt x="101" y="759"/>
                  </a:lnTo>
                  <a:lnTo>
                    <a:pt x="93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78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2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6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5" y="820"/>
                  </a:lnTo>
                  <a:lnTo>
                    <a:pt x="533" y="820"/>
                  </a:lnTo>
                  <a:lnTo>
                    <a:pt x="538" y="820"/>
                  </a:lnTo>
                  <a:lnTo>
                    <a:pt x="548" y="816"/>
                  </a:lnTo>
                  <a:lnTo>
                    <a:pt x="554" y="813"/>
                  </a:lnTo>
                  <a:lnTo>
                    <a:pt x="560" y="807"/>
                  </a:lnTo>
                  <a:lnTo>
                    <a:pt x="563" y="799"/>
                  </a:lnTo>
                  <a:lnTo>
                    <a:pt x="565" y="790"/>
                  </a:lnTo>
                  <a:lnTo>
                    <a:pt x="563" y="780"/>
                  </a:lnTo>
                  <a:lnTo>
                    <a:pt x="560" y="772"/>
                  </a:lnTo>
                  <a:lnTo>
                    <a:pt x="551" y="763"/>
                  </a:lnTo>
                  <a:lnTo>
                    <a:pt x="541" y="759"/>
                  </a:lnTo>
                  <a:lnTo>
                    <a:pt x="536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3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5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0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1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5" y="859"/>
                  </a:lnTo>
                  <a:lnTo>
                    <a:pt x="101" y="861"/>
                  </a:lnTo>
                  <a:lnTo>
                    <a:pt x="93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78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2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6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5" y="923"/>
                  </a:lnTo>
                  <a:lnTo>
                    <a:pt x="533" y="923"/>
                  </a:lnTo>
                  <a:lnTo>
                    <a:pt x="538" y="923"/>
                  </a:lnTo>
                  <a:lnTo>
                    <a:pt x="548" y="918"/>
                  </a:lnTo>
                  <a:lnTo>
                    <a:pt x="554" y="914"/>
                  </a:lnTo>
                  <a:lnTo>
                    <a:pt x="560" y="909"/>
                  </a:lnTo>
                  <a:lnTo>
                    <a:pt x="563" y="902"/>
                  </a:lnTo>
                  <a:lnTo>
                    <a:pt x="565" y="891"/>
                  </a:lnTo>
                  <a:lnTo>
                    <a:pt x="563" y="882"/>
                  </a:lnTo>
                  <a:lnTo>
                    <a:pt x="560" y="874"/>
                  </a:lnTo>
                  <a:lnTo>
                    <a:pt x="551" y="865"/>
                  </a:lnTo>
                  <a:lnTo>
                    <a:pt x="541" y="861"/>
                  </a:lnTo>
                  <a:lnTo>
                    <a:pt x="536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3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5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4" y="963"/>
                  </a:lnTo>
                  <a:lnTo>
                    <a:pt x="101" y="963"/>
                  </a:lnTo>
                  <a:lnTo>
                    <a:pt x="93" y="966"/>
                  </a:lnTo>
                  <a:lnTo>
                    <a:pt x="84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2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3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4" y="963"/>
                  </a:lnTo>
                  <a:lnTo>
                    <a:pt x="266" y="966"/>
                  </a:lnTo>
                  <a:lnTo>
                    <a:pt x="257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3" y="1025"/>
                  </a:lnTo>
                  <a:lnTo>
                    <a:pt x="538" y="1025"/>
                  </a:lnTo>
                  <a:lnTo>
                    <a:pt x="548" y="1020"/>
                  </a:lnTo>
                  <a:lnTo>
                    <a:pt x="554" y="1016"/>
                  </a:lnTo>
                  <a:lnTo>
                    <a:pt x="559" y="1011"/>
                  </a:lnTo>
                  <a:lnTo>
                    <a:pt x="563" y="1004"/>
                  </a:lnTo>
                  <a:lnTo>
                    <a:pt x="565" y="993"/>
                  </a:lnTo>
                  <a:lnTo>
                    <a:pt x="563" y="984"/>
                  </a:lnTo>
                  <a:lnTo>
                    <a:pt x="560" y="977"/>
                  </a:lnTo>
                  <a:lnTo>
                    <a:pt x="550" y="968"/>
                  </a:lnTo>
                  <a:lnTo>
                    <a:pt x="541" y="963"/>
                  </a:lnTo>
                  <a:lnTo>
                    <a:pt x="536" y="962"/>
                  </a:lnTo>
                  <a:lnTo>
                    <a:pt x="445" y="963"/>
                  </a:lnTo>
                  <a:lnTo>
                    <a:pt x="440" y="963"/>
                  </a:lnTo>
                  <a:lnTo>
                    <a:pt x="433" y="966"/>
                  </a:lnTo>
                  <a:lnTo>
                    <a:pt x="424" y="975"/>
                  </a:lnTo>
                  <a:lnTo>
                    <a:pt x="419" y="989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5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4" y="1066"/>
                  </a:lnTo>
                  <a:lnTo>
                    <a:pt x="101" y="1066"/>
                  </a:lnTo>
                  <a:lnTo>
                    <a:pt x="93" y="1069"/>
                  </a:lnTo>
                  <a:lnTo>
                    <a:pt x="84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2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3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4" y="1066"/>
                  </a:lnTo>
                  <a:lnTo>
                    <a:pt x="266" y="1069"/>
                  </a:lnTo>
                  <a:lnTo>
                    <a:pt x="257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3" y="1127"/>
                  </a:lnTo>
                  <a:lnTo>
                    <a:pt x="538" y="1127"/>
                  </a:lnTo>
                  <a:lnTo>
                    <a:pt x="548" y="1123"/>
                  </a:lnTo>
                  <a:lnTo>
                    <a:pt x="554" y="1118"/>
                  </a:lnTo>
                  <a:lnTo>
                    <a:pt x="559" y="1114"/>
                  </a:lnTo>
                  <a:lnTo>
                    <a:pt x="563" y="1106"/>
                  </a:lnTo>
                  <a:lnTo>
                    <a:pt x="565" y="1096"/>
                  </a:lnTo>
                  <a:lnTo>
                    <a:pt x="563" y="1087"/>
                  </a:lnTo>
                  <a:lnTo>
                    <a:pt x="560" y="1079"/>
                  </a:lnTo>
                  <a:lnTo>
                    <a:pt x="550" y="1070"/>
                  </a:lnTo>
                  <a:lnTo>
                    <a:pt x="541" y="1066"/>
                  </a:lnTo>
                  <a:lnTo>
                    <a:pt x="536" y="1064"/>
                  </a:lnTo>
                  <a:lnTo>
                    <a:pt x="445" y="1066"/>
                  </a:lnTo>
                  <a:lnTo>
                    <a:pt x="440" y="1066"/>
                  </a:lnTo>
                  <a:lnTo>
                    <a:pt x="433" y="1069"/>
                  </a:lnTo>
                  <a:lnTo>
                    <a:pt x="424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1" y="26"/>
                  </a:lnTo>
                  <a:lnTo>
                    <a:pt x="535" y="38"/>
                  </a:lnTo>
                  <a:lnTo>
                    <a:pt x="556" y="55"/>
                  </a:lnTo>
                  <a:lnTo>
                    <a:pt x="575" y="74"/>
                  </a:lnTo>
                  <a:lnTo>
                    <a:pt x="590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2" y="176"/>
                  </a:lnTo>
                  <a:lnTo>
                    <a:pt x="637" y="200"/>
                  </a:lnTo>
                  <a:lnTo>
                    <a:pt x="640" y="229"/>
                  </a:lnTo>
                  <a:lnTo>
                    <a:pt x="641" y="1094"/>
                  </a:lnTo>
                  <a:lnTo>
                    <a:pt x="640" y="1111"/>
                  </a:lnTo>
                  <a:lnTo>
                    <a:pt x="631" y="1150"/>
                  </a:lnTo>
                  <a:lnTo>
                    <a:pt x="623" y="1174"/>
                  </a:lnTo>
                  <a:lnTo>
                    <a:pt x="611" y="1199"/>
                  </a:lnTo>
                  <a:lnTo>
                    <a:pt x="595" y="1224"/>
                  </a:lnTo>
                  <a:lnTo>
                    <a:pt x="574" y="1246"/>
                  </a:lnTo>
                  <a:lnTo>
                    <a:pt x="532" y="1281"/>
                  </a:lnTo>
                  <a:lnTo>
                    <a:pt x="512" y="1293"/>
                  </a:lnTo>
                  <a:lnTo>
                    <a:pt x="493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2" y="1308"/>
                  </a:lnTo>
                  <a:lnTo>
                    <a:pt x="140" y="1299"/>
                  </a:lnTo>
                  <a:lnTo>
                    <a:pt x="114" y="1285"/>
                  </a:lnTo>
                  <a:lnTo>
                    <a:pt x="89" y="1267"/>
                  </a:lnTo>
                  <a:lnTo>
                    <a:pt x="63" y="1243"/>
                  </a:lnTo>
                  <a:lnTo>
                    <a:pt x="42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0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6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2" y="68"/>
                  </a:lnTo>
                  <a:lnTo>
                    <a:pt x="87" y="55"/>
                  </a:lnTo>
                  <a:lnTo>
                    <a:pt x="102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43160" y="1496880"/>
              <a:ext cx="153720" cy="301680"/>
            </a:xfrm>
            <a:custGeom>
              <a:avLst/>
              <a:gdLst>
                <a:gd name="textAreaLeft" fmla="*/ 14040 w 153720"/>
                <a:gd name="textAreaRight" fmla="*/ 139680 w 153720"/>
                <a:gd name="textAreaTop" fmla="*/ 14040 h 301680"/>
                <a:gd name="textAreaBottom" fmla="*/ 287640 h 301680"/>
              </a:gdLst>
              <a:ahLst/>
              <a:rect l="textAreaLeft" t="textAreaTop" r="textAreaRight" b="textAreaBottom"/>
              <a:pathLst>
                <a:path w="21600" h="42342">
                  <a:moveTo>
                    <a:pt x="6840" y="0"/>
                  </a:moveTo>
                  <a:arcTo wR="6840" hR="6840" stAng="16200000" swAng="-5400000"/>
                  <a:lnTo>
                    <a:pt x="0" y="35502"/>
                  </a:lnTo>
                  <a:arcTo wR="6840" hR="6840" stAng="10800000" swAng="-5400000"/>
                  <a:lnTo>
                    <a:pt x="14760" y="42342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33440" y="148752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52520" y="1506600"/>
              <a:ext cx="138240" cy="28260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33440" y="148752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70160" y="1542960"/>
              <a:ext cx="1029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49360" y="1670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44680" y="1670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61960" y="1670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14440" y="16700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07960" y="1670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27040" y="1670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76280" y="16700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70160" y="16700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89240" y="16700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49360" y="1692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4680" y="1692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61960" y="1692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14440" y="169236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07960" y="1692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27040" y="1692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76280" y="169236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70160" y="169236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89240" y="169236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49360" y="1714680"/>
              <a:ext cx="1908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44680" y="17146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61960" y="17146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14440" y="1714680"/>
              <a:ext cx="176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07960" y="17146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27040" y="1714680"/>
              <a:ext cx="972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76280" y="1714680"/>
              <a:ext cx="176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70160" y="171468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89240" y="171468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49360" y="173664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44680" y="173664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61960" y="173664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414440" y="173664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07960" y="173664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27040" y="173664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6280" y="173664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70160" y="173664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89240" y="173664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14440" y="1633680"/>
              <a:ext cx="1764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05080" y="163368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22360" y="163368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74840" y="163188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71600" y="1631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87440" y="1639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49360" y="1631880"/>
              <a:ext cx="205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61960" y="1631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6120" y="1639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869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91520" y="1400040"/>
              <a:ext cx="1433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ands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r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690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452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01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801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247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992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866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866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10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039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502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516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992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992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327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224840" y="1495440"/>
              <a:ext cx="169560" cy="309600"/>
              <a:chOff x="7224840" y="1495440"/>
              <a:chExt cx="169560" cy="309600"/>
            </a:xfrm>
          </p:grpSpPr>
          <p:sp>
            <p:nvSpPr>
              <p:cNvPr id="552" name=""/>
              <p:cNvSpPr/>
              <p:nvPr/>
            </p:nvSpPr>
            <p:spPr>
              <a:xfrm>
                <a:off x="72248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428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248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2601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368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3317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490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022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972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144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2655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604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2781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368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317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490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3022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972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144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2655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04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781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368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3317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490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022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972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144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655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604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781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368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317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490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022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2972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144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2655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2604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781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3022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932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3105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2640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2619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2770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364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486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339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58604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521F-4D13-4813-9746-C69554EB7D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IQP-500 QuickPic came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4360" y="1413000"/>
            <a:ext cx="50911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pture situations and emotions by taking a snapshot. Share pictures instantly by sending them from mobile to mobile via MMS, vendor-independent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tegrat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icture check on mobile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MS resolution mobile to mobile with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0 x 120 pixel, colou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GA resolution mobile to PC over the air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ith 640 x 480 pixel, colou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ickPic camera clips on to the mob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ictures stored and managed in the ph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mall and light to carry (approx. 35 g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468760" y="1363680"/>
            <a:ext cx="3429000" cy="4270680"/>
            <a:chOff x="5468760" y="1363680"/>
            <a:chExt cx="3429000" cy="427068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7520040" y="1770120"/>
              <a:ext cx="1377720" cy="26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2"/>
            <a:stretch/>
          </p:blipFill>
          <p:spPr>
            <a:xfrm>
              <a:off x="5468760" y="1363680"/>
              <a:ext cx="1378080" cy="26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5897520" y="5359680"/>
              <a:ext cx="162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olour preliminary an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subject to chan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5667480" y="4029120"/>
              <a:ext cx="1006200" cy="1195560"/>
              <a:chOff x="5667480" y="4029120"/>
              <a:chExt cx="1006200" cy="1195560"/>
            </a:xfrm>
          </p:grpSpPr>
          <p:sp>
            <p:nvSpPr>
              <p:cNvPr id="609" name=""/>
              <p:cNvSpPr/>
              <p:nvPr/>
            </p:nvSpPr>
            <p:spPr>
              <a:xfrm>
                <a:off x="6513840" y="4118400"/>
                <a:ext cx="151920" cy="748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3840" y="4037760"/>
                <a:ext cx="151920" cy="43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5667480" y="4029120"/>
              <a:ext cx="1006200" cy="1195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67480" y="4029120"/>
                        <a:ext cx="1006200" cy="11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613" name="" descr=""/>
            <p:cNvPicPr/>
            <p:nvPr/>
          </p:nvPicPr>
          <p:blipFill>
            <a:blip r:embed="rId5"/>
            <a:stretch/>
          </p:blipFill>
          <p:spPr>
            <a:xfrm>
              <a:off x="5734080" y="1890720"/>
              <a:ext cx="88272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6"/>
            <a:stretch/>
          </p:blipFill>
          <p:spPr>
            <a:xfrm>
              <a:off x="6000840" y="1976760"/>
              <a:ext cx="88236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7"/>
            <a:stretch/>
          </p:blipFill>
          <p:spPr>
            <a:xfrm>
              <a:off x="6377040" y="2059200"/>
              <a:ext cx="88272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8"/>
            <a:stretch/>
          </p:blipFill>
          <p:spPr>
            <a:xfrm>
              <a:off x="6789600" y="2122560"/>
              <a:ext cx="88272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9"/>
            <a:stretch/>
          </p:blipFill>
          <p:spPr>
            <a:xfrm>
              <a:off x="7224840" y="2222640"/>
              <a:ext cx="88236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10"/>
            <a:stretch/>
          </p:blipFill>
          <p:spPr>
            <a:xfrm>
              <a:off x="7736040" y="2308320"/>
              <a:ext cx="88236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y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3BCD-28C6-48F8-A0F9-40ABC31613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riginal Accessories</a:t>
            </a: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14360" y="1413000"/>
            <a:ext cx="62992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with a high-value design for mobile handsfree u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offers optimised wearing comfort with holder and earpiece hinge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e it easy – fixed small housing to connect phone and head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allows charging and phoning at the same tim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rcRect l="4960" t="0" r="4268" b="0"/>
          <a:stretch/>
        </p:blipFill>
        <p:spPr>
          <a:xfrm>
            <a:off x="7093080" y="1160640"/>
            <a:ext cx="1888920" cy="47941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y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719F-35B2-4825-A4CA-DAB4C53AB8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 </cp:lastModifiedBy>
  <dcterms:modified xsi:type="dcterms:W3CDTF">2005-09-15T07:47:06Z</dcterms:modified>
  <cp:revision>2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4077167</vt:r8>
  </property>
  <property fmtid="{D5CDD505-2E9C-101B-9397-08002B2CF9AE}" pid="3" name="_AuthorEmail">
    <vt:lpwstr>anja.thiel@siemens.com</vt:lpwstr>
  </property>
  <property fmtid="{D5CDD505-2E9C-101B-9397-08002B2CF9AE}" pid="4" name="_AuthorEmailDisplayName">
    <vt:lpwstr>Thiel Anja Karina ICM MP CCQ SLI</vt:lpwstr>
  </property>
  <property fmtid="{D5CDD505-2E9C-101B-9397-08002B2CF9AE}" pid="5" name="_EmailSubject">
    <vt:lpwstr>Puma zum 1. Review</vt:lpwstr>
  </property>
  <property fmtid="{D5CDD505-2E9C-101B-9397-08002B2CF9AE}" pid="6" name="_ReviewingToolsShownOnce">
    <vt:lpwstr/>
  </property>
</Properties>
</file>