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611B-97C9-4C50-84A2-E29F63094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43D1-DD52-46EC-8749-DF7603B71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A4DE-B95F-4B2E-8882-85F27D64B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400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400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94F9-BC3E-434B-9D58-723819627E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B616-B2C1-4FAB-B457-C63AB6353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42AF-F8DF-4285-957C-BE0DC0EE8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C25C-0490-4B62-9595-BAF01402F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2418-BB06-48EE-9069-103980A36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F724-A6D1-457C-A4A0-D96E7DB7E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D4A4-95E5-4C00-82A1-8AC60F27B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F65A-3616-4709-98A8-1CA2837EA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7C45-3009-4B7D-9ABD-0F400D68C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654D-174D-483B-84CC-24EAC411A83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1 January 2006 – V2.0 – Page </a:t>
            </a:r>
            <a:fld id="{BC2CE596-1E63-4EAC-A439-2825E68D4DCD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PLT Masterplan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imavera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fter M1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1 – M3/S4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ain milestone dates will also be seen in the Control Milestone section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f the PLT need to do some major re-planning until M3/S4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“PLT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rget plan” (or a copy of it) in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archive area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n be used for scenario planning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Purpos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This document describes the concept of the “PLT master plan” template used for product project planning in Primavera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"/>
          <p:cNvCxnSpPr/>
          <p:nvPr/>
        </p:nvCxnSpPr>
        <p:spPr>
          <a:xfrm flipV="1">
            <a:off x="5832000" y="3551040"/>
            <a:ext cx="73800" cy="106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>
            <a:off x="8891280" y="3499560"/>
            <a:ext cx="73800" cy="106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Structure in Primavera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51264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3"/>
            <a:endCxn id="53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4" idx="3"/>
            <a:endCxn id="52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3"/>
            <a:endCxn id="55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3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2"/>
            <a:endCxn id="51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462560" y="3914640"/>
            <a:ext cx="12589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38242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4006800"/>
            <a:ext cx="720720" cy="586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6" idx="1"/>
          </p:cNvCxnSpPr>
          <p:nvPr/>
        </p:nvCxnSpPr>
        <p:spPr>
          <a:xfrm>
            <a:off x="4248000" y="3854160"/>
            <a:ext cx="215280" cy="910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  <a:endCxn id="68" idx="1"/>
          </p:cNvCxnSpPr>
          <p:nvPr/>
        </p:nvCxnSpPr>
        <p:spPr>
          <a:xfrm>
            <a:off x="5721480" y="3944880"/>
            <a:ext cx="218160" cy="928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2"/>
          </p:cNvCxnSpPr>
          <p:nvPr/>
        </p:nvCxnSpPr>
        <p:spPr>
          <a:xfrm flipV="1">
            <a:off x="5721480" y="3520440"/>
            <a:ext cx="11016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8064360" y="41860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8508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3"/>
            <a:endCxn id="75" idx="2"/>
          </p:cNvCxnSpPr>
          <p:nvPr/>
        </p:nvCxnSpPr>
        <p:spPr>
          <a:xfrm flipV="1">
            <a:off x="8785080" y="3520800"/>
            <a:ext cx="10872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62560" y="5219640"/>
            <a:ext cx="12589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5251320"/>
            <a:ext cx="72072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>
            <a:off x="5721480" y="5280120"/>
            <a:ext cx="218160" cy="3384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72292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3"/>
            <a:endCxn id="80" idx="2"/>
          </p:cNvCxnSpPr>
          <p:nvPr/>
        </p:nvCxnSpPr>
        <p:spPr>
          <a:xfrm flipV="1">
            <a:off x="5721480" y="4610880"/>
            <a:ext cx="110160" cy="66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8064360" y="5275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8508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3" idx="2"/>
          </p:cNvCxnSpPr>
          <p:nvPr/>
        </p:nvCxnSpPr>
        <p:spPr>
          <a:xfrm flipV="1">
            <a:off x="8785080" y="4610880"/>
            <a:ext cx="108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527280" y="60436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3"/>
          </p:cNvCxnSpPr>
          <p:nvPr/>
        </p:nvCxnSpPr>
        <p:spPr>
          <a:xfrm>
            <a:off x="4248000" y="6105600"/>
            <a:ext cx="215280" cy="943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067280" y="5156280"/>
            <a:ext cx="21564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77" idx="1"/>
          </p:cNvCxnSpPr>
          <p:nvPr/>
        </p:nvCxnSpPr>
        <p:spPr>
          <a:xfrm>
            <a:off x="4282560" y="5218200"/>
            <a:ext cx="180360" cy="6264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8c94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5445000"/>
            <a:ext cx="8858160" cy="0"/>
          </a:xfrm>
          <a:prstGeom prst="line">
            <a:avLst/>
          </a:prstGeom>
          <a:ln cap="rnd" w="19080">
            <a:solidFill>
              <a:srgbClr val="8c949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1" idx="2"/>
            <a:endCxn id="67" idx="1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8c9498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5" idx="3"/>
          </p:cNvCxnSpPr>
          <p:nvPr/>
        </p:nvCxnSpPr>
        <p:spPr>
          <a:xfrm flipV="1">
            <a:off x="4248000" y="4172760"/>
            <a:ext cx="153360" cy="19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3"/>
          </p:cNvCxnSpPr>
          <p:nvPr/>
        </p:nvCxnSpPr>
        <p:spPr>
          <a:xfrm flipV="1">
            <a:off x="6659280" y="4250880"/>
            <a:ext cx="7380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5722560" y="4220640"/>
            <a:ext cx="37080" cy="103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</p:cNvCxnSpPr>
          <p:nvPr/>
        </p:nvCxnSpPr>
        <p:spPr>
          <a:xfrm flipV="1">
            <a:off x="4282920" y="4185360"/>
            <a:ext cx="38880" cy="10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>
            <a:off x="3419640" y="3520800"/>
            <a:ext cx="7344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8328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528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7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8c9498"/>
            </a:solidFill>
            <a:prstDash val="dash"/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3035160"/>
            <a:ext cx="361296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647720" y="3551400"/>
            <a:ext cx="720720" cy="6012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37018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2368440" y="358092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0508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</p:cNvCxnSpPr>
          <p:nvPr/>
        </p:nvCxnSpPr>
        <p:spPr>
          <a:xfrm flipV="1">
            <a:off x="3313080" y="3518640"/>
            <a:ext cx="1087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2" idx="1"/>
          </p:cNvCxnSpPr>
          <p:nvPr/>
        </p:nvCxnSpPr>
        <p:spPr>
          <a:xfrm flipH="1" rot="16200000">
            <a:off x="1549080" y="3483360"/>
            <a:ext cx="608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123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126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16000" y="3036960"/>
            <a:ext cx="108000" cy="1272960"/>
            <a:chOff x="1116000" y="3036960"/>
            <a:chExt cx="108000" cy="1272960"/>
          </a:xfrm>
        </p:grpSpPr>
        <p:sp>
          <p:nvSpPr>
            <p:cNvPr id="129" name=""/>
            <p:cNvSpPr/>
            <p:nvPr/>
          </p:nvSpPr>
          <p:spPr>
            <a:xfrm>
              <a:off x="1116000" y="3036960"/>
              <a:ext cx="0" cy="127296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309920"/>
              <a:ext cx="108000" cy="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92720" y="165708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472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1164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5476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2"/>
            <a:endCxn id="139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48" idx="2"/>
          </p:cNvCxnSpPr>
          <p:nvPr/>
        </p:nvCxnSpPr>
        <p:spPr>
          <a:xfrm flipV="1">
            <a:off x="3347640" y="5737320"/>
            <a:ext cx="7236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87" idx="1"/>
          </p:cNvCxnSpPr>
          <p:nvPr/>
        </p:nvCxnSpPr>
        <p:spPr>
          <a:xfrm>
            <a:off x="3851280" y="5116680"/>
            <a:ext cx="216720" cy="10224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>
            <a:off x="3384360" y="3519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0" idx="3"/>
            <a:endCxn id="155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9" idx="3"/>
            <a:endCxn id="158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3"/>
            <a:endCxn id="140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597060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50" idx="1"/>
          </p:cNvCxnSpPr>
          <p:nvPr/>
        </p:nvCxnSpPr>
        <p:spPr>
          <a:xfrm>
            <a:off x="2771640" y="5959080"/>
            <a:ext cx="216720" cy="73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61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0" idx="3"/>
            <a:endCxn id="85" idx="1"/>
          </p:cNvCxnSpPr>
          <p:nvPr/>
        </p:nvCxnSpPr>
        <p:spPr>
          <a:xfrm>
            <a:off x="3348000" y="6032160"/>
            <a:ext cx="180000" cy="73800"/>
          </a:xfrm>
          <a:prstGeom prst="bentConnector3">
            <a:avLst>
              <a:gd name="adj1" fmla="val 49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endCxn id="141" idx="1"/>
          </p:cNvCxnSpPr>
          <p:nvPr/>
        </p:nvCxnSpPr>
        <p:spPr>
          <a:xfrm>
            <a:off x="3419280" y="5024520"/>
            <a:ext cx="144720" cy="92880"/>
          </a:xfrm>
          <a:prstGeom prst="bentConnector3">
            <a:avLst>
              <a:gd name="adj1" fmla="val 33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6661080" y="530172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PLT Master Plan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420560"/>
            <a:ext cx="87627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PLT-Master Plan consists of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Control Milestones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howing the M and S milestones. Those milestones are the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ntrol milestone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PLT target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for PLT target planning to be used by the PLT as a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quick way to get a overview of the project delivery timelin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ottom-up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showing a high level overview (milestone and main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ctivities) connected/linked to the detailed part project plan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valid project plan is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efore M0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is the main project plan for the period M0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From M0 to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0 to M1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decides the duratio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After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Archive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 From M0 to finish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py of the “PLT target plan’s” - the PLT’s reference and scenario planning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project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"/>
          <p:cNvSpPr/>
          <p:nvPr/>
        </p:nvSpPr>
        <p:spPr>
          <a:xfrm>
            <a:off x="195120" y="981000"/>
            <a:ext cx="89488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PLT Master Plan is always the overall project plan through the project lifecycle. At the first step the plan is based on the PLT target plan, later the bottom-up plan linked to the part project plan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Before M0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51552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8c9498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3"/>
            <a:endCxn id="191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0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3"/>
            <a:endCxn id="193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1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2"/>
            <a:endCxn id="189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543096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360" y="560880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662440"/>
            <a:ext cx="1043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5640" y="557208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ask depen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543240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221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224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92720" y="1612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4720" y="142812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116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579276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5640" y="57643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lo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59371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ix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15280" y="600804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Before M0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Before M0 the PLT is working with the “</a:t>
            </a: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PLT target plan”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 which includes the milestones form M0 to M3/S4 and some pre-defined major activities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PLT can via re-estimation of the pre defined duration or via modification a) of the pre-defined activities calculate when the product can be delivered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“PLT target plan” is the plan made by the PLT to achieve management approval to continue further project planning before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defined “PLT target plan” is a target for the team, when the PPL’s starts the detailed planning until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a)  This should be avoided but if this is done the Primavera Planning Coordinator need to modify the “</a:t>
            </a:r>
            <a:r>
              <a:rPr b="1" lang="en-GB" sz="1200" spc="-1" strike="noStrike">
                <a:solidFill>
                  <a:srgbClr val="3a0e66"/>
                </a:solidFill>
                <a:latin typeface="Minion"/>
              </a:rPr>
              <a:t>Bottom-up plan”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to be equivalent with the PLT target pla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47640" y="5024520"/>
            <a:ext cx="144720" cy="216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112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From M0 to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529920" y="5295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5640" y="220032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62560" y="26305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3544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247824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8920" y="27846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7" idx="1"/>
          </p:cNvCxnSpPr>
          <p:nvPr/>
        </p:nvCxnSpPr>
        <p:spPr>
          <a:xfrm>
            <a:off x="2376360" y="2263680"/>
            <a:ext cx="215280" cy="15336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8" idx="1"/>
          </p:cNvCxnSpPr>
          <p:nvPr/>
        </p:nvCxnSpPr>
        <p:spPr>
          <a:xfrm>
            <a:off x="3311280" y="2416320"/>
            <a:ext cx="216360" cy="12456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3"/>
            <a:endCxn id="246" idx="1"/>
          </p:cNvCxnSpPr>
          <p:nvPr/>
        </p:nvCxnSpPr>
        <p:spPr>
          <a:xfrm>
            <a:off x="4248000" y="2539800"/>
            <a:ext cx="215280" cy="15300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9" idx="1"/>
          </p:cNvCxnSpPr>
          <p:nvPr/>
        </p:nvCxnSpPr>
        <p:spPr>
          <a:xfrm>
            <a:off x="5182920" y="269244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1403280" y="1984320"/>
            <a:ext cx="216000" cy="1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7" idx="3"/>
          </p:cNvCxnSpPr>
          <p:nvPr/>
        </p:nvCxnSpPr>
        <p:spPr>
          <a:xfrm flipV="1">
            <a:off x="3311640" y="2199960"/>
            <a:ext cx="108720" cy="216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6" idx="3"/>
          </p:cNvCxnSpPr>
          <p:nvPr/>
        </p:nvCxnSpPr>
        <p:spPr>
          <a:xfrm flipV="1">
            <a:off x="5183280" y="2169360"/>
            <a:ext cx="108720" cy="52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064360" y="29383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85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58" idx="2"/>
          </p:cNvCxnSpPr>
          <p:nvPr/>
        </p:nvCxnSpPr>
        <p:spPr>
          <a:xfrm flipV="1">
            <a:off x="8785080" y="2169720"/>
            <a:ext cx="10872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1332000" y="3216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360" y="12682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4" idx="2"/>
            <a:endCxn id="245" idx="1"/>
          </p:cNvCxnSpPr>
          <p:nvPr/>
        </p:nvCxnSpPr>
        <p:spPr>
          <a:xfrm flipH="1" rot="16200000">
            <a:off x="1535400" y="2144520"/>
            <a:ext cx="94320" cy="144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2560" y="3954600"/>
            <a:ext cx="12589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27280" y="3862440"/>
            <a:ext cx="7207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046400"/>
            <a:ext cx="720720" cy="604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4" idx="1"/>
          </p:cNvCxnSpPr>
          <p:nvPr/>
        </p:nvCxnSpPr>
        <p:spPr>
          <a:xfrm>
            <a:off x="4248000" y="389232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3"/>
            <a:endCxn id="266" idx="1"/>
          </p:cNvCxnSpPr>
          <p:nvPr/>
        </p:nvCxnSpPr>
        <p:spPr>
          <a:xfrm>
            <a:off x="5721120" y="3984120"/>
            <a:ext cx="222840" cy="946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5727600" y="3553560"/>
            <a:ext cx="108720" cy="4309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8064360" y="4229280"/>
            <a:ext cx="720720" cy="6156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3"/>
          </p:cNvCxnSpPr>
          <p:nvPr/>
        </p:nvCxnSpPr>
        <p:spPr>
          <a:xfrm flipV="1">
            <a:off x="8785080" y="3553560"/>
            <a:ext cx="108720" cy="70740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62560" y="5126040"/>
            <a:ext cx="12589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4964040"/>
            <a:ext cx="28764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521496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5" idx="1"/>
          </p:cNvCxnSpPr>
          <p:nvPr/>
        </p:nvCxnSpPr>
        <p:spPr>
          <a:xfrm>
            <a:off x="5721120" y="5187600"/>
            <a:ext cx="222840" cy="910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760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3" idx="3"/>
            <a:endCxn id="279" idx="2"/>
          </p:cNvCxnSpPr>
          <p:nvPr/>
        </p:nvCxnSpPr>
        <p:spPr>
          <a:xfrm flipV="1">
            <a:off x="5721120" y="4660560"/>
            <a:ext cx="114840" cy="5277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8064360" y="533412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508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2" idx="2"/>
          </p:cNvCxnSpPr>
          <p:nvPr/>
        </p:nvCxnSpPr>
        <p:spPr>
          <a:xfrm flipV="1">
            <a:off x="8785080" y="4660560"/>
            <a:ext cx="108720" cy="7358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2"/>
            <a:endCxn id="272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60418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9" idx="3"/>
            <a:endCxn id="286" idx="1"/>
          </p:cNvCxnSpPr>
          <p:nvPr/>
        </p:nvCxnSpPr>
        <p:spPr>
          <a:xfrm>
            <a:off x="3348000" y="6103440"/>
            <a:ext cx="180000" cy="1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6" idx="3"/>
          </p:cNvCxnSpPr>
          <p:nvPr/>
        </p:nvCxnSpPr>
        <p:spPr>
          <a:xfrm>
            <a:off x="4248000" y="610344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9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2"/>
            <a:endCxn id="28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95640" y="5062680"/>
            <a:ext cx="28728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42" idx="3"/>
            <a:endCxn id="295" idx="1"/>
          </p:cNvCxnSpPr>
          <p:nvPr/>
        </p:nvCxnSpPr>
        <p:spPr>
          <a:xfrm>
            <a:off x="3779640" y="5025960"/>
            <a:ext cx="216360" cy="99360"/>
          </a:xfrm>
          <a:prstGeom prst="bentConnector3">
            <a:avLst>
              <a:gd name="adj1" fmla="val 49166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5" idx="3"/>
            <a:endCxn id="273" idx="1"/>
          </p:cNvCxnSpPr>
          <p:nvPr/>
        </p:nvCxnSpPr>
        <p:spPr>
          <a:xfrm>
            <a:off x="4282560" y="512460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42920" y="438480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2920" y="549108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68768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2160" y="306216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742680" y="2430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endCxn id="265" idx="1"/>
          </p:cNvCxnSpPr>
          <p:nvPr/>
        </p:nvCxnSpPr>
        <p:spPr>
          <a:xfrm flipH="1" rot="16200000">
            <a:off x="3303360" y="3669480"/>
            <a:ext cx="339120" cy="1083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>
            <a:off x="4248000" y="4138200"/>
            <a:ext cx="153360" cy="195984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5" idx="3"/>
          </p:cNvCxnSpPr>
          <p:nvPr/>
        </p:nvCxnSpPr>
        <p:spPr>
          <a:xfrm flipV="1">
            <a:off x="6663960" y="419652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V="1">
            <a:off x="5837400" y="3583800"/>
            <a:ext cx="7344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 flipV="1">
            <a:off x="5727600" y="4137840"/>
            <a:ext cx="37440" cy="105012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3"/>
          </p:cNvCxnSpPr>
          <p:nvPr/>
        </p:nvCxnSpPr>
        <p:spPr>
          <a:xfrm flipV="1">
            <a:off x="4282920" y="4078080"/>
            <a:ext cx="38880" cy="104688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 flipV="1">
            <a:off x="3419640" y="3575160"/>
            <a:ext cx="7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V="1">
            <a:off x="8891280" y="358380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3280" y="1984320"/>
            <a:ext cx="21564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600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364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61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98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256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7020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7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49" idx="3"/>
            <a:endCxn id="257" idx="1"/>
          </p:cNvCxnSpPr>
          <p:nvPr/>
        </p:nvCxnSpPr>
        <p:spPr>
          <a:xfrm>
            <a:off x="6119640" y="2846160"/>
            <a:ext cx="1945440" cy="15444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55640" y="3584520"/>
            <a:ext cx="720720" cy="6192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2360" y="373860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>
            <a:off x="2376360" y="3616200"/>
            <a:ext cx="216720" cy="1533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1405080" y="337032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5" idx="3"/>
          </p:cNvCxnSpPr>
          <p:nvPr/>
        </p:nvCxnSpPr>
        <p:spPr>
          <a:xfrm flipV="1">
            <a:off x="3313080" y="3552480"/>
            <a:ext cx="10872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7" idx="2"/>
            <a:endCxn id="324" idx="1"/>
          </p:cNvCxnSpPr>
          <p:nvPr/>
        </p:nvCxnSpPr>
        <p:spPr>
          <a:xfrm flipH="1" rot="16200000">
            <a:off x="1552320" y="3513600"/>
            <a:ext cx="626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>
            <a:off x="3384360" y="3573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3311640" y="3370320"/>
            <a:ext cx="215640" cy="183960"/>
          </a:xfrm>
          <a:prstGeom prst="diamond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032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796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54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71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56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7020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7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72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964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8f8f8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62755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16000" y="1123920"/>
            <a:ext cx="108000" cy="492120"/>
            <a:chOff x="1116000" y="1123920"/>
            <a:chExt cx="108000" cy="492120"/>
          </a:xfrm>
        </p:grpSpPr>
        <p:sp>
          <p:nvSpPr>
            <p:cNvPr id="355" name=""/>
            <p:cNvSpPr/>
            <p:nvPr/>
          </p:nvSpPr>
          <p:spPr>
            <a:xfrm>
              <a:off x="1116000" y="112392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16000" y="16160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116000" y="1677960"/>
            <a:ext cx="108000" cy="1292400"/>
            <a:chOff x="1116000" y="1677960"/>
            <a:chExt cx="108000" cy="1292400"/>
          </a:xfrm>
        </p:grpSpPr>
        <p:sp>
          <p:nvSpPr>
            <p:cNvPr id="358" name=""/>
            <p:cNvSpPr/>
            <p:nvPr/>
          </p:nvSpPr>
          <p:spPr>
            <a:xfrm>
              <a:off x="1116000" y="16779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16000" y="2970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16000" y="3063960"/>
            <a:ext cx="108000" cy="1290600"/>
            <a:chOff x="1116000" y="3063960"/>
            <a:chExt cx="108000" cy="1290600"/>
          </a:xfrm>
        </p:grpSpPr>
        <p:sp>
          <p:nvSpPr>
            <p:cNvPr id="361" name=""/>
            <p:cNvSpPr/>
            <p:nvPr/>
          </p:nvSpPr>
          <p:spPr>
            <a:xfrm>
              <a:off x="1116000" y="306396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16000" y="435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/>
          <p:nvPr/>
        </p:nvCxnSpPr>
        <p:spPr>
          <a:xfrm flipV="1">
            <a:off x="3384720" y="2133000"/>
            <a:ext cx="73440" cy="12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11" idx="0"/>
          </p:cNvCxnSpPr>
          <p:nvPr/>
        </p:nvCxnSpPr>
        <p:spPr>
          <a:xfrm flipV="1">
            <a:off x="5290920" y="164448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V="1">
            <a:off x="889272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 flipV="1">
            <a:off x="341928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 flipV="1">
            <a:off x="5184720" y="143136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783640" y="143280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116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18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1509480" y="1615680"/>
            <a:ext cx="21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274" idx="3"/>
            <a:endCxn id="241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241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272" idx="3"/>
            <a:endCxn id="374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3"/>
            <a:endCxn id="274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289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3"/>
            <a:endCxn id="377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40000" y="3214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9308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308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3640" y="152100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557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1236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8000" y="382428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000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637000"/>
            <a:ext cx="79236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79864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4720" y="2960640"/>
            <a:ext cx="79236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3141720"/>
            <a:ext cx="79200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From M0 to M1”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0 – M1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1 date will also be seen in the Control Milestone section. The milestones in the period M1 – M3/S4 will be moved proportionally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248000" y="4025880"/>
            <a:ext cx="7192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411804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After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142920" y="440064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920" y="551664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321480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4360" y="12700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-527400" y="52837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62560" y="262728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24732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8920" y="27813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7" idx="1"/>
          </p:cNvCxnSpPr>
          <p:nvPr/>
        </p:nvCxnSpPr>
        <p:spPr>
          <a:xfrm>
            <a:off x="3311280" y="2381040"/>
            <a:ext cx="216360" cy="15444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7" idx="3"/>
            <a:endCxn id="416" idx="1"/>
          </p:cNvCxnSpPr>
          <p:nvPr/>
        </p:nvCxnSpPr>
        <p:spPr>
          <a:xfrm>
            <a:off x="4248000" y="2535120"/>
            <a:ext cx="215280" cy="15480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8" idx="1"/>
          </p:cNvCxnSpPr>
          <p:nvPr/>
        </p:nvCxnSpPr>
        <p:spPr>
          <a:xfrm>
            <a:off x="5182920" y="268920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31164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3"/>
            <a:endCxn id="423" idx="2"/>
          </p:cNvCxnSpPr>
          <p:nvPr/>
        </p:nvCxnSpPr>
        <p:spPr>
          <a:xfrm flipV="1">
            <a:off x="5183280" y="2166120"/>
            <a:ext cx="108720" cy="523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8064360" y="293364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6" idx="2"/>
          </p:cNvCxnSpPr>
          <p:nvPr/>
        </p:nvCxnSpPr>
        <p:spPr>
          <a:xfrm flipV="1">
            <a:off x="8785080" y="2166480"/>
            <a:ext cx="108720" cy="8294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240000" y="1830240"/>
            <a:ext cx="395280" cy="215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62560" y="394668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385452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8920" y="403848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3"/>
            <a:endCxn id="429" idx="1"/>
          </p:cNvCxnSpPr>
          <p:nvPr/>
        </p:nvCxnSpPr>
        <p:spPr>
          <a:xfrm>
            <a:off x="4248000" y="388440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3"/>
            <a:endCxn id="431" idx="1"/>
          </p:cNvCxnSpPr>
          <p:nvPr/>
        </p:nvCxnSpPr>
        <p:spPr>
          <a:xfrm>
            <a:off x="5182920" y="3976560"/>
            <a:ext cx="216360" cy="9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311640" y="3363840"/>
            <a:ext cx="215640" cy="1843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3280" y="336384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2"/>
          </p:cNvCxnSpPr>
          <p:nvPr/>
        </p:nvCxnSpPr>
        <p:spPr>
          <a:xfrm flipV="1">
            <a:off x="5183280" y="3547800"/>
            <a:ext cx="10872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8064360" y="422100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85080" y="336384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3"/>
            <a:endCxn id="438" idx="2"/>
          </p:cNvCxnSpPr>
          <p:nvPr/>
        </p:nvCxnSpPr>
        <p:spPr>
          <a:xfrm flipV="1">
            <a:off x="8785080" y="3547440"/>
            <a:ext cx="10872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462560" y="51148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4956120"/>
            <a:ext cx="28764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8920" y="52038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3"/>
            <a:endCxn id="442" idx="1"/>
          </p:cNvCxnSpPr>
          <p:nvPr/>
        </p:nvCxnSpPr>
        <p:spPr>
          <a:xfrm>
            <a:off x="5182920" y="5176440"/>
            <a:ext cx="216360" cy="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311640" y="4467240"/>
            <a:ext cx="215640" cy="1839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3280" y="446724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5" idx="2"/>
          </p:cNvCxnSpPr>
          <p:nvPr/>
        </p:nvCxnSpPr>
        <p:spPr>
          <a:xfrm flipV="1">
            <a:off x="5183280" y="4650840"/>
            <a:ext cx="10872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8064360" y="53229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785080" y="446724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7" idx="3"/>
            <a:endCxn id="448" idx="2"/>
          </p:cNvCxnSpPr>
          <p:nvPr/>
        </p:nvCxnSpPr>
        <p:spPr>
          <a:xfrm flipV="1">
            <a:off x="8785080" y="4650840"/>
            <a:ext cx="108720" cy="73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527280" y="60292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3"/>
          </p:cNvCxnSpPr>
          <p:nvPr/>
        </p:nvCxnSpPr>
        <p:spPr>
          <a:xfrm>
            <a:off x="4248000" y="609084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311640" y="5541840"/>
            <a:ext cx="215640" cy="18252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505152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1" idx="3"/>
            <a:endCxn id="453" idx="1"/>
          </p:cNvCxnSpPr>
          <p:nvPr/>
        </p:nvCxnSpPr>
        <p:spPr>
          <a:xfrm>
            <a:off x="3814920" y="5017680"/>
            <a:ext cx="181440" cy="96120"/>
          </a:xfrm>
          <a:prstGeom prst="bentConnector3">
            <a:avLst>
              <a:gd name="adj1" fmla="val 491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3" idx="3"/>
            <a:endCxn id="440" idx="1"/>
          </p:cNvCxnSpPr>
          <p:nvPr/>
        </p:nvCxnSpPr>
        <p:spPr>
          <a:xfrm>
            <a:off x="4282560" y="511344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 rot="16200000">
            <a:off x="-739800" y="242712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4" idx="2"/>
            <a:endCxn id="430" idx="1"/>
          </p:cNvCxnSpPr>
          <p:nvPr/>
        </p:nvCxnSpPr>
        <p:spPr>
          <a:xfrm flipH="1" rot="16200000">
            <a:off x="3304080" y="3662280"/>
            <a:ext cx="33732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</p:cNvCxnSpPr>
          <p:nvPr/>
        </p:nvCxnSpPr>
        <p:spPr>
          <a:xfrm flipV="1">
            <a:off x="4248000" y="4136760"/>
            <a:ext cx="15336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2" idx="3"/>
          </p:cNvCxnSpPr>
          <p:nvPr/>
        </p:nvCxnSpPr>
        <p:spPr>
          <a:xfrm flipV="1">
            <a:off x="6119280" y="4188960"/>
            <a:ext cx="73800" cy="10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/>
          <p:nvPr/>
        </p:nvCxnSpPr>
        <p:spPr>
          <a:xfrm flipV="1">
            <a:off x="529236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0" idx="3"/>
          </p:cNvCxnSpPr>
          <p:nvPr/>
        </p:nvCxnSpPr>
        <p:spPr>
          <a:xfrm flipV="1">
            <a:off x="5182920" y="4130280"/>
            <a:ext cx="37080" cy="104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3" idx="3"/>
          </p:cNvCxnSpPr>
          <p:nvPr/>
        </p:nvCxnSpPr>
        <p:spPr>
          <a:xfrm flipV="1">
            <a:off x="4282920" y="4069800"/>
            <a:ext cx="38880" cy="104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V="1">
            <a:off x="889128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9600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1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98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020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7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964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/>
          <p:nvPr/>
        </p:nvCxnSpPr>
        <p:spPr>
          <a:xfrm>
            <a:off x="6119640" y="2842920"/>
            <a:ext cx="1945440" cy="153000"/>
          </a:xfrm>
          <a:prstGeom prst="bentConnector3">
            <a:avLst>
              <a:gd name="adj1" fmla="val 3905"/>
            </a:avLst>
          </a:prstGeom>
          <a:ln w="9360">
            <a:solidFill>
              <a:srgbClr val="f8f8f8"/>
            </a:solidFill>
            <a:prstDash val="dash"/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1258920" y="1685880"/>
            <a:ext cx="421308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WBS: PLT target plan can be found at the Project arch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2160" y="305604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2" idx="2"/>
            <a:endCxn id="450" idx="1"/>
          </p:cNvCxnSpPr>
          <p:nvPr/>
        </p:nvCxnSpPr>
        <p:spPr>
          <a:xfrm flipH="1" rot="16200000">
            <a:off x="3288960" y="585360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44" idx="2"/>
            <a:endCxn id="441" idx="1"/>
          </p:cNvCxnSpPr>
          <p:nvPr/>
        </p:nvCxnSpPr>
        <p:spPr>
          <a:xfrm flipH="1" rot="16200000">
            <a:off x="3288960" y="478044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240000" y="3241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6280" y="3578400"/>
            <a:ext cx="720720" cy="6156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3732120"/>
            <a:ext cx="720720" cy="604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2" idx="3"/>
            <a:endCxn id="483" idx="1"/>
          </p:cNvCxnSpPr>
          <p:nvPr/>
        </p:nvCxnSpPr>
        <p:spPr>
          <a:xfrm>
            <a:off x="2367000" y="3609720"/>
            <a:ext cx="224640" cy="153000"/>
          </a:xfrm>
          <a:prstGeom prst="bentConnector3">
            <a:avLst>
              <a:gd name="adj1" fmla="val 49598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403280" y="3363840"/>
            <a:ext cx="216000" cy="18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3"/>
          </p:cNvCxnSpPr>
          <p:nvPr/>
        </p:nvCxnSpPr>
        <p:spPr>
          <a:xfrm flipV="1">
            <a:off x="3311640" y="3547440"/>
            <a:ext cx="108720" cy="2149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332000" y="32400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5" idx="2"/>
            <a:endCxn id="482" idx="1"/>
          </p:cNvCxnSpPr>
          <p:nvPr/>
        </p:nvCxnSpPr>
        <p:spPr>
          <a:xfrm flipH="1" rot="16200000">
            <a:off x="1546920" y="351144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590920" y="2443320"/>
            <a:ext cx="720720" cy="298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46280" y="21970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3511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7" idx="3"/>
            <a:endCxn id="498" idx="1"/>
          </p:cNvCxnSpPr>
          <p:nvPr/>
        </p:nvCxnSpPr>
        <p:spPr>
          <a:xfrm>
            <a:off x="2367000" y="2260440"/>
            <a:ext cx="224640" cy="153360"/>
          </a:xfrm>
          <a:prstGeom prst="bentConnector3">
            <a:avLst>
              <a:gd name="adj1" fmla="val 49598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140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1830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497" idx="1"/>
          </p:cNvCxnSpPr>
          <p:nvPr/>
        </p:nvCxnSpPr>
        <p:spPr>
          <a:xfrm flipH="1" rot="16200000">
            <a:off x="1531080" y="2145960"/>
            <a:ext cx="94320" cy="135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771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62611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c0c0c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16000" y="1123920"/>
            <a:ext cx="108000" cy="490680"/>
            <a:chOff x="1116000" y="1123920"/>
            <a:chExt cx="108000" cy="490680"/>
          </a:xfrm>
        </p:grpSpPr>
        <p:sp>
          <p:nvSpPr>
            <p:cNvPr id="510" name=""/>
            <p:cNvSpPr/>
            <p:nvPr/>
          </p:nvSpPr>
          <p:spPr>
            <a:xfrm>
              <a:off x="1116000" y="1123920"/>
              <a:ext cx="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16000" y="16146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16000" y="1676520"/>
            <a:ext cx="108000" cy="1288800"/>
            <a:chOff x="1116000" y="1676520"/>
            <a:chExt cx="108000" cy="1288800"/>
          </a:xfrm>
        </p:grpSpPr>
        <p:sp>
          <p:nvSpPr>
            <p:cNvPr id="513" name=""/>
            <p:cNvSpPr/>
            <p:nvPr/>
          </p:nvSpPr>
          <p:spPr>
            <a:xfrm>
              <a:off x="1116000" y="1676520"/>
              <a:ext cx="0" cy="12888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16000" y="2965320"/>
              <a:ext cx="108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16000" y="3057480"/>
            <a:ext cx="108000" cy="1287360"/>
            <a:chOff x="1116000" y="3057480"/>
            <a:chExt cx="108000" cy="1287360"/>
          </a:xfrm>
        </p:grpSpPr>
        <p:sp>
          <p:nvSpPr>
            <p:cNvPr id="516" name=""/>
            <p:cNvSpPr/>
            <p:nvPr/>
          </p:nvSpPr>
          <p:spPr>
            <a:xfrm>
              <a:off x="1116000" y="305748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43448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5184720" y="1430280"/>
            <a:ext cx="217440" cy="154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783640" y="1431360"/>
            <a:ext cx="217440" cy="15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116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4018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85" idx="0"/>
            <a:endCxn id="521" idx="0"/>
          </p:cNvCxnSpPr>
          <p:nvPr/>
        </p:nvCxnSpPr>
        <p:spPr>
          <a:xfrm flipH="1" flipV="1">
            <a:off x="1509480" y="1613880"/>
            <a:ext cx="2160" cy="1749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 flipH="1" flipV="1">
            <a:off x="3417120" y="1613880"/>
            <a:ext cx="252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/>
          <p:nvPr/>
        </p:nvCxnSpPr>
        <p:spPr>
          <a:xfrm flipH="1" flipV="1">
            <a:off x="529092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/>
          <p:nvPr/>
        </p:nvCxnSpPr>
        <p:spPr>
          <a:xfrm flipH="1" flipV="1">
            <a:off x="889128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2"/>
            <a:endCxn id="526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4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2"/>
            <a:endCxn id="530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6" name=""/>
          <p:cNvCxnSpPr/>
          <p:nvPr/>
        </p:nvCxnSpPr>
        <p:spPr>
          <a:xfrm flipV="1">
            <a:off x="3419640" y="3499920"/>
            <a:ext cx="73440" cy="107856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7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9" name=""/>
          <p:cNvCxnSpPr/>
          <p:nvPr/>
        </p:nvCxnSpPr>
        <p:spPr>
          <a:xfrm flipV="1">
            <a:off x="3384360" y="3499920"/>
            <a:ext cx="116280" cy="20520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7" idx="3"/>
            <a:endCxn id="540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V="1">
            <a:off x="3347640" y="4652280"/>
            <a:ext cx="73800" cy="36108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3"/>
            <a:endCxn id="543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27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6" idx="3"/>
            <a:endCxn id="534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3"/>
            <a:endCxn id="546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50" name=""/>
          <p:cNvCxnSpPr/>
          <p:nvPr/>
        </p:nvCxnSpPr>
        <p:spPr>
          <a:xfrm>
            <a:off x="6119640" y="526680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3527280" y="3929040"/>
            <a:ext cx="648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30056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9280" y="3807000"/>
            <a:ext cx="720720" cy="17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9420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3128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0920" y="148428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67640" y="148428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0" y="159228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360" y="155736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44:33Z</dcterms:created>
  <dc:creator>Finn Møller Jensen/Bjarne Thomsen</dc:creator>
  <dc:description>Changed to v2.0 07-02-2006 OSM</dc:description>
  <dc:language>en-US</dc:language>
  <cp:lastModifiedBy>Ole Sletting Madsen</cp:lastModifiedBy>
  <dcterms:modified xsi:type="dcterms:W3CDTF">2006-02-07T12:34:29Z</dcterms:modified>
  <cp:revision>28</cp:revision>
  <dc:subject/>
  <dc:title>PLT Masterplan concept</dc:title>
</cp:coreProperties>
</file>