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2A474-B40E-4A80-BCDF-34FB7993C3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7605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19F77-6607-4613-8BA1-AF0D0EC523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7605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37605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A17EF-E5C0-4750-B859-F88D07F978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4000" y="98100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2360" y="98100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7605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4000" y="37605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2360" y="37605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6919B-627F-4C16-9C7B-E26A5B7B7F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20CEC-1B84-441B-A1EC-C432324E20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F1BEA-4844-4C5F-A2E6-05CDA5CF46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DBC7A-8D7F-43BE-A010-467B75388D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A6E6A-F737-4ABC-82CA-D2161F5488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794A2-B6A3-46CE-BCAA-65FCD56F63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7605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A296B-B3E4-4EE2-A633-27D2C3B497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37605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227C7-A2E0-4ECE-BD64-E21E6D836A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7605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6B150-9702-48A0-B04E-D482F6AD93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4580-9687-4034-B61D-619BAB9E75FF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- Planning Office – 11 January 2006 – V2.0 – Page </a:t>
            </a:r>
            <a:fld id="{E8B70E1B-6D21-4B03-BF4F-7B7097832007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of 1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9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PLT Masterplan concep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anning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1 January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573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rimavera project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”</a:t>
            </a: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fter M1” descrip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Deviations in the detailed plan of the part projects milestones M1 – M3/S4 will be reflected in the “Bottom-up plan” with the baseline as reference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Deviations of the main milestone dates will also be seen in the Control Milestone section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If the PLT need to do some major re-planning until M3/S4 the </a:t>
            </a: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“PLT 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target plan” (or a copy of it) in the </a:t>
            </a: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archive area 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an be used for scenario planning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Purpos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a0e66"/>
                </a:solidFill>
                <a:latin typeface="Minion"/>
              </a:rPr>
              <a:t>This document describes the concept of the “PLT master plan” template used for product project planning in Primavera.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6" name=""/>
          <p:cNvCxnSpPr/>
          <p:nvPr/>
        </p:nvCxnSpPr>
        <p:spPr>
          <a:xfrm flipV="1">
            <a:off x="5832000" y="3551040"/>
            <a:ext cx="73800" cy="1064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/>
          <p:nvPr/>
        </p:nvCxnSpPr>
        <p:spPr>
          <a:xfrm flipV="1">
            <a:off x="8891280" y="3499560"/>
            <a:ext cx="73800" cy="106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279000"/>
            <a:ext cx="83707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a0e66"/>
                </a:solidFill>
                <a:latin typeface="Minion"/>
              </a:rPr>
              <a:t>Structure in Primavera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512640" y="5235480"/>
            <a:ext cx="19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art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35280" y="6205680"/>
            <a:ext cx="23050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46280" y="218772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62560" y="261144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233856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27280" y="245916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98920" y="276228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1" idx="3"/>
            <a:endCxn id="53" idx="1"/>
          </p:cNvCxnSpPr>
          <p:nvPr/>
        </p:nvCxnSpPr>
        <p:spPr>
          <a:xfrm>
            <a:off x="2367000" y="2247480"/>
            <a:ext cx="224640" cy="151560"/>
          </a:xfrm>
          <a:prstGeom prst="bentConnector3">
            <a:avLst>
              <a:gd name="adj1" fmla="val 495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3" idx="3"/>
            <a:endCxn id="54" idx="1"/>
          </p:cNvCxnSpPr>
          <p:nvPr/>
        </p:nvCxnSpPr>
        <p:spPr>
          <a:xfrm>
            <a:off x="3311280" y="2398680"/>
            <a:ext cx="216360" cy="123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4" idx="3"/>
            <a:endCxn id="52" idx="1"/>
          </p:cNvCxnSpPr>
          <p:nvPr/>
        </p:nvCxnSpPr>
        <p:spPr>
          <a:xfrm>
            <a:off x="4248000" y="2520720"/>
            <a:ext cx="215280" cy="15156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2" idx="3"/>
            <a:endCxn id="55" idx="1"/>
          </p:cNvCxnSpPr>
          <p:nvPr/>
        </p:nvCxnSpPr>
        <p:spPr>
          <a:xfrm>
            <a:off x="5182920" y="2671560"/>
            <a:ext cx="216360" cy="153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140328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3" idx="3"/>
          </p:cNvCxnSpPr>
          <p:nvPr/>
        </p:nvCxnSpPr>
        <p:spPr>
          <a:xfrm flipV="1">
            <a:off x="3311640" y="2187360"/>
            <a:ext cx="108720" cy="211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</p:cNvCxnSpPr>
          <p:nvPr/>
        </p:nvCxnSpPr>
        <p:spPr>
          <a:xfrm flipV="1">
            <a:off x="5183280" y="2155320"/>
            <a:ext cx="108720" cy="516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8064360" y="291456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63" idx="3"/>
          </p:cNvCxnSpPr>
          <p:nvPr/>
        </p:nvCxnSpPr>
        <p:spPr>
          <a:xfrm flipV="1">
            <a:off x="8785080" y="2155320"/>
            <a:ext cx="108720" cy="820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0" idx="2"/>
            <a:endCxn id="51" idx="1"/>
          </p:cNvCxnSpPr>
          <p:nvPr/>
        </p:nvCxnSpPr>
        <p:spPr>
          <a:xfrm flipH="1" rot="16200000">
            <a:off x="1531800" y="2134080"/>
            <a:ext cx="9288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4462560" y="3914640"/>
            <a:ext cx="1258920" cy="604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27280" y="3824280"/>
            <a:ext cx="720720" cy="604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38920" y="4006800"/>
            <a:ext cx="720720" cy="586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7" idx="3"/>
            <a:endCxn id="66" idx="1"/>
          </p:cNvCxnSpPr>
          <p:nvPr/>
        </p:nvCxnSpPr>
        <p:spPr>
          <a:xfrm>
            <a:off x="4248000" y="3854160"/>
            <a:ext cx="215280" cy="9108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6" idx="3"/>
            <a:endCxn id="68" idx="1"/>
          </p:cNvCxnSpPr>
          <p:nvPr/>
        </p:nvCxnSpPr>
        <p:spPr>
          <a:xfrm>
            <a:off x="5721480" y="3944880"/>
            <a:ext cx="218160" cy="92880"/>
          </a:xfrm>
          <a:prstGeom prst="bentConnector3">
            <a:avLst>
              <a:gd name="adj1" fmla="val 495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3311640" y="3338640"/>
            <a:ext cx="215640" cy="1825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22920" y="3338640"/>
            <a:ext cx="216000" cy="1825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66" idx="3"/>
            <a:endCxn id="72" idx="2"/>
          </p:cNvCxnSpPr>
          <p:nvPr/>
        </p:nvCxnSpPr>
        <p:spPr>
          <a:xfrm flipV="1">
            <a:off x="5721480" y="3520440"/>
            <a:ext cx="110160" cy="42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8064360" y="4186080"/>
            <a:ext cx="720720" cy="604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785080" y="3338640"/>
            <a:ext cx="216000" cy="1825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4" idx="3"/>
            <a:endCxn id="75" idx="2"/>
          </p:cNvCxnSpPr>
          <p:nvPr/>
        </p:nvCxnSpPr>
        <p:spPr>
          <a:xfrm flipV="1">
            <a:off x="8785080" y="3520800"/>
            <a:ext cx="108720" cy="695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4462560" y="5219640"/>
            <a:ext cx="12589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38920" y="5251320"/>
            <a:ext cx="720720" cy="1224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77" idx="3"/>
            <a:endCxn id="78" idx="1"/>
          </p:cNvCxnSpPr>
          <p:nvPr/>
        </p:nvCxnSpPr>
        <p:spPr>
          <a:xfrm>
            <a:off x="5721480" y="5280120"/>
            <a:ext cx="218160" cy="33840"/>
          </a:xfrm>
          <a:prstGeom prst="bentConnector3">
            <a:avLst>
              <a:gd name="adj1" fmla="val 495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5722920" y="443088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77" idx="3"/>
            <a:endCxn id="80" idx="2"/>
          </p:cNvCxnSpPr>
          <p:nvPr/>
        </p:nvCxnSpPr>
        <p:spPr>
          <a:xfrm flipV="1">
            <a:off x="5721480" y="4610880"/>
            <a:ext cx="110160" cy="669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8064360" y="527544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785080" y="443088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3"/>
            <a:endCxn id="83" idx="2"/>
          </p:cNvCxnSpPr>
          <p:nvPr/>
        </p:nvCxnSpPr>
        <p:spPr>
          <a:xfrm flipV="1">
            <a:off x="8785080" y="4610880"/>
            <a:ext cx="108720" cy="724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3527280" y="604368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5" idx="3"/>
          </p:cNvCxnSpPr>
          <p:nvPr/>
        </p:nvCxnSpPr>
        <p:spPr>
          <a:xfrm>
            <a:off x="4248000" y="6105600"/>
            <a:ext cx="215280" cy="9432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4067280" y="5156280"/>
            <a:ext cx="21564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3"/>
            <a:endCxn id="77" idx="1"/>
          </p:cNvCxnSpPr>
          <p:nvPr/>
        </p:nvCxnSpPr>
        <p:spPr>
          <a:xfrm>
            <a:off x="4282560" y="5218200"/>
            <a:ext cx="180360" cy="62640"/>
          </a:xfrm>
          <a:prstGeom prst="bentConnector3">
            <a:avLst>
              <a:gd name="adj1" fmla="val 494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142920" y="4338720"/>
            <a:ext cx="8858160" cy="0"/>
          </a:xfrm>
          <a:prstGeom prst="line">
            <a:avLst/>
          </a:prstGeom>
          <a:ln w="50760">
            <a:solidFill>
              <a:srgbClr val="8c949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2920" y="5445000"/>
            <a:ext cx="8858160" cy="0"/>
          </a:xfrm>
          <a:prstGeom prst="line">
            <a:avLst/>
          </a:prstGeom>
          <a:ln cap="rnd" w="19080">
            <a:solidFill>
              <a:srgbClr val="8c949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-725400" y="2411280"/>
            <a:ext cx="23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LT Master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71" idx="2"/>
            <a:endCxn id="67" idx="1"/>
          </p:cNvCxnSpPr>
          <p:nvPr/>
        </p:nvCxnSpPr>
        <p:spPr>
          <a:xfrm flipH="1" rot="16200000">
            <a:off x="3305880" y="3633840"/>
            <a:ext cx="334080" cy="108360"/>
          </a:xfrm>
          <a:prstGeom prst="bentConnector2">
            <a:avLst/>
          </a:prstGeom>
          <a:ln w="9360">
            <a:solidFill>
              <a:srgbClr val="8c9498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5" idx="3"/>
          </p:cNvCxnSpPr>
          <p:nvPr/>
        </p:nvCxnSpPr>
        <p:spPr>
          <a:xfrm flipV="1">
            <a:off x="4248000" y="4172760"/>
            <a:ext cx="153360" cy="193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8" idx="3"/>
          </p:cNvCxnSpPr>
          <p:nvPr/>
        </p:nvCxnSpPr>
        <p:spPr>
          <a:xfrm flipV="1">
            <a:off x="6659280" y="4250880"/>
            <a:ext cx="73800" cy="1062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/>
          <p:nvPr/>
        </p:nvCxnSpPr>
        <p:spPr>
          <a:xfrm flipV="1">
            <a:off x="5722560" y="4220640"/>
            <a:ext cx="37080" cy="1036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7" idx="3"/>
          </p:cNvCxnSpPr>
          <p:nvPr/>
        </p:nvCxnSpPr>
        <p:spPr>
          <a:xfrm flipV="1">
            <a:off x="4282920" y="4185360"/>
            <a:ext cx="38880" cy="103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/>
          <p:nvPr/>
        </p:nvCxnSpPr>
        <p:spPr>
          <a:xfrm flipV="1">
            <a:off x="3419640" y="3520800"/>
            <a:ext cx="73440" cy="1062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5183280" y="3338640"/>
            <a:ext cx="215640" cy="1825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35640" y="343044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83280" y="343044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00720" y="3338640"/>
            <a:ext cx="216000" cy="1825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15280" y="3338640"/>
            <a:ext cx="216000" cy="1825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567640" y="343044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78508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3280" y="1974960"/>
            <a:ext cx="21564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0984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/>
          <p:nvPr/>
        </p:nvCxnSpPr>
        <p:spPr>
          <a:xfrm>
            <a:off x="6119640" y="2823840"/>
            <a:ext cx="1945440" cy="151560"/>
          </a:xfrm>
          <a:prstGeom prst="bentConnector3">
            <a:avLst>
              <a:gd name="adj1" fmla="val 3905"/>
            </a:avLst>
          </a:prstGeom>
          <a:ln w="9360">
            <a:solidFill>
              <a:srgbClr val="8c9498"/>
            </a:solidFill>
            <a:prstDash val="dash"/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1258920" y="168120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PLT target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62160" y="3035160"/>
            <a:ext cx="3612960" cy="231120"/>
          </a:xfrm>
          <a:prstGeom prst="rect">
            <a:avLst/>
          </a:prstGeom>
          <a:solidFill>
            <a:srgbClr val="f8f8f8"/>
          </a:solidFill>
          <a:ln w="936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Bottom-up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11640" y="3338640"/>
            <a:ext cx="215640" cy="1825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110" idx="2"/>
          </p:cNvCxnSpPr>
          <p:nvPr/>
        </p:nvCxnSpPr>
        <p:spPr>
          <a:xfrm flipH="1" rot="16200000">
            <a:off x="3305880" y="3633840"/>
            <a:ext cx="334080" cy="10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1647720" y="3551400"/>
            <a:ext cx="720720" cy="6012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2360" y="3701880"/>
            <a:ext cx="720720" cy="604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2" idx="3"/>
            <a:endCxn id="113" idx="1"/>
          </p:cNvCxnSpPr>
          <p:nvPr/>
        </p:nvCxnSpPr>
        <p:spPr>
          <a:xfrm>
            <a:off x="2368440" y="3580920"/>
            <a:ext cx="224640" cy="151560"/>
          </a:xfrm>
          <a:prstGeom prst="bentConnector3">
            <a:avLst>
              <a:gd name="adj1" fmla="val 495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1405080" y="3338640"/>
            <a:ext cx="215640" cy="1825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3"/>
          </p:cNvCxnSpPr>
          <p:nvPr/>
        </p:nvCxnSpPr>
        <p:spPr>
          <a:xfrm flipV="1">
            <a:off x="3313080" y="3518640"/>
            <a:ext cx="108720" cy="213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5" idx="2"/>
            <a:endCxn id="112" idx="1"/>
          </p:cNvCxnSpPr>
          <p:nvPr/>
        </p:nvCxnSpPr>
        <p:spPr>
          <a:xfrm flipH="1" rot="16200000">
            <a:off x="1549080" y="3483360"/>
            <a:ext cx="608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1332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604360" y="127944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24000" y="112536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Control milest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116000" y="1125360"/>
            <a:ext cx="108000" cy="486000"/>
            <a:chOff x="1116000" y="1125360"/>
            <a:chExt cx="108000" cy="486000"/>
          </a:xfrm>
        </p:grpSpPr>
        <p:sp>
          <p:nvSpPr>
            <p:cNvPr id="123" name=""/>
            <p:cNvSpPr/>
            <p:nvPr/>
          </p:nvSpPr>
          <p:spPr>
            <a:xfrm>
              <a:off x="1116000" y="1125360"/>
              <a:ext cx="0" cy="4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16000" y="161136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116000" y="1671480"/>
            <a:ext cx="108000" cy="1273320"/>
            <a:chOff x="1116000" y="1671480"/>
            <a:chExt cx="108000" cy="1273320"/>
          </a:xfrm>
        </p:grpSpPr>
        <p:sp>
          <p:nvSpPr>
            <p:cNvPr id="126" name=""/>
            <p:cNvSpPr/>
            <p:nvPr/>
          </p:nvSpPr>
          <p:spPr>
            <a:xfrm>
              <a:off x="1116000" y="1671480"/>
              <a:ext cx="0" cy="12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16000" y="294480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116000" y="3036960"/>
            <a:ext cx="108000" cy="1272960"/>
            <a:chOff x="1116000" y="3036960"/>
            <a:chExt cx="108000" cy="1272960"/>
          </a:xfrm>
        </p:grpSpPr>
        <p:sp>
          <p:nvSpPr>
            <p:cNvPr id="129" name=""/>
            <p:cNvSpPr/>
            <p:nvPr/>
          </p:nvSpPr>
          <p:spPr>
            <a:xfrm>
              <a:off x="1116000" y="3036960"/>
              <a:ext cx="0" cy="1272960"/>
            </a:xfrm>
            <a:prstGeom prst="line">
              <a:avLst/>
            </a:prstGeom>
            <a:ln w="9360">
              <a:solidFill>
                <a:srgbClr val="8c94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16000" y="4309920"/>
              <a:ext cx="108000" cy="0"/>
            </a:xfrm>
            <a:prstGeom prst="line">
              <a:avLst/>
            </a:prstGeom>
            <a:ln w="9360">
              <a:solidFill>
                <a:srgbClr val="8c94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V="1">
            <a:off x="151128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41964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292720" y="1657080"/>
            <a:ext cx="0" cy="33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889308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4720" y="147708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783640" y="142956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311640" y="147708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401840" y="145980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46280" y="4660920"/>
            <a:ext cx="261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4818240"/>
            <a:ext cx="325440" cy="12348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64000" y="5054760"/>
            <a:ext cx="28728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447660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11640" y="447660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42" idx="2"/>
            <a:endCxn id="139" idx="1"/>
          </p:cNvCxnSpPr>
          <p:nvPr/>
        </p:nvCxnSpPr>
        <p:spPr>
          <a:xfrm flipH="1" rot="16200000">
            <a:off x="1546920" y="4624200"/>
            <a:ext cx="626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1646280" y="5737320"/>
            <a:ext cx="18900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5" idx="3"/>
          </p:cNvCxnSpPr>
          <p:nvPr/>
        </p:nvCxnSpPr>
        <p:spPr>
          <a:xfrm>
            <a:off x="1834920" y="5798880"/>
            <a:ext cx="224280" cy="154440"/>
          </a:xfrm>
          <a:prstGeom prst="bentConnector3">
            <a:avLst>
              <a:gd name="adj1" fmla="val 4951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403280" y="555300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11640" y="555300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50" idx="3"/>
            <a:endCxn id="148" idx="2"/>
          </p:cNvCxnSpPr>
          <p:nvPr/>
        </p:nvCxnSpPr>
        <p:spPr>
          <a:xfrm flipV="1">
            <a:off x="3347640" y="5737320"/>
            <a:ext cx="72360" cy="29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7" idx="2"/>
            <a:endCxn id="145" idx="1"/>
          </p:cNvCxnSpPr>
          <p:nvPr/>
        </p:nvCxnSpPr>
        <p:spPr>
          <a:xfrm flipH="1" rot="16200000">
            <a:off x="1546920" y="5700600"/>
            <a:ext cx="626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1" idx="3"/>
            <a:endCxn id="87" idx="1"/>
          </p:cNvCxnSpPr>
          <p:nvPr/>
        </p:nvCxnSpPr>
        <p:spPr>
          <a:xfrm>
            <a:off x="3851280" y="5116680"/>
            <a:ext cx="216720" cy="102240"/>
          </a:xfrm>
          <a:prstGeom prst="bentConnector3">
            <a:avLst>
              <a:gd name="adj1" fmla="val 492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/>
          <p:nvPr/>
        </p:nvCxnSpPr>
        <p:spPr>
          <a:xfrm flipV="1">
            <a:off x="2376360" y="3788640"/>
            <a:ext cx="153360" cy="2159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/>
          <p:nvPr/>
        </p:nvCxnSpPr>
        <p:spPr>
          <a:xfrm flipV="1">
            <a:off x="3384360" y="3519000"/>
            <a:ext cx="116280" cy="2052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3132000" y="4962600"/>
            <a:ext cx="21600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40" idx="3"/>
            <a:endCxn id="155" idx="1"/>
          </p:cNvCxnSpPr>
          <p:nvPr/>
        </p:nvCxnSpPr>
        <p:spPr>
          <a:xfrm>
            <a:off x="2916000" y="4879800"/>
            <a:ext cx="216360" cy="145440"/>
          </a:xfrm>
          <a:prstGeom prst="bentConnector3">
            <a:avLst>
              <a:gd name="adj1" fmla="val 491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5" idx="3"/>
          </p:cNvCxnSpPr>
          <p:nvPr/>
        </p:nvCxnSpPr>
        <p:spPr>
          <a:xfrm flipV="1">
            <a:off x="3347640" y="4663440"/>
            <a:ext cx="73800" cy="36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2124000" y="4818240"/>
            <a:ext cx="144360" cy="12348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39" idx="3"/>
            <a:endCxn id="158" idx="1"/>
          </p:cNvCxnSpPr>
          <p:nvPr/>
        </p:nvCxnSpPr>
        <p:spPr>
          <a:xfrm>
            <a:off x="1908000" y="4722840"/>
            <a:ext cx="216720" cy="157680"/>
          </a:xfrm>
          <a:prstGeom prst="bentConnector3">
            <a:avLst>
              <a:gd name="adj1" fmla="val 492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3"/>
            <a:endCxn id="140" idx="1"/>
          </p:cNvCxnSpPr>
          <p:nvPr/>
        </p:nvCxnSpPr>
        <p:spPr>
          <a:xfrm>
            <a:off x="2268360" y="4879440"/>
            <a:ext cx="3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2590920" y="5897520"/>
            <a:ext cx="18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87640" y="5970600"/>
            <a:ext cx="36036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61" idx="3"/>
            <a:endCxn id="150" idx="1"/>
          </p:cNvCxnSpPr>
          <p:nvPr/>
        </p:nvCxnSpPr>
        <p:spPr>
          <a:xfrm>
            <a:off x="2771640" y="5959080"/>
            <a:ext cx="216720" cy="7380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2058840" y="5897520"/>
            <a:ext cx="3175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63" idx="3"/>
            <a:endCxn id="161" idx="1"/>
          </p:cNvCxnSpPr>
          <p:nvPr/>
        </p:nvCxnSpPr>
        <p:spPr>
          <a:xfrm>
            <a:off x="2376360" y="5959080"/>
            <a:ext cx="21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V="1">
            <a:off x="2268360" y="3789360"/>
            <a:ext cx="253440" cy="1078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0" idx="3"/>
            <a:endCxn id="85" idx="1"/>
          </p:cNvCxnSpPr>
          <p:nvPr/>
        </p:nvCxnSpPr>
        <p:spPr>
          <a:xfrm>
            <a:off x="3348000" y="6032160"/>
            <a:ext cx="180000" cy="73800"/>
          </a:xfrm>
          <a:prstGeom prst="bentConnector3">
            <a:avLst>
              <a:gd name="adj1" fmla="val 49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endCxn id="141" idx="1"/>
          </p:cNvCxnSpPr>
          <p:nvPr/>
        </p:nvCxnSpPr>
        <p:spPr>
          <a:xfrm>
            <a:off x="3419280" y="5024520"/>
            <a:ext cx="144720" cy="92880"/>
          </a:xfrm>
          <a:prstGeom prst="bentConnector3">
            <a:avLst>
              <a:gd name="adj1" fmla="val 339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/>
          <p:nvPr/>
        </p:nvCxnSpPr>
        <p:spPr>
          <a:xfrm>
            <a:off x="6661080" y="5301720"/>
            <a:ext cx="215280" cy="9468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6840360" y="6114960"/>
            <a:ext cx="72108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40360" y="5962680"/>
            <a:ext cx="72108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84720" y="6124680"/>
            <a:ext cx="104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51640" y="5997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evel of eff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51640" y="59022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maining 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40360" y="6321600"/>
            <a:ext cx="721080" cy="123480"/>
          </a:xfrm>
          <a:prstGeom prst="flowChart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51640" y="6261120"/>
            <a:ext cx="133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mple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04000" y="5505480"/>
            <a:ext cx="16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51640" y="6105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40360" y="6243480"/>
            <a:ext cx="72108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840360" y="5684760"/>
            <a:ext cx="108000" cy="108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40360" y="5829480"/>
            <a:ext cx="108000" cy="1076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51640" y="5781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51640" y="564984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rol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a0e66"/>
                </a:solidFill>
                <a:latin typeface="Minion"/>
              </a:rPr>
              <a:t>PLT Master Plan Description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3640" y="1420560"/>
            <a:ext cx="876276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 u="sng">
                <a:solidFill>
                  <a:srgbClr val="3a0e66"/>
                </a:solidFill>
                <a:uFillTx/>
                <a:latin typeface="Minion"/>
              </a:rPr>
              <a:t>The PLT-Master Plan consists of: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Control Milestones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A WBS showing the M and S milestones. Those milestones are the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control milestones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PLT target plan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A WBS section for PLT target planning to be used by the PLT as a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quick way to get a overview of the project delivery timeline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Bottom-up plan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A WBS section showing a high level overview (milestone and main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activities) connected/linked to the detailed part project plans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 u="sng">
                <a:solidFill>
                  <a:srgbClr val="3a0e66"/>
                </a:solidFill>
                <a:uFillTx/>
                <a:latin typeface="Minion"/>
              </a:rPr>
              <a:t>The valid project plan is: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Before M0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The WBS “PLT target plan” is the main project plan for the period M0 – M3/S4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From M0 to M1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The WBS “Bottom-up plan” is the main project plan for the period M0 to M1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The WBS “PLT target plan” decides the duration for the period M1 – M3/S4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After M1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The WBS “bottom-up plan” is the main project plan for the period M1 – M3/S4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 u="sng">
                <a:solidFill>
                  <a:srgbClr val="3a0e66"/>
                </a:solidFill>
                <a:uFillTx/>
                <a:latin typeface="Minion"/>
              </a:rPr>
              <a:t>Archive: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 From M0 to finish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Copy of the “PLT target plan’s” - the PLT’s reference and scenario planning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projects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5" name=""/>
          <p:cNvSpPr/>
          <p:nvPr/>
        </p:nvSpPr>
        <p:spPr>
          <a:xfrm>
            <a:off x="195120" y="981000"/>
            <a:ext cx="8948880" cy="8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he PLT Master Plan is always the overall project plan through the project lifecycle. At the first step the plan is based on the PLT target plan, later the bottom-up plan linked to the part project plans are us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12920" y="279000"/>
            <a:ext cx="83707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a0e66"/>
                </a:solidFill>
                <a:latin typeface="Minion"/>
              </a:rPr>
              <a:t>Before M0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-515520" y="5235480"/>
            <a:ext cx="19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8c9498"/>
                </a:solidFill>
                <a:latin typeface="Arial"/>
              </a:rPr>
              <a:t>Part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35280" y="6205680"/>
            <a:ext cx="23050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46280" y="218772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62560" y="261144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33856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27280" y="2459160"/>
            <a:ext cx="720720" cy="12204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8920" y="2762280"/>
            <a:ext cx="720720" cy="12204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89" idx="3"/>
            <a:endCxn id="191" idx="1"/>
          </p:cNvCxnSpPr>
          <p:nvPr/>
        </p:nvCxnSpPr>
        <p:spPr>
          <a:xfrm>
            <a:off x="2367000" y="2247480"/>
            <a:ext cx="224640" cy="151560"/>
          </a:xfrm>
          <a:prstGeom prst="bentConnector3">
            <a:avLst>
              <a:gd name="adj1" fmla="val 495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91" idx="3"/>
            <a:endCxn id="192" idx="1"/>
          </p:cNvCxnSpPr>
          <p:nvPr/>
        </p:nvCxnSpPr>
        <p:spPr>
          <a:xfrm>
            <a:off x="3311280" y="2398680"/>
            <a:ext cx="216360" cy="123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92" idx="3"/>
            <a:endCxn id="190" idx="1"/>
          </p:cNvCxnSpPr>
          <p:nvPr/>
        </p:nvCxnSpPr>
        <p:spPr>
          <a:xfrm>
            <a:off x="4248000" y="2520720"/>
            <a:ext cx="215280" cy="15156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0" idx="3"/>
            <a:endCxn id="193" idx="1"/>
          </p:cNvCxnSpPr>
          <p:nvPr/>
        </p:nvCxnSpPr>
        <p:spPr>
          <a:xfrm>
            <a:off x="5182920" y="2671560"/>
            <a:ext cx="216360" cy="153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140328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1" idx="3"/>
          </p:cNvCxnSpPr>
          <p:nvPr/>
        </p:nvCxnSpPr>
        <p:spPr>
          <a:xfrm flipV="1">
            <a:off x="3311640" y="2187360"/>
            <a:ext cx="108720" cy="211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0" idx="3"/>
          </p:cNvCxnSpPr>
          <p:nvPr/>
        </p:nvCxnSpPr>
        <p:spPr>
          <a:xfrm flipV="1">
            <a:off x="5183280" y="2155320"/>
            <a:ext cx="108720" cy="516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8064360" y="291456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1" idx="3"/>
          </p:cNvCxnSpPr>
          <p:nvPr/>
        </p:nvCxnSpPr>
        <p:spPr>
          <a:xfrm flipV="1">
            <a:off x="8785080" y="2155320"/>
            <a:ext cx="108720" cy="820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8" idx="2"/>
            <a:endCxn id="189" idx="1"/>
          </p:cNvCxnSpPr>
          <p:nvPr/>
        </p:nvCxnSpPr>
        <p:spPr>
          <a:xfrm flipH="1" rot="16200000">
            <a:off x="1531800" y="2134080"/>
            <a:ext cx="9288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"/>
          <p:cNvSpPr/>
          <p:nvPr/>
        </p:nvSpPr>
        <p:spPr>
          <a:xfrm>
            <a:off x="142920" y="4338720"/>
            <a:ext cx="885816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2920" y="5430960"/>
            <a:ext cx="88581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-725400" y="2411280"/>
            <a:ext cx="23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LT Master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78508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3280" y="1974960"/>
            <a:ext cx="21564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0984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"/>
          <p:cNvCxnSpPr/>
          <p:nvPr/>
        </p:nvCxnSpPr>
        <p:spPr>
          <a:xfrm>
            <a:off x="6119640" y="2823840"/>
            <a:ext cx="1945440" cy="151560"/>
          </a:xfrm>
          <a:prstGeom prst="bentConnector3">
            <a:avLst>
              <a:gd name="adj1" fmla="val 3905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1258920" y="168120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PLT target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64360" y="560880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08720" y="5662440"/>
            <a:ext cx="10432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75640" y="557208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ask depend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28000" y="5432400"/>
            <a:ext cx="16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32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604360" y="127944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24000" y="112536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Control milest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116000" y="1125360"/>
            <a:ext cx="108000" cy="486000"/>
            <a:chOff x="1116000" y="1125360"/>
            <a:chExt cx="108000" cy="486000"/>
          </a:xfrm>
        </p:grpSpPr>
        <p:sp>
          <p:nvSpPr>
            <p:cNvPr id="221" name=""/>
            <p:cNvSpPr/>
            <p:nvPr/>
          </p:nvSpPr>
          <p:spPr>
            <a:xfrm>
              <a:off x="1116000" y="1125360"/>
              <a:ext cx="0" cy="4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16000" y="161136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116000" y="1671480"/>
            <a:ext cx="108000" cy="1273320"/>
            <a:chOff x="1116000" y="1671480"/>
            <a:chExt cx="108000" cy="1273320"/>
          </a:xfrm>
        </p:grpSpPr>
        <p:sp>
          <p:nvSpPr>
            <p:cNvPr id="224" name=""/>
            <p:cNvSpPr/>
            <p:nvPr/>
          </p:nvSpPr>
          <p:spPr>
            <a:xfrm>
              <a:off x="1116000" y="1671480"/>
              <a:ext cx="0" cy="12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16000" y="294480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V="1">
            <a:off x="151128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41964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292720" y="1612800"/>
            <a:ext cx="0" cy="33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889308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184720" y="142812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8783640" y="142956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311640" y="145980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1401840" y="145980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315280" y="579276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75640" y="576432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ilestone floa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75640" y="593712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ilestone fix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315280" y="600804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”</a:t>
            </a: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Before M0” descrip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Before M0 the PLT is working with the “</a:t>
            </a:r>
            <a:r>
              <a:rPr b="1" lang="en-GB" sz="2400" spc="-1" strike="noStrike">
                <a:solidFill>
                  <a:srgbClr val="3a0e66"/>
                </a:solidFill>
                <a:latin typeface="Minion"/>
              </a:rPr>
              <a:t>PLT target plan”</a:t>
            </a: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 which includes the milestones form M0 to M3/S4 and some pre-defined major activities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The PLT can via re-estimation of the pre defined duration or via modification a) of the pre-defined activities calculate when the product can be delivered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The “PLT target plan” is the plan made by the PLT to achieve management approval to continue further project planning before M0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The defined “PLT target plan” is a target for the team, when the PPL’s starts the detailed planning until M0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</a:rPr>
              <a:t>   </a:t>
            </a:r>
            <a:r>
              <a:rPr b="0" lang="en-GB" sz="1200" spc="-1" strike="noStrike">
                <a:solidFill>
                  <a:srgbClr val="3a0e66"/>
                </a:solidFill>
                <a:latin typeface="Minion"/>
              </a:rPr>
              <a:t>a)  This should be avoided but if this is done the Primavera Planning Coordinator need to modify the “</a:t>
            </a:r>
            <a:r>
              <a:rPr b="1" lang="en-GB" sz="1200" spc="-1" strike="noStrike">
                <a:solidFill>
                  <a:srgbClr val="3a0e66"/>
                </a:solidFill>
                <a:latin typeface="Minion"/>
              </a:rPr>
              <a:t>Bottom-up plan”</a:t>
            </a:r>
            <a:r>
              <a:rPr b="0" lang="en-GB" sz="1200" spc="-1" strike="noStrike">
                <a:solidFill>
                  <a:srgbClr val="3a0e66"/>
                </a:solidFill>
                <a:latin typeface="Minion"/>
              </a:rPr>
              <a:t> to be equivalent with the PLT target plan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80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0" name=""/>
          <p:cNvCxnSpPr>
            <a:stCxn id="241" idx="3"/>
            <a:endCxn id="242" idx="1"/>
          </p:cNvCxnSpPr>
          <p:nvPr/>
        </p:nvCxnSpPr>
        <p:spPr>
          <a:xfrm>
            <a:off x="3347640" y="5024520"/>
            <a:ext cx="144720" cy="2160"/>
          </a:xfrm>
          <a:prstGeom prst="straightConnector1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11120" y="404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a0e66"/>
                </a:solidFill>
                <a:latin typeface="Minion"/>
              </a:rPr>
              <a:t>From M0 to M1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529920" y="52956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art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55640" y="220032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62560" y="263052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90920" y="235440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27280" y="247824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98920" y="278460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"/>
          <p:cNvCxnSpPr>
            <a:stCxn id="245" idx="3"/>
            <a:endCxn id="247" idx="1"/>
          </p:cNvCxnSpPr>
          <p:nvPr/>
        </p:nvCxnSpPr>
        <p:spPr>
          <a:xfrm>
            <a:off x="2376360" y="2263680"/>
            <a:ext cx="215280" cy="153360"/>
          </a:xfrm>
          <a:prstGeom prst="bentConnector3">
            <a:avLst>
              <a:gd name="adj1" fmla="val 49581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47" idx="3"/>
            <a:endCxn id="248" idx="1"/>
          </p:cNvCxnSpPr>
          <p:nvPr/>
        </p:nvCxnSpPr>
        <p:spPr>
          <a:xfrm>
            <a:off x="3311280" y="2416320"/>
            <a:ext cx="216360" cy="124560"/>
          </a:xfrm>
          <a:prstGeom prst="bentConnector3">
            <a:avLst>
              <a:gd name="adj1" fmla="val 5000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8" idx="3"/>
            <a:endCxn id="246" idx="1"/>
          </p:cNvCxnSpPr>
          <p:nvPr/>
        </p:nvCxnSpPr>
        <p:spPr>
          <a:xfrm>
            <a:off x="4248000" y="2539800"/>
            <a:ext cx="215280" cy="15300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46" idx="3"/>
            <a:endCxn id="249" idx="1"/>
          </p:cNvCxnSpPr>
          <p:nvPr/>
        </p:nvCxnSpPr>
        <p:spPr>
          <a:xfrm>
            <a:off x="5182920" y="2692440"/>
            <a:ext cx="216360" cy="154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1403280" y="1984320"/>
            <a:ext cx="216000" cy="1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47" idx="3"/>
          </p:cNvCxnSpPr>
          <p:nvPr/>
        </p:nvCxnSpPr>
        <p:spPr>
          <a:xfrm flipV="1">
            <a:off x="3311640" y="2199960"/>
            <a:ext cx="108720" cy="21672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6" idx="3"/>
          </p:cNvCxnSpPr>
          <p:nvPr/>
        </p:nvCxnSpPr>
        <p:spPr>
          <a:xfrm flipV="1">
            <a:off x="5183280" y="2169360"/>
            <a:ext cx="108720" cy="523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8064360" y="293832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78508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7" idx="3"/>
            <a:endCxn id="258" idx="2"/>
          </p:cNvCxnSpPr>
          <p:nvPr/>
        </p:nvCxnSpPr>
        <p:spPr>
          <a:xfrm flipV="1">
            <a:off x="8785080" y="2169720"/>
            <a:ext cx="108720" cy="830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" name=""/>
          <p:cNvSpPr/>
          <p:nvPr/>
        </p:nvSpPr>
        <p:spPr>
          <a:xfrm>
            <a:off x="1332000" y="3216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40000" y="18320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604360" y="126828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54" idx="2"/>
            <a:endCxn id="245" idx="1"/>
          </p:cNvCxnSpPr>
          <p:nvPr/>
        </p:nvCxnSpPr>
        <p:spPr>
          <a:xfrm flipH="1" rot="16200000">
            <a:off x="1535400" y="2144520"/>
            <a:ext cx="94320" cy="14472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4462560" y="3954600"/>
            <a:ext cx="1258920" cy="6012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27280" y="3862440"/>
            <a:ext cx="720720" cy="6012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943600" y="4046400"/>
            <a:ext cx="720720" cy="6048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"/>
          <p:cNvCxnSpPr>
            <a:stCxn id="265" idx="3"/>
            <a:endCxn id="264" idx="1"/>
          </p:cNvCxnSpPr>
          <p:nvPr/>
        </p:nvCxnSpPr>
        <p:spPr>
          <a:xfrm>
            <a:off x="4248000" y="3892320"/>
            <a:ext cx="215280" cy="92520"/>
          </a:xfrm>
          <a:prstGeom prst="bentConnector3">
            <a:avLst>
              <a:gd name="adj1" fmla="val 49581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64" idx="3"/>
            <a:endCxn id="266" idx="1"/>
          </p:cNvCxnSpPr>
          <p:nvPr/>
        </p:nvCxnSpPr>
        <p:spPr>
          <a:xfrm>
            <a:off x="5721120" y="3984120"/>
            <a:ext cx="222840" cy="94680"/>
          </a:xfrm>
          <a:prstGeom prst="bentConnector3">
            <a:avLst>
              <a:gd name="adj1" fmla="val 4919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69" name=""/>
          <p:cNvCxnSpPr/>
          <p:nvPr/>
        </p:nvCxnSpPr>
        <p:spPr>
          <a:xfrm flipV="1">
            <a:off x="5727600" y="3553560"/>
            <a:ext cx="108720" cy="43092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70" name=""/>
          <p:cNvSpPr/>
          <p:nvPr/>
        </p:nvSpPr>
        <p:spPr>
          <a:xfrm>
            <a:off x="8064360" y="4229280"/>
            <a:ext cx="720720" cy="6156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270" idx="3"/>
          </p:cNvCxnSpPr>
          <p:nvPr/>
        </p:nvCxnSpPr>
        <p:spPr>
          <a:xfrm flipV="1">
            <a:off x="8785080" y="3553560"/>
            <a:ext cx="108720" cy="70740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1646280" y="4660920"/>
            <a:ext cx="261720" cy="123840"/>
          </a:xfrm>
          <a:prstGeom prst="flowChart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62560" y="5126040"/>
            <a:ext cx="12589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90920" y="4818240"/>
            <a:ext cx="325440" cy="12348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92360" y="4964040"/>
            <a:ext cx="28764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521496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73" idx="3"/>
            <a:endCxn id="275" idx="1"/>
          </p:cNvCxnSpPr>
          <p:nvPr/>
        </p:nvCxnSpPr>
        <p:spPr>
          <a:xfrm>
            <a:off x="5721120" y="5187600"/>
            <a:ext cx="222840" cy="91080"/>
          </a:xfrm>
          <a:prstGeom prst="bentConnector3">
            <a:avLst>
              <a:gd name="adj1" fmla="val 4919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>
            <a:off x="1403280" y="447660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11640" y="447660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727600" y="4476600"/>
            <a:ext cx="216000" cy="1843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73" idx="3"/>
            <a:endCxn id="279" idx="2"/>
          </p:cNvCxnSpPr>
          <p:nvPr/>
        </p:nvCxnSpPr>
        <p:spPr>
          <a:xfrm flipV="1">
            <a:off x="5721120" y="4660560"/>
            <a:ext cx="114840" cy="52776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8064360" y="5334120"/>
            <a:ext cx="720720" cy="1220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785080" y="4476600"/>
            <a:ext cx="216000" cy="1843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3" name=""/>
          <p:cNvCxnSpPr>
            <a:stCxn id="281" idx="3"/>
            <a:endCxn id="282" idx="2"/>
          </p:cNvCxnSpPr>
          <p:nvPr/>
        </p:nvCxnSpPr>
        <p:spPr>
          <a:xfrm flipV="1">
            <a:off x="8785080" y="4660560"/>
            <a:ext cx="108720" cy="73584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77" idx="2"/>
            <a:endCxn id="272" idx="1"/>
          </p:cNvCxnSpPr>
          <p:nvPr/>
        </p:nvCxnSpPr>
        <p:spPr>
          <a:xfrm flipH="1" rot="16200000">
            <a:off x="1546920" y="4624200"/>
            <a:ext cx="626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1646280" y="5737320"/>
            <a:ext cx="189000" cy="123840"/>
          </a:xfrm>
          <a:prstGeom prst="flowChart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27280" y="604188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85" idx="3"/>
          </p:cNvCxnSpPr>
          <p:nvPr/>
        </p:nvCxnSpPr>
        <p:spPr>
          <a:xfrm>
            <a:off x="1834920" y="5798880"/>
            <a:ext cx="224280" cy="154440"/>
          </a:xfrm>
          <a:prstGeom prst="bentConnector3">
            <a:avLst>
              <a:gd name="adj1" fmla="val 4951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89" idx="3"/>
            <a:endCxn id="286" idx="1"/>
          </p:cNvCxnSpPr>
          <p:nvPr/>
        </p:nvCxnSpPr>
        <p:spPr>
          <a:xfrm>
            <a:off x="3348000" y="6103440"/>
            <a:ext cx="180000" cy="108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90" name=""/>
          <p:cNvCxnSpPr>
            <a:stCxn id="286" idx="3"/>
          </p:cNvCxnSpPr>
          <p:nvPr/>
        </p:nvCxnSpPr>
        <p:spPr>
          <a:xfrm>
            <a:off x="4248000" y="6103440"/>
            <a:ext cx="215280" cy="94680"/>
          </a:xfrm>
          <a:prstGeom prst="bentConnector3">
            <a:avLst>
              <a:gd name="adj1" fmla="val 49581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1403280" y="555300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11640" y="555300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9" idx="3"/>
          </p:cNvCxnSpPr>
          <p:nvPr/>
        </p:nvCxnSpPr>
        <p:spPr>
          <a:xfrm flipV="1">
            <a:off x="3347640" y="5708160"/>
            <a:ext cx="72360" cy="39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91" idx="2"/>
            <a:endCxn id="285" idx="1"/>
          </p:cNvCxnSpPr>
          <p:nvPr/>
        </p:nvCxnSpPr>
        <p:spPr>
          <a:xfrm flipH="1" rot="16200000">
            <a:off x="1546920" y="5700600"/>
            <a:ext cx="626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5" name=""/>
          <p:cNvSpPr/>
          <p:nvPr/>
        </p:nvSpPr>
        <p:spPr>
          <a:xfrm>
            <a:off x="3995640" y="5062680"/>
            <a:ext cx="287280" cy="1220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42" idx="3"/>
            <a:endCxn id="295" idx="1"/>
          </p:cNvCxnSpPr>
          <p:nvPr/>
        </p:nvCxnSpPr>
        <p:spPr>
          <a:xfrm>
            <a:off x="3779640" y="5025960"/>
            <a:ext cx="216360" cy="99360"/>
          </a:xfrm>
          <a:prstGeom prst="bentConnector3">
            <a:avLst>
              <a:gd name="adj1" fmla="val 49166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97" name=""/>
          <p:cNvCxnSpPr>
            <a:stCxn id="295" idx="3"/>
            <a:endCxn id="273" idx="1"/>
          </p:cNvCxnSpPr>
          <p:nvPr/>
        </p:nvCxnSpPr>
        <p:spPr>
          <a:xfrm>
            <a:off x="4282560" y="5124600"/>
            <a:ext cx="180360" cy="64080"/>
          </a:xfrm>
          <a:prstGeom prst="bentConnector3">
            <a:avLst>
              <a:gd name="adj1" fmla="val 4940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98" name=""/>
          <p:cNvSpPr/>
          <p:nvPr/>
        </p:nvSpPr>
        <p:spPr>
          <a:xfrm>
            <a:off x="142920" y="4384800"/>
            <a:ext cx="885816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2920" y="5491080"/>
            <a:ext cx="88581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58920" y="168768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PLT target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62160" y="3062160"/>
            <a:ext cx="36129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Bottom-up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16200000">
            <a:off x="-742680" y="24300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LT Master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endCxn id="265" idx="1"/>
          </p:cNvCxnSpPr>
          <p:nvPr/>
        </p:nvCxnSpPr>
        <p:spPr>
          <a:xfrm flipH="1" rot="16200000">
            <a:off x="3303360" y="3669480"/>
            <a:ext cx="339120" cy="10836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4" name=""/>
          <p:cNvCxnSpPr/>
          <p:nvPr/>
        </p:nvCxnSpPr>
        <p:spPr>
          <a:xfrm flipV="1">
            <a:off x="4248000" y="4138200"/>
            <a:ext cx="153360" cy="195984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75" idx="3"/>
          </p:cNvCxnSpPr>
          <p:nvPr/>
        </p:nvCxnSpPr>
        <p:spPr>
          <a:xfrm flipV="1">
            <a:off x="6663960" y="4196520"/>
            <a:ext cx="73800" cy="108036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6" name=""/>
          <p:cNvCxnSpPr/>
          <p:nvPr/>
        </p:nvCxnSpPr>
        <p:spPr>
          <a:xfrm flipV="1">
            <a:off x="5837400" y="3583800"/>
            <a:ext cx="73440" cy="108036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7" name=""/>
          <p:cNvCxnSpPr/>
          <p:nvPr/>
        </p:nvCxnSpPr>
        <p:spPr>
          <a:xfrm flipV="1">
            <a:off x="5727600" y="4137840"/>
            <a:ext cx="37440" cy="105012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8" name=""/>
          <p:cNvCxnSpPr>
            <a:stCxn id="295" idx="3"/>
          </p:cNvCxnSpPr>
          <p:nvPr/>
        </p:nvCxnSpPr>
        <p:spPr>
          <a:xfrm flipV="1">
            <a:off x="4282920" y="4078080"/>
            <a:ext cx="38880" cy="104688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9" name=""/>
          <p:cNvCxnSpPr/>
          <p:nvPr/>
        </p:nvCxnSpPr>
        <p:spPr>
          <a:xfrm flipV="1">
            <a:off x="3419640" y="3575160"/>
            <a:ext cx="73440" cy="1078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"/>
          <p:cNvCxnSpPr/>
          <p:nvPr/>
        </p:nvCxnSpPr>
        <p:spPr>
          <a:xfrm flipV="1">
            <a:off x="8891280" y="3583800"/>
            <a:ext cx="73800" cy="108036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311" name=""/>
          <p:cNvSpPr/>
          <p:nvPr/>
        </p:nvSpPr>
        <p:spPr>
          <a:xfrm>
            <a:off x="5183280" y="1984320"/>
            <a:ext cx="21564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4328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96000" y="2077920"/>
            <a:ext cx="1807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43640" y="2077920"/>
            <a:ext cx="1807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6108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30984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7164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22560" y="207792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70200" y="207792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8764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20728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459640" y="207792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3" name=""/>
          <p:cNvCxnSpPr>
            <a:stCxn id="249" idx="3"/>
            <a:endCxn id="257" idx="1"/>
          </p:cNvCxnSpPr>
          <p:nvPr/>
        </p:nvCxnSpPr>
        <p:spPr>
          <a:xfrm>
            <a:off x="6119640" y="2846160"/>
            <a:ext cx="1945440" cy="154440"/>
          </a:xfrm>
          <a:prstGeom prst="bentConnector3">
            <a:avLst>
              <a:gd name="adj1" fmla="val 4995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324" name=""/>
          <p:cNvSpPr/>
          <p:nvPr/>
        </p:nvSpPr>
        <p:spPr>
          <a:xfrm>
            <a:off x="1655640" y="3584520"/>
            <a:ext cx="720720" cy="61920"/>
          </a:xfrm>
          <a:prstGeom prst="flowChartProcess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592360" y="3738600"/>
            <a:ext cx="720720" cy="6012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"/>
          <p:cNvCxnSpPr>
            <a:stCxn id="324" idx="3"/>
            <a:endCxn id="325" idx="1"/>
          </p:cNvCxnSpPr>
          <p:nvPr/>
        </p:nvCxnSpPr>
        <p:spPr>
          <a:xfrm>
            <a:off x="2376360" y="3616200"/>
            <a:ext cx="216720" cy="15336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>
            <a:off x="1405080" y="3370320"/>
            <a:ext cx="21564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5" idx="3"/>
          </p:cNvCxnSpPr>
          <p:nvPr/>
        </p:nvCxnSpPr>
        <p:spPr>
          <a:xfrm flipV="1">
            <a:off x="3313080" y="3552480"/>
            <a:ext cx="108720" cy="216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327" idx="2"/>
            <a:endCxn id="324" idx="1"/>
          </p:cNvCxnSpPr>
          <p:nvPr/>
        </p:nvCxnSpPr>
        <p:spPr>
          <a:xfrm flipH="1" rot="16200000">
            <a:off x="1552320" y="3513600"/>
            <a:ext cx="62640" cy="143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0" name=""/>
          <p:cNvCxnSpPr/>
          <p:nvPr/>
        </p:nvCxnSpPr>
        <p:spPr>
          <a:xfrm flipV="1">
            <a:off x="2268360" y="3789360"/>
            <a:ext cx="253440" cy="1078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"/>
          <p:cNvCxnSpPr/>
          <p:nvPr/>
        </p:nvCxnSpPr>
        <p:spPr>
          <a:xfrm flipV="1">
            <a:off x="2376360" y="3788640"/>
            <a:ext cx="153360" cy="2159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2" name=""/>
          <p:cNvCxnSpPr/>
          <p:nvPr/>
        </p:nvCxnSpPr>
        <p:spPr>
          <a:xfrm flipV="1">
            <a:off x="3384360" y="3573000"/>
            <a:ext cx="116280" cy="2052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3" name=""/>
          <p:cNvSpPr/>
          <p:nvPr/>
        </p:nvSpPr>
        <p:spPr>
          <a:xfrm>
            <a:off x="3311640" y="3370320"/>
            <a:ext cx="215640" cy="183960"/>
          </a:xfrm>
          <a:prstGeom prst="diamond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2760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78508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78508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2760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8796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40320" y="346248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87960" y="346248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30540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09840" y="3370320"/>
            <a:ext cx="21600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771640" y="3370320"/>
            <a:ext cx="21600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22560" y="346248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670200" y="346248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87640" y="3370320"/>
            <a:ext cx="21600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20728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459640" y="346248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32000" y="18320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f8f8f8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35280" y="6275520"/>
            <a:ext cx="23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32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40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24000" y="112392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Control milest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116000" y="1123920"/>
            <a:ext cx="108000" cy="492120"/>
            <a:chOff x="1116000" y="1123920"/>
            <a:chExt cx="108000" cy="492120"/>
          </a:xfrm>
        </p:grpSpPr>
        <p:sp>
          <p:nvSpPr>
            <p:cNvPr id="355" name=""/>
            <p:cNvSpPr/>
            <p:nvPr/>
          </p:nvSpPr>
          <p:spPr>
            <a:xfrm>
              <a:off x="1116000" y="112392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116000" y="161604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1116000" y="1677960"/>
            <a:ext cx="108000" cy="1292400"/>
            <a:chOff x="1116000" y="1677960"/>
            <a:chExt cx="108000" cy="1292400"/>
          </a:xfrm>
        </p:grpSpPr>
        <p:sp>
          <p:nvSpPr>
            <p:cNvPr id="358" name=""/>
            <p:cNvSpPr/>
            <p:nvPr/>
          </p:nvSpPr>
          <p:spPr>
            <a:xfrm>
              <a:off x="1116000" y="1677960"/>
              <a:ext cx="0" cy="12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116000" y="297036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116000" y="3063960"/>
            <a:ext cx="108000" cy="1290600"/>
            <a:chOff x="1116000" y="3063960"/>
            <a:chExt cx="108000" cy="1290600"/>
          </a:xfrm>
        </p:grpSpPr>
        <p:sp>
          <p:nvSpPr>
            <p:cNvPr id="361" name=""/>
            <p:cNvSpPr/>
            <p:nvPr/>
          </p:nvSpPr>
          <p:spPr>
            <a:xfrm>
              <a:off x="1116000" y="3063960"/>
              <a:ext cx="0" cy="12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16000" y="435456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3" name=""/>
          <p:cNvCxnSpPr/>
          <p:nvPr/>
        </p:nvCxnSpPr>
        <p:spPr>
          <a:xfrm flipV="1">
            <a:off x="3384720" y="2133000"/>
            <a:ext cx="73440" cy="1259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4" name=""/>
          <p:cNvCxnSpPr>
            <a:stCxn id="311" idx="0"/>
          </p:cNvCxnSpPr>
          <p:nvPr/>
        </p:nvCxnSpPr>
        <p:spPr>
          <a:xfrm flipV="1">
            <a:off x="5290920" y="1644480"/>
            <a:ext cx="1080" cy="340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5" name=""/>
          <p:cNvCxnSpPr/>
          <p:nvPr/>
        </p:nvCxnSpPr>
        <p:spPr>
          <a:xfrm flipV="1">
            <a:off x="8892720" y="1647720"/>
            <a:ext cx="1080" cy="340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6" name=""/>
          <p:cNvCxnSpPr/>
          <p:nvPr/>
        </p:nvCxnSpPr>
        <p:spPr>
          <a:xfrm flipV="1">
            <a:off x="3419280" y="1647720"/>
            <a:ext cx="1080" cy="340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7" name=""/>
          <p:cNvSpPr/>
          <p:nvPr/>
        </p:nvSpPr>
        <p:spPr>
          <a:xfrm flipV="1">
            <a:off x="5184720" y="1431360"/>
            <a:ext cx="2174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8783640" y="1432800"/>
            <a:ext cx="2174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3311640" y="1463040"/>
            <a:ext cx="2174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1401840" y="1463040"/>
            <a:ext cx="2174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H="1" flipV="1">
            <a:off x="1509480" y="1615680"/>
            <a:ext cx="216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3132000" y="4962600"/>
            <a:ext cx="21600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" name=""/>
          <p:cNvCxnSpPr>
            <a:stCxn id="274" idx="3"/>
            <a:endCxn id="241" idx="1"/>
          </p:cNvCxnSpPr>
          <p:nvPr/>
        </p:nvCxnSpPr>
        <p:spPr>
          <a:xfrm>
            <a:off x="2916000" y="4879800"/>
            <a:ext cx="216360" cy="145440"/>
          </a:xfrm>
          <a:prstGeom prst="bentConnector3">
            <a:avLst>
              <a:gd name="adj1" fmla="val 491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"/>
          <p:cNvCxnSpPr>
            <a:stCxn id="241" idx="3"/>
          </p:cNvCxnSpPr>
          <p:nvPr/>
        </p:nvCxnSpPr>
        <p:spPr>
          <a:xfrm flipV="1">
            <a:off x="3347640" y="4663440"/>
            <a:ext cx="73800" cy="36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4" name=""/>
          <p:cNvSpPr/>
          <p:nvPr/>
        </p:nvSpPr>
        <p:spPr>
          <a:xfrm>
            <a:off x="2124000" y="4818240"/>
            <a:ext cx="144360" cy="123480"/>
          </a:xfrm>
          <a:prstGeom prst="flowChartProcess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272" idx="3"/>
            <a:endCxn id="374" idx="1"/>
          </p:cNvCxnSpPr>
          <p:nvPr/>
        </p:nvCxnSpPr>
        <p:spPr>
          <a:xfrm>
            <a:off x="1908000" y="4722840"/>
            <a:ext cx="216720" cy="157680"/>
          </a:xfrm>
          <a:prstGeom prst="bentConnector3">
            <a:avLst>
              <a:gd name="adj1" fmla="val 492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6" name=""/>
          <p:cNvCxnSpPr>
            <a:stCxn id="374" idx="3"/>
            <a:endCxn id="274" idx="1"/>
          </p:cNvCxnSpPr>
          <p:nvPr/>
        </p:nvCxnSpPr>
        <p:spPr>
          <a:xfrm>
            <a:off x="2268360" y="4879440"/>
            <a:ext cx="3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7" name=""/>
          <p:cNvSpPr/>
          <p:nvPr/>
        </p:nvSpPr>
        <p:spPr>
          <a:xfrm>
            <a:off x="2590920" y="5897520"/>
            <a:ext cx="18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87640" y="6041880"/>
            <a:ext cx="36036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77" idx="3"/>
            <a:endCxn id="289" idx="1"/>
          </p:cNvCxnSpPr>
          <p:nvPr/>
        </p:nvCxnSpPr>
        <p:spPr>
          <a:xfrm>
            <a:off x="2771640" y="5959080"/>
            <a:ext cx="216720" cy="14472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9" name=""/>
          <p:cNvSpPr/>
          <p:nvPr/>
        </p:nvSpPr>
        <p:spPr>
          <a:xfrm>
            <a:off x="2058840" y="5897520"/>
            <a:ext cx="317520" cy="123840"/>
          </a:xfrm>
          <a:prstGeom prst="flowChartProcess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79" idx="3"/>
            <a:endCxn id="377" idx="1"/>
          </p:cNvCxnSpPr>
          <p:nvPr/>
        </p:nvCxnSpPr>
        <p:spPr>
          <a:xfrm>
            <a:off x="2376360" y="5959080"/>
            <a:ext cx="21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1" name=""/>
          <p:cNvSpPr/>
          <p:nvPr/>
        </p:nvSpPr>
        <p:spPr>
          <a:xfrm>
            <a:off x="3240000" y="321480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840360" y="6114960"/>
            <a:ext cx="72108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840360" y="5962680"/>
            <a:ext cx="72108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84720" y="6124680"/>
            <a:ext cx="104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651640" y="5997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evel of eff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51640" y="59022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maining 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40360" y="6321600"/>
            <a:ext cx="721080" cy="123480"/>
          </a:xfrm>
          <a:prstGeom prst="flowChartProcess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651640" y="6261120"/>
            <a:ext cx="133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mple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904000" y="5505480"/>
            <a:ext cx="16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651640" y="6105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40360" y="6243480"/>
            <a:ext cx="72108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7093080" y="5684760"/>
            <a:ext cx="108000" cy="108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93080" y="5829480"/>
            <a:ext cx="108000" cy="1076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51640" y="5781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651640" y="564984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rol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03640" y="1521000"/>
            <a:ext cx="108000" cy="1076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48360" y="1557360"/>
            <a:ext cx="10800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712360" y="1557360"/>
            <a:ext cx="10764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48000" y="3824280"/>
            <a:ext cx="79200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655640" y="3681360"/>
            <a:ext cx="72072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440000" y="1557360"/>
            <a:ext cx="10764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348000" y="2637000"/>
            <a:ext cx="792360" cy="172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284720" y="2798640"/>
            <a:ext cx="79200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184720" y="2960640"/>
            <a:ext cx="79236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956720" y="3141720"/>
            <a:ext cx="792000" cy="172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a0e66"/>
                </a:solidFill>
                <a:latin typeface="Minion"/>
              </a:rPr>
              <a:t>“</a:t>
            </a:r>
            <a:r>
              <a:rPr b="1" lang="en-GB" sz="3600" spc="-1" strike="noStrike">
                <a:solidFill>
                  <a:srgbClr val="3a0e66"/>
                </a:solidFill>
                <a:latin typeface="Minion"/>
              </a:rPr>
              <a:t>From M0 to M1” description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4391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Deviations in the detailed plan of the part projects milestones M0 – M1 will be reflected in the “Bottom-up plan” with the baseline as reference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Deviations of the M1 date will also be seen in the Control Milestone section. The milestones in the period M1 – M3/S4 will be moved proportionally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248000" y="4025880"/>
            <a:ext cx="71928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75280" y="4118040"/>
            <a:ext cx="720720" cy="172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a0e66"/>
                </a:solidFill>
                <a:latin typeface="Minion"/>
              </a:rPr>
              <a:t>After M1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1" name=""/>
          <p:cNvSpPr/>
          <p:nvPr/>
        </p:nvSpPr>
        <p:spPr>
          <a:xfrm>
            <a:off x="142920" y="4400640"/>
            <a:ext cx="885816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42920" y="5516640"/>
            <a:ext cx="88581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604360" y="321480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604360" y="127008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rot="16200000">
            <a:off x="-527400" y="5283720"/>
            <a:ext cx="20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art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462560" y="2627280"/>
            <a:ext cx="720720" cy="12240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527280" y="247320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398920" y="2781360"/>
            <a:ext cx="720720" cy="1220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endCxn id="417" idx="1"/>
          </p:cNvCxnSpPr>
          <p:nvPr/>
        </p:nvCxnSpPr>
        <p:spPr>
          <a:xfrm>
            <a:off x="3311280" y="2381040"/>
            <a:ext cx="216360" cy="154440"/>
          </a:xfrm>
          <a:prstGeom prst="bentConnector3">
            <a:avLst>
              <a:gd name="adj1" fmla="val 5000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420" name=""/>
          <p:cNvCxnSpPr>
            <a:stCxn id="417" idx="3"/>
            <a:endCxn id="416" idx="1"/>
          </p:cNvCxnSpPr>
          <p:nvPr/>
        </p:nvCxnSpPr>
        <p:spPr>
          <a:xfrm>
            <a:off x="4248000" y="2535120"/>
            <a:ext cx="215280" cy="154800"/>
          </a:xfrm>
          <a:prstGeom prst="bentConnector3">
            <a:avLst>
              <a:gd name="adj1" fmla="val 49581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421" name=""/>
          <p:cNvCxnSpPr>
            <a:stCxn id="416" idx="3"/>
            <a:endCxn id="418" idx="1"/>
          </p:cNvCxnSpPr>
          <p:nvPr/>
        </p:nvCxnSpPr>
        <p:spPr>
          <a:xfrm>
            <a:off x="5182920" y="2689200"/>
            <a:ext cx="216360" cy="154800"/>
          </a:xfrm>
          <a:prstGeom prst="bentConnector3">
            <a:avLst>
              <a:gd name="adj1" fmla="val 5000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422" name=""/>
          <p:cNvSpPr/>
          <p:nvPr/>
        </p:nvSpPr>
        <p:spPr>
          <a:xfrm>
            <a:off x="3311640" y="1982880"/>
            <a:ext cx="21564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183280" y="1982880"/>
            <a:ext cx="21564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16" idx="3"/>
            <a:endCxn id="423" idx="2"/>
          </p:cNvCxnSpPr>
          <p:nvPr/>
        </p:nvCxnSpPr>
        <p:spPr>
          <a:xfrm flipV="1">
            <a:off x="5183280" y="2166120"/>
            <a:ext cx="108720" cy="52308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8064360" y="2933640"/>
            <a:ext cx="720720" cy="12240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7850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5" idx="3"/>
            <a:endCxn id="426" idx="2"/>
          </p:cNvCxnSpPr>
          <p:nvPr/>
        </p:nvCxnSpPr>
        <p:spPr>
          <a:xfrm flipV="1">
            <a:off x="8785080" y="2166480"/>
            <a:ext cx="108720" cy="82944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428" name=""/>
          <p:cNvSpPr/>
          <p:nvPr/>
        </p:nvSpPr>
        <p:spPr>
          <a:xfrm>
            <a:off x="3240000" y="1830240"/>
            <a:ext cx="395280" cy="215640"/>
          </a:xfrm>
          <a:prstGeom prst="rect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eaeaea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62560" y="3946680"/>
            <a:ext cx="720720" cy="6012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27280" y="3854520"/>
            <a:ext cx="720720" cy="6012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98920" y="4038480"/>
            <a:ext cx="72072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2" name=""/>
          <p:cNvCxnSpPr>
            <a:stCxn id="430" idx="3"/>
            <a:endCxn id="429" idx="1"/>
          </p:cNvCxnSpPr>
          <p:nvPr/>
        </p:nvCxnSpPr>
        <p:spPr>
          <a:xfrm>
            <a:off x="4248000" y="3884400"/>
            <a:ext cx="215280" cy="9252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9" idx="3"/>
            <a:endCxn id="431" idx="1"/>
          </p:cNvCxnSpPr>
          <p:nvPr/>
        </p:nvCxnSpPr>
        <p:spPr>
          <a:xfrm>
            <a:off x="5182920" y="3976560"/>
            <a:ext cx="216360" cy="92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311640" y="3363840"/>
            <a:ext cx="215640" cy="184320"/>
          </a:xfrm>
          <a:prstGeom prst="diamond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183280" y="336384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6" name=""/>
          <p:cNvCxnSpPr>
            <a:stCxn id="429" idx="3"/>
            <a:endCxn id="435" idx="2"/>
          </p:cNvCxnSpPr>
          <p:nvPr/>
        </p:nvCxnSpPr>
        <p:spPr>
          <a:xfrm flipV="1">
            <a:off x="5183280" y="3547800"/>
            <a:ext cx="108720" cy="429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8064360" y="4221000"/>
            <a:ext cx="72072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785080" y="336384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7" idx="3"/>
            <a:endCxn id="438" idx="2"/>
          </p:cNvCxnSpPr>
          <p:nvPr/>
        </p:nvCxnSpPr>
        <p:spPr>
          <a:xfrm flipV="1">
            <a:off x="8785080" y="3547440"/>
            <a:ext cx="108720" cy="703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4462560" y="511488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27280" y="4956120"/>
            <a:ext cx="287640" cy="1224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398920" y="520380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40" idx="3"/>
            <a:endCxn id="442" idx="1"/>
          </p:cNvCxnSpPr>
          <p:nvPr/>
        </p:nvCxnSpPr>
        <p:spPr>
          <a:xfrm>
            <a:off x="5182920" y="5176440"/>
            <a:ext cx="216360" cy="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4" name=""/>
          <p:cNvSpPr/>
          <p:nvPr/>
        </p:nvSpPr>
        <p:spPr>
          <a:xfrm>
            <a:off x="3311640" y="4467240"/>
            <a:ext cx="215640" cy="183960"/>
          </a:xfrm>
          <a:prstGeom prst="diamond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3280" y="4467240"/>
            <a:ext cx="21564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"/>
          <p:cNvCxnSpPr>
            <a:stCxn id="440" idx="3"/>
            <a:endCxn id="445" idx="2"/>
          </p:cNvCxnSpPr>
          <p:nvPr/>
        </p:nvCxnSpPr>
        <p:spPr>
          <a:xfrm flipV="1">
            <a:off x="5183280" y="4650840"/>
            <a:ext cx="108720" cy="526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7" name=""/>
          <p:cNvSpPr/>
          <p:nvPr/>
        </p:nvSpPr>
        <p:spPr>
          <a:xfrm>
            <a:off x="8064360" y="532296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785080" y="4467240"/>
            <a:ext cx="21600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"/>
          <p:cNvCxnSpPr>
            <a:stCxn id="447" idx="3"/>
            <a:endCxn id="448" idx="2"/>
          </p:cNvCxnSpPr>
          <p:nvPr/>
        </p:nvCxnSpPr>
        <p:spPr>
          <a:xfrm flipV="1">
            <a:off x="8785080" y="4650840"/>
            <a:ext cx="108720" cy="734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527280" y="602928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450" idx="3"/>
          </p:cNvCxnSpPr>
          <p:nvPr/>
        </p:nvCxnSpPr>
        <p:spPr>
          <a:xfrm>
            <a:off x="4248000" y="6090840"/>
            <a:ext cx="215280" cy="9612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3311640" y="5541840"/>
            <a:ext cx="215640" cy="182520"/>
          </a:xfrm>
          <a:prstGeom prst="diamond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95640" y="5051520"/>
            <a:ext cx="28728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441" idx="3"/>
            <a:endCxn id="453" idx="1"/>
          </p:cNvCxnSpPr>
          <p:nvPr/>
        </p:nvCxnSpPr>
        <p:spPr>
          <a:xfrm>
            <a:off x="3814920" y="5017680"/>
            <a:ext cx="181440" cy="96120"/>
          </a:xfrm>
          <a:prstGeom prst="bentConnector3">
            <a:avLst>
              <a:gd name="adj1" fmla="val 491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>
            <a:stCxn id="453" idx="3"/>
            <a:endCxn id="440" idx="1"/>
          </p:cNvCxnSpPr>
          <p:nvPr/>
        </p:nvCxnSpPr>
        <p:spPr>
          <a:xfrm>
            <a:off x="4282560" y="5113440"/>
            <a:ext cx="180360" cy="64080"/>
          </a:xfrm>
          <a:prstGeom prst="bentConnector3">
            <a:avLst>
              <a:gd name="adj1" fmla="val 494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6" name=""/>
          <p:cNvSpPr/>
          <p:nvPr/>
        </p:nvSpPr>
        <p:spPr>
          <a:xfrm rot="16200000">
            <a:off x="-739800" y="2427120"/>
            <a:ext cx="242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LT Master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34" idx="2"/>
            <a:endCxn id="430" idx="1"/>
          </p:cNvCxnSpPr>
          <p:nvPr/>
        </p:nvCxnSpPr>
        <p:spPr>
          <a:xfrm flipH="1" rot="16200000">
            <a:off x="3304080" y="3662280"/>
            <a:ext cx="337320" cy="10836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0" idx="3"/>
          </p:cNvCxnSpPr>
          <p:nvPr/>
        </p:nvCxnSpPr>
        <p:spPr>
          <a:xfrm flipV="1">
            <a:off x="4248000" y="4136760"/>
            <a:ext cx="153360" cy="1954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42" idx="3"/>
          </p:cNvCxnSpPr>
          <p:nvPr/>
        </p:nvCxnSpPr>
        <p:spPr>
          <a:xfrm flipV="1">
            <a:off x="6119280" y="4188960"/>
            <a:ext cx="73800" cy="107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/>
          <p:nvPr/>
        </p:nvCxnSpPr>
        <p:spPr>
          <a:xfrm flipV="1">
            <a:off x="5292360" y="3577680"/>
            <a:ext cx="73800" cy="1076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0" idx="3"/>
          </p:cNvCxnSpPr>
          <p:nvPr/>
        </p:nvCxnSpPr>
        <p:spPr>
          <a:xfrm flipV="1">
            <a:off x="5182920" y="4130280"/>
            <a:ext cx="37080" cy="1046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3" idx="3"/>
          </p:cNvCxnSpPr>
          <p:nvPr/>
        </p:nvCxnSpPr>
        <p:spPr>
          <a:xfrm flipV="1">
            <a:off x="4282920" y="4069800"/>
            <a:ext cx="38880" cy="1043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/>
          <p:nvPr/>
        </p:nvCxnSpPr>
        <p:spPr>
          <a:xfrm flipV="1">
            <a:off x="8891280" y="3577680"/>
            <a:ext cx="73800" cy="1076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4" name=""/>
          <p:cNvSpPr/>
          <p:nvPr/>
        </p:nvSpPr>
        <p:spPr>
          <a:xfrm>
            <a:off x="87850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183280" y="1982880"/>
            <a:ext cx="21564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6432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896000" y="2075040"/>
            <a:ext cx="18072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543640" y="2075040"/>
            <a:ext cx="18072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610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30984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022560" y="207504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670200" y="207504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88764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2072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459640" y="207504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/>
          <p:nvPr/>
        </p:nvCxnSpPr>
        <p:spPr>
          <a:xfrm>
            <a:off x="6119640" y="2842920"/>
            <a:ext cx="1945440" cy="153000"/>
          </a:xfrm>
          <a:prstGeom prst="bentConnector3">
            <a:avLst>
              <a:gd name="adj1" fmla="val 3905"/>
            </a:avLst>
          </a:prstGeom>
          <a:ln w="9360">
            <a:solidFill>
              <a:srgbClr val="f8f8f8"/>
            </a:solidFill>
            <a:prstDash val="dash"/>
            <a:miter/>
            <a:tailEnd len="med" type="triangle" w="med"/>
          </a:ln>
        </p:spPr>
      </p:cxnSp>
      <p:sp>
        <p:nvSpPr>
          <p:cNvPr id="477" name=""/>
          <p:cNvSpPr/>
          <p:nvPr/>
        </p:nvSpPr>
        <p:spPr>
          <a:xfrm>
            <a:off x="1258920" y="1685880"/>
            <a:ext cx="4213080" cy="231120"/>
          </a:xfrm>
          <a:prstGeom prst="rect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eaeaea"/>
                </a:solidFill>
                <a:latin typeface="Arial"/>
              </a:rPr>
              <a:t>WBS: PLT target plan can be found at the Project archiv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262160" y="3056040"/>
            <a:ext cx="36129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Bottom-up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52" idx="2"/>
            <a:endCxn id="450" idx="1"/>
          </p:cNvCxnSpPr>
          <p:nvPr/>
        </p:nvCxnSpPr>
        <p:spPr>
          <a:xfrm flipH="1" rot="16200000">
            <a:off x="3288960" y="5853600"/>
            <a:ext cx="367560" cy="10836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44" idx="2"/>
            <a:endCxn id="441" idx="1"/>
          </p:cNvCxnSpPr>
          <p:nvPr/>
        </p:nvCxnSpPr>
        <p:spPr>
          <a:xfrm flipH="1" rot="16200000">
            <a:off x="3288960" y="4780440"/>
            <a:ext cx="367560" cy="10836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481" name=""/>
          <p:cNvSpPr/>
          <p:nvPr/>
        </p:nvSpPr>
        <p:spPr>
          <a:xfrm>
            <a:off x="3240000" y="324180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eaeaea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646280" y="3578400"/>
            <a:ext cx="720720" cy="61560"/>
          </a:xfrm>
          <a:prstGeom prst="flowChartProcess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590920" y="3732120"/>
            <a:ext cx="720720" cy="60480"/>
          </a:xfrm>
          <a:prstGeom prst="flowChartProcess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82" idx="3"/>
            <a:endCxn id="483" idx="1"/>
          </p:cNvCxnSpPr>
          <p:nvPr/>
        </p:nvCxnSpPr>
        <p:spPr>
          <a:xfrm>
            <a:off x="2367000" y="3609720"/>
            <a:ext cx="224640" cy="153000"/>
          </a:xfrm>
          <a:prstGeom prst="bentConnector3">
            <a:avLst>
              <a:gd name="adj1" fmla="val 49598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1403280" y="3363840"/>
            <a:ext cx="216000" cy="184320"/>
          </a:xfrm>
          <a:prstGeom prst="diamond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3" idx="3"/>
          </p:cNvCxnSpPr>
          <p:nvPr/>
        </p:nvCxnSpPr>
        <p:spPr>
          <a:xfrm flipV="1">
            <a:off x="3311640" y="3547440"/>
            <a:ext cx="108720" cy="21492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487" name=""/>
          <p:cNvSpPr/>
          <p:nvPr/>
        </p:nvSpPr>
        <p:spPr>
          <a:xfrm>
            <a:off x="1332000" y="324000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eaeaea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"/>
          <p:cNvCxnSpPr>
            <a:stCxn id="485" idx="2"/>
            <a:endCxn id="482" idx="1"/>
          </p:cNvCxnSpPr>
          <p:nvPr/>
        </p:nvCxnSpPr>
        <p:spPr>
          <a:xfrm flipH="1" rot="16200000">
            <a:off x="1546920" y="3511440"/>
            <a:ext cx="62640" cy="13572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489" name=""/>
          <p:cNvSpPr/>
          <p:nvPr/>
        </p:nvSpPr>
        <p:spPr>
          <a:xfrm>
            <a:off x="2590920" y="2443320"/>
            <a:ext cx="720720" cy="2988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40360" y="6114960"/>
            <a:ext cx="72108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40360" y="5962680"/>
            <a:ext cx="72108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084720" y="6124680"/>
            <a:ext cx="104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51640" y="5997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evel of eff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51640" y="59022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maining 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840360" y="6321600"/>
            <a:ext cx="721080" cy="123480"/>
          </a:xfrm>
          <a:prstGeom prst="flowChartProcess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651640" y="6261120"/>
            <a:ext cx="133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mple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646280" y="219708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90920" y="2351160"/>
            <a:ext cx="720720" cy="1220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497" idx="3"/>
            <a:endCxn id="498" idx="1"/>
          </p:cNvCxnSpPr>
          <p:nvPr/>
        </p:nvCxnSpPr>
        <p:spPr>
          <a:xfrm>
            <a:off x="2367000" y="2260440"/>
            <a:ext cx="224640" cy="153360"/>
          </a:xfrm>
          <a:prstGeom prst="bentConnector3">
            <a:avLst>
              <a:gd name="adj1" fmla="val 49598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500" name=""/>
          <p:cNvSpPr/>
          <p:nvPr/>
        </p:nvSpPr>
        <p:spPr>
          <a:xfrm>
            <a:off x="14032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332000" y="1830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eaeaea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"/>
          <p:cNvCxnSpPr>
            <a:stCxn id="500" idx="2"/>
            <a:endCxn id="497" idx="1"/>
          </p:cNvCxnSpPr>
          <p:nvPr/>
        </p:nvCxnSpPr>
        <p:spPr>
          <a:xfrm flipH="1" rot="16200000">
            <a:off x="1531080" y="2145960"/>
            <a:ext cx="94320" cy="13572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503" name=""/>
          <p:cNvSpPr/>
          <p:nvPr/>
        </p:nvSpPr>
        <p:spPr>
          <a:xfrm>
            <a:off x="277164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04000" y="5505480"/>
            <a:ext cx="16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635280" y="6261120"/>
            <a:ext cx="23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332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c0c0c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240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224000" y="112392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Control milest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1116000" y="1123920"/>
            <a:ext cx="108000" cy="490680"/>
            <a:chOff x="1116000" y="1123920"/>
            <a:chExt cx="108000" cy="490680"/>
          </a:xfrm>
        </p:grpSpPr>
        <p:sp>
          <p:nvSpPr>
            <p:cNvPr id="510" name=""/>
            <p:cNvSpPr/>
            <p:nvPr/>
          </p:nvSpPr>
          <p:spPr>
            <a:xfrm>
              <a:off x="1116000" y="1123920"/>
              <a:ext cx="0" cy="49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116000" y="161460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1116000" y="1676520"/>
            <a:ext cx="108000" cy="1288800"/>
            <a:chOff x="1116000" y="1676520"/>
            <a:chExt cx="108000" cy="1288800"/>
          </a:xfrm>
        </p:grpSpPr>
        <p:sp>
          <p:nvSpPr>
            <p:cNvPr id="513" name=""/>
            <p:cNvSpPr/>
            <p:nvPr/>
          </p:nvSpPr>
          <p:spPr>
            <a:xfrm>
              <a:off x="1116000" y="1676520"/>
              <a:ext cx="0" cy="12888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116000" y="2965320"/>
              <a:ext cx="1080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1116000" y="3057480"/>
            <a:ext cx="108000" cy="1287360"/>
            <a:chOff x="1116000" y="3057480"/>
            <a:chExt cx="108000" cy="1287360"/>
          </a:xfrm>
        </p:grpSpPr>
        <p:sp>
          <p:nvSpPr>
            <p:cNvPr id="516" name=""/>
            <p:cNvSpPr/>
            <p:nvPr/>
          </p:nvSpPr>
          <p:spPr>
            <a:xfrm>
              <a:off x="1116000" y="3057480"/>
              <a:ext cx="0" cy="12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116000" y="434484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 flipV="1">
            <a:off x="5184720" y="1430280"/>
            <a:ext cx="217440" cy="1540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8783640" y="1431360"/>
            <a:ext cx="217440" cy="15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3311640" y="1461960"/>
            <a:ext cx="217440" cy="152640"/>
          </a:xfrm>
          <a:prstGeom prst="triangle">
            <a:avLst>
              <a:gd name="adj" fmla="val 5000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1401840" y="1461960"/>
            <a:ext cx="217440" cy="152640"/>
          </a:xfrm>
          <a:prstGeom prst="triangle">
            <a:avLst>
              <a:gd name="adj" fmla="val 50000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2" name=""/>
          <p:cNvCxnSpPr>
            <a:stCxn id="485" idx="0"/>
            <a:endCxn id="521" idx="0"/>
          </p:cNvCxnSpPr>
          <p:nvPr/>
        </p:nvCxnSpPr>
        <p:spPr>
          <a:xfrm flipH="1" flipV="1">
            <a:off x="1509480" y="1613880"/>
            <a:ext cx="2160" cy="1749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23" name=""/>
          <p:cNvCxnSpPr/>
          <p:nvPr/>
        </p:nvCxnSpPr>
        <p:spPr>
          <a:xfrm flipH="1" flipV="1">
            <a:off x="3417120" y="1613880"/>
            <a:ext cx="2520" cy="174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/>
          <p:nvPr/>
        </p:nvCxnSpPr>
        <p:spPr>
          <a:xfrm flipH="1" flipV="1">
            <a:off x="5290920" y="1613880"/>
            <a:ext cx="2160" cy="174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/>
          <p:nvPr/>
        </p:nvCxnSpPr>
        <p:spPr>
          <a:xfrm flipH="1" flipV="1">
            <a:off x="8891280" y="1613880"/>
            <a:ext cx="2160" cy="174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6" name=""/>
          <p:cNvSpPr/>
          <p:nvPr/>
        </p:nvSpPr>
        <p:spPr>
          <a:xfrm>
            <a:off x="1646280" y="4660920"/>
            <a:ext cx="261720" cy="123840"/>
          </a:xfrm>
          <a:prstGeom prst="flowChartProcess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90920" y="4818240"/>
            <a:ext cx="325440" cy="123480"/>
          </a:xfrm>
          <a:prstGeom prst="flowChartProcess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403280" y="4476600"/>
            <a:ext cx="216000" cy="184320"/>
          </a:xfrm>
          <a:prstGeom prst="diamond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9" name=""/>
          <p:cNvCxnSpPr>
            <a:stCxn id="528" idx="2"/>
            <a:endCxn id="526" idx="1"/>
          </p:cNvCxnSpPr>
          <p:nvPr/>
        </p:nvCxnSpPr>
        <p:spPr>
          <a:xfrm flipH="1" rot="16200000">
            <a:off x="1546920" y="4624200"/>
            <a:ext cx="62640" cy="13572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30" name=""/>
          <p:cNvSpPr/>
          <p:nvPr/>
        </p:nvSpPr>
        <p:spPr>
          <a:xfrm>
            <a:off x="1646280" y="5737320"/>
            <a:ext cx="189000" cy="123840"/>
          </a:xfrm>
          <a:prstGeom prst="flowChartProcess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>
            <a:stCxn id="530" idx="3"/>
          </p:cNvCxnSpPr>
          <p:nvPr/>
        </p:nvCxnSpPr>
        <p:spPr>
          <a:xfrm>
            <a:off x="1834920" y="5798880"/>
            <a:ext cx="224280" cy="154440"/>
          </a:xfrm>
          <a:prstGeom prst="bentConnector3">
            <a:avLst>
              <a:gd name="adj1" fmla="val 49517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32" name=""/>
          <p:cNvSpPr/>
          <p:nvPr/>
        </p:nvSpPr>
        <p:spPr>
          <a:xfrm>
            <a:off x="1403280" y="5553000"/>
            <a:ext cx="216000" cy="184320"/>
          </a:xfrm>
          <a:prstGeom prst="diamond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3" name=""/>
          <p:cNvCxnSpPr>
            <a:stCxn id="534" idx="3"/>
          </p:cNvCxnSpPr>
          <p:nvPr/>
        </p:nvCxnSpPr>
        <p:spPr>
          <a:xfrm flipV="1">
            <a:off x="3347640" y="5708160"/>
            <a:ext cx="72360" cy="39600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5" name=""/>
          <p:cNvCxnSpPr>
            <a:stCxn id="532" idx="2"/>
            <a:endCxn id="530" idx="1"/>
          </p:cNvCxnSpPr>
          <p:nvPr/>
        </p:nvCxnSpPr>
        <p:spPr>
          <a:xfrm flipH="1" rot="16200000">
            <a:off x="1546920" y="5700600"/>
            <a:ext cx="62640" cy="13572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6" name=""/>
          <p:cNvCxnSpPr/>
          <p:nvPr/>
        </p:nvCxnSpPr>
        <p:spPr>
          <a:xfrm flipV="1">
            <a:off x="3419640" y="3499920"/>
            <a:ext cx="73440" cy="1078560"/>
          </a:xfrm>
          <a:prstGeom prst="curved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7" name=""/>
          <p:cNvCxnSpPr/>
          <p:nvPr/>
        </p:nvCxnSpPr>
        <p:spPr>
          <a:xfrm flipV="1">
            <a:off x="2268360" y="3789360"/>
            <a:ext cx="253440" cy="1078200"/>
          </a:xfrm>
          <a:prstGeom prst="curved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8" name=""/>
          <p:cNvCxnSpPr/>
          <p:nvPr/>
        </p:nvCxnSpPr>
        <p:spPr>
          <a:xfrm flipV="1">
            <a:off x="2376360" y="3788640"/>
            <a:ext cx="153360" cy="2159640"/>
          </a:xfrm>
          <a:prstGeom prst="curved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9" name=""/>
          <p:cNvCxnSpPr/>
          <p:nvPr/>
        </p:nvCxnSpPr>
        <p:spPr>
          <a:xfrm flipV="1">
            <a:off x="3384360" y="3499920"/>
            <a:ext cx="116280" cy="2052000"/>
          </a:xfrm>
          <a:prstGeom prst="curved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40" name=""/>
          <p:cNvSpPr/>
          <p:nvPr/>
        </p:nvSpPr>
        <p:spPr>
          <a:xfrm>
            <a:off x="3132000" y="4962600"/>
            <a:ext cx="216000" cy="123840"/>
          </a:xfrm>
          <a:prstGeom prst="flowChartProcess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27" idx="3"/>
            <a:endCxn id="540" idx="1"/>
          </p:cNvCxnSpPr>
          <p:nvPr/>
        </p:nvCxnSpPr>
        <p:spPr>
          <a:xfrm>
            <a:off x="2916000" y="4879800"/>
            <a:ext cx="216360" cy="145440"/>
          </a:xfrm>
          <a:prstGeom prst="bentConnector3">
            <a:avLst>
              <a:gd name="adj1" fmla="val 49166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42" name=""/>
          <p:cNvCxnSpPr/>
          <p:nvPr/>
        </p:nvCxnSpPr>
        <p:spPr>
          <a:xfrm flipV="1">
            <a:off x="3347640" y="4652280"/>
            <a:ext cx="73800" cy="36108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43" name=""/>
          <p:cNvSpPr/>
          <p:nvPr/>
        </p:nvSpPr>
        <p:spPr>
          <a:xfrm>
            <a:off x="2124000" y="4818240"/>
            <a:ext cx="144360" cy="123480"/>
          </a:xfrm>
          <a:prstGeom prst="flowChartProcess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4" name=""/>
          <p:cNvCxnSpPr>
            <a:stCxn id="526" idx="3"/>
            <a:endCxn id="543" idx="1"/>
          </p:cNvCxnSpPr>
          <p:nvPr/>
        </p:nvCxnSpPr>
        <p:spPr>
          <a:xfrm>
            <a:off x="1908000" y="4722840"/>
            <a:ext cx="216720" cy="157680"/>
          </a:xfrm>
          <a:prstGeom prst="bentConnector3">
            <a:avLst>
              <a:gd name="adj1" fmla="val 49251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43" idx="3"/>
            <a:endCxn id="527" idx="1"/>
          </p:cNvCxnSpPr>
          <p:nvPr/>
        </p:nvCxnSpPr>
        <p:spPr>
          <a:xfrm>
            <a:off x="2268360" y="4879440"/>
            <a:ext cx="322920" cy="108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46" name=""/>
          <p:cNvSpPr/>
          <p:nvPr/>
        </p:nvSpPr>
        <p:spPr>
          <a:xfrm>
            <a:off x="2590920" y="5897520"/>
            <a:ext cx="180720" cy="123840"/>
          </a:xfrm>
          <a:prstGeom prst="flowChartProcess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987640" y="6041880"/>
            <a:ext cx="360360" cy="123840"/>
          </a:xfrm>
          <a:prstGeom prst="flowChartProcess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7" name=""/>
          <p:cNvCxnSpPr>
            <a:stCxn id="546" idx="3"/>
            <a:endCxn id="534" idx="1"/>
          </p:cNvCxnSpPr>
          <p:nvPr/>
        </p:nvCxnSpPr>
        <p:spPr>
          <a:xfrm>
            <a:off x="2771640" y="5959080"/>
            <a:ext cx="216720" cy="144720"/>
          </a:xfrm>
          <a:prstGeom prst="bentConnector3">
            <a:avLst>
              <a:gd name="adj1" fmla="val 49916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2058840" y="5897520"/>
            <a:ext cx="317520" cy="123840"/>
          </a:xfrm>
          <a:prstGeom prst="flowChartProcess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548" idx="3"/>
            <a:endCxn id="546" idx="1"/>
          </p:cNvCxnSpPr>
          <p:nvPr/>
        </p:nvCxnSpPr>
        <p:spPr>
          <a:xfrm>
            <a:off x="2376360" y="5959080"/>
            <a:ext cx="215280" cy="108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50" name=""/>
          <p:cNvCxnSpPr/>
          <p:nvPr/>
        </p:nvCxnSpPr>
        <p:spPr>
          <a:xfrm>
            <a:off x="6119640" y="5266800"/>
            <a:ext cx="215280" cy="9612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1" name=""/>
          <p:cNvSpPr/>
          <p:nvPr/>
        </p:nvSpPr>
        <p:spPr>
          <a:xfrm>
            <a:off x="3527280" y="3929040"/>
            <a:ext cx="64800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885080" y="4300560"/>
            <a:ext cx="720720" cy="172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655640" y="3681360"/>
            <a:ext cx="720720" cy="1764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519280" y="3807000"/>
            <a:ext cx="720720" cy="1728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651640" y="6105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840360" y="6243480"/>
            <a:ext cx="72108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894200" y="3465360"/>
            <a:ext cx="10800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531280" y="3465360"/>
            <a:ext cx="10800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930920" y="1484280"/>
            <a:ext cx="10764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567640" y="1484280"/>
            <a:ext cx="10800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6840360" y="5684760"/>
            <a:ext cx="108000" cy="108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40360" y="5829480"/>
            <a:ext cx="108000" cy="1076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651640" y="5781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651640" y="564984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rol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40000" y="1592280"/>
            <a:ext cx="108000" cy="108000"/>
          </a:xfrm>
          <a:prstGeom prst="diamond">
            <a:avLst/>
          </a:prstGeom>
          <a:solidFill>
            <a:srgbClr val="ffff99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476360" y="1557360"/>
            <a:ext cx="108000" cy="108000"/>
          </a:xfrm>
          <a:prstGeom prst="diamond">
            <a:avLst/>
          </a:prstGeom>
          <a:solidFill>
            <a:srgbClr val="ffff99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09:44:33Z</dcterms:created>
  <dc:creator>Finn Møller Jensen/Bjarne Thomsen</dc:creator>
  <dc:description>Changed to v2.0 07-02-2006 OSM</dc:description>
  <dc:language>en-US</dc:language>
  <cp:lastModifiedBy>Ole Sletting Madsen</cp:lastModifiedBy>
  <dcterms:modified xsi:type="dcterms:W3CDTF">2006-02-07T12:34:29Z</dcterms:modified>
  <cp:revision>28</cp:revision>
  <dc:subject/>
  <dc:title>PLT Masterplan concept</dc:title>
</cp:coreProperties>
</file>